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1059-E094-4AA8-9C15-7E824F056B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4F79-FB6E-4743-AE20-DD2DD66441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D486-8197-4FDE-9315-9D67684EC4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7403-F1AD-4E60-859F-632B0E599B9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F8E5-4272-4E2F-8489-EFBAAF5165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7DB8-7A6E-4C20-814E-7052F06DA0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A54C-BDBF-47E8-A953-CC16A3CD84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4585-5885-4CBB-A35D-B14224D81E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1D45-8648-4921-94C8-283C5A9201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0DBF-4A02-44CD-8923-660ACFBCBE0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CFE0-EC59-4600-9F62-442A1BB1B2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D07F-87BF-49EB-92FC-C7D9EA46C9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38A1-801B-4619-A687-739C4DAF5B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EE2-38D7-4C88-9ED8-3545F2A2CA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54F3-E85F-46DA-80AD-9701F24A70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2B70-EDE5-4329-8097-9AEC9EB297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9480-3D7C-4E8C-A643-9ADB7E06DF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B952-D140-48B0-A497-556B76DE67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329C-3C5A-4768-B845-6E27CC3C04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FD66-92E9-4E84-94D3-582C703D22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2E86-BD19-4565-A922-5D641346C2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4458-63C9-4D13-B11C-0126805C91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719-6303-4AB3-94E0-44B2A80DF7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3B5C-8AF4-4FE4-AE2D-7B22197F2C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03AA-3D9F-40F7-AE9B-4A579BC8D2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A2CE-750F-4B1E-A895-971635B2F9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6A73-FA5C-4654-B0F4-2F2D4EAD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2244-2774-4EAE-94F2-6AAE82A4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475B-C413-4CBA-BBCB-0ED757E3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B47C-ADEF-452C-9B2D-42CB6F4E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D5E6-03E8-4D3A-BBE1-CEDA6620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0882-19A5-43E3-AB7B-2844CD33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9936-D64B-4087-BA99-BA3B968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8CCC-97E5-4EB5-BFC9-9A2FDE40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0273-A548-4CD2-99A5-9E53BD54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47E9-248A-42C6-A248-2670321E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00C4-554B-4671-81C0-9DE8917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9578-50CF-4D62-8DC1-2F3ED688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B8CE-22D5-42AF-A217-CE890BB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DB2B-BFC5-41C2-A94A-FEA32CD0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1D5F-95A4-4375-914A-5D02134B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6418-91B2-4DF5-8A52-4B3F0231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B5B5-0B0B-4DF5-9A98-AF01C9F5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F72C-8696-4D51-BDD7-0ACDCA6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4148-0C17-4CB6-BB5E-DFB4E481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46E1-23B2-45A9-9D79-161598CD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8D4E-99C5-4D26-B2CB-9AE9AF74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3105-9864-48D6-BF65-8BC64D7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B42D-AF71-4E49-B663-A149F329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8C77-F0B1-4BCC-9528-FEA2381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3C8A-4E1D-4243-BEED-3ABF4E74A00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1318-E382-4B03-9943-E1418F80F7A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26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26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6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 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DIB2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6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DIB4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9-04-27T03:42:49Z</dcterms:modified>
  <cp:revision>49</cp:revision>
  <dc:subject/>
  <dc:title>Sin título de diapositiva</dc:title>
</cp:coreProperties>
</file>