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F802-9419-44AB-814E-756C72D3F7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7EFA-407B-4025-9232-D2A48F50E0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CA6-F865-4389-ABF3-84A5E1D71B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D680-8195-4EF9-86C0-6C3B99E2AD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B8F8-6411-412B-8B4C-438D29B96F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83B-7353-445E-B926-F39901C59A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3A5-60D5-415C-8D60-BEF1ED89C8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537-E9EC-4C0A-9DCF-4E8D2F1FDE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DA8-7D7D-42AF-8341-34D701D133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95D-8C34-4495-9665-F2515554FB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1C9-C883-4BFC-8A1F-86D792CD1C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B75-EE28-4337-ADF4-A1DB6DC04B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C60-10CC-42A6-A0D3-04D8487E71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64F-632F-4184-A299-28DA19A4A5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F317-312B-436F-9DB9-0F99BC7A1F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9AAC-7110-4287-BFAA-175ACED10A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5768-ECEB-41EF-AC0D-BD15D77790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8CAD-AC2C-4A74-B8DF-DC845D5FC9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3AA-07C9-400C-AA59-DE018F1E82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4192-0486-4C1C-8ABB-29BE665530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1FF-E331-4436-A360-13E31B1BB0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E32D-A05F-41D0-9B76-786B7AB973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040-3FA7-4844-8540-40D97435FA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CC1C-1F30-4075-8C08-B42E689FAC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71E-79AE-4254-AA56-EA2D821372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CE18-C39C-46D5-89D6-4ED23731FF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E1DD-F6BA-4208-993A-E5E11F29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3B38-C191-450E-9A3A-5F9F54A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27FF-5AAC-4824-9041-AD72C9EB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60E0-DF3A-40EC-A60C-26CE1257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F73-8FB9-4E61-AC02-211586B1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DEB6-2792-426A-93D6-3521E99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1FC5-94F6-4CA4-B242-2A28C998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5F79-B5F4-4F30-A4FF-790F43C7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832-E7C9-40AF-8E1E-45AC49D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659-058A-48D6-A399-270D451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112-BD7C-47FC-833F-95E6518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AC55-4B97-43E9-87C4-479CC8A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8D1-D28F-43D7-AECC-4A6B081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496-911D-4A06-AAF9-152BA53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E570-98D9-4AE0-9DDB-FD3DF5C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67A-168A-491E-B3CD-D4DF7F5E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680-A597-4467-A6DB-EA68C6A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7A52-E7F6-4735-83F7-45B5DDA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9F07-4330-49B6-B376-D36303FE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28A7-A150-47A2-AD5E-6D45F090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83FC-D3D5-443D-87C3-374601A8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FFCA-AE3F-4977-A031-9CC06B1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05AE-79E1-44A4-B2A0-F06B800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3A8A-67EF-45AA-AD0C-F643F38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FAE-7750-4EE5-B499-63B8FD0B5F4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A077-926F-4FA9-8D8A-F98C697AB3B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 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DIB2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6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DIB4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9-04-27T03:42:49Z</dcterms:modified>
  <cp:revision>49</cp:revision>
  <dc:subject/>
  <dc:title>Sin título de diapositiva</dc:title>
</cp:coreProperties>
</file>