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18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8C4B-2688-49B7-BACF-06106C00E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4383-96C2-42DD-93CD-765D77912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9C9E-182F-48F2-A2E9-5905F39F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76EA-A98C-4193-A482-E25AAABDB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1790-8A80-407D-B18F-B077472B0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0C49-2BA5-4C91-9942-96F0BB38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866C-E4A8-4EE3-A92B-3559D32A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9B58-370D-45D9-8270-2437F28A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6EB-B4A6-4DED-BE98-39D4DA29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B297-4F8E-406D-8CA5-40CD5283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10B3-705E-417D-8EA0-EF20C94AD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7FE91-6A60-4BD3-B52E-D5915D7FA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A3015-5239-440A-A953-8B034782B3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3520" y="2286000"/>
            <a:ext cx="8076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472428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y requiere además trabajar efectivamente con su departamento de I&amp;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1143000" y="3390840"/>
            <a:ext cx="2057400" cy="18511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838080" y="2971800"/>
            <a:ext cx="2590920" cy="2362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 flipH="1">
            <a:off x="1981080" y="2666880"/>
            <a:ext cx="349200" cy="6303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362320" y="2971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4382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67652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V="1">
            <a:off x="2286000" y="25142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76520" y="2514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2133720" y="23619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1752480" y="29718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3581280"/>
            <a:ext cx="3581280" cy="838440"/>
          </a:xfrm>
          <a:prstGeom prst="hexagon">
            <a:avLst>
              <a:gd name="adj" fmla="val 33143"/>
              <a:gd name="vf" fmla="val 11547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5880" y="1523880"/>
            <a:ext cx="1981440" cy="1981440"/>
          </a:xfrm>
          <a:prstGeom prst="downArrowCallout">
            <a:avLst>
              <a:gd name="adj1" fmla="val 25002"/>
              <a:gd name="adj2" fmla="val 25000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6095880" y="4571640"/>
            <a:ext cx="1981440" cy="1981080"/>
          </a:xfrm>
          <a:prstGeom prst="downArrowCallout">
            <a:avLst>
              <a:gd name="adj1" fmla="val 25007"/>
              <a:gd name="adj2" fmla="val 25005"/>
              <a:gd name="adj3" fmla="val 16667"/>
              <a:gd name="adj4" fmla="val 6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54280" y="5486400"/>
            <a:ext cx="16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imi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86480" y="1752480"/>
            <a:ext cx="4124880" cy="459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 = Centro de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90720" y="5410080"/>
            <a:ext cx="483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roveer suficientes proye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Fijar costos unitari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029200" y="1676520"/>
            <a:ext cx="0" cy="480060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Al realizar I&amp;D, tenga presente considerar factores de posicionamiento y 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2438280"/>
            <a:ext cx="914400" cy="83844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2438280"/>
            <a:ext cx="914400" cy="838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09680" y="2438280"/>
            <a:ext cx="914400" cy="8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00400" y="2438280"/>
            <a:ext cx="914400" cy="8384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Má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91120" y="2438280"/>
            <a:ext cx="91440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3505320"/>
            <a:ext cx="48769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013480" y="1752480"/>
            <a:ext cx="13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95280" y="3733920"/>
            <a:ext cx="271980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ás impor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38080" y="4572000"/>
            <a:ext cx="3581640" cy="2057400"/>
          </a:xfrm>
          <a:prstGeom prst="upArrowCallout">
            <a:avLst>
              <a:gd name="adj1" fmla="val 43525"/>
              <a:gd name="adj2" fmla="val 43521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ecesidades 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cas compet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ango fact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76920" y="4572000"/>
            <a:ext cx="4038480" cy="2057400"/>
          </a:xfrm>
          <a:prstGeom prst="upArrowCallout">
            <a:avLst>
              <a:gd name="adj1" fmla="val 38735"/>
              <a:gd name="adj2" fmla="val 42202"/>
              <a:gd name="adj3" fmla="val 16667"/>
              <a:gd name="adj4" fmla="val 6666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argen espe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sto de otros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esupuesto de proyec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Impacto de 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59840" y="2895480"/>
            <a:ext cx="274572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(a 100K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 produc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554160" y="1752480"/>
            <a:ext cx="915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mpacto de las características físicas en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80880" y="16002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0880" y="4114800"/>
            <a:ext cx="8305920" cy="2362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600200"/>
            <a:ext cx="274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AY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4114800"/>
            <a:ext cx="2590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ientras MAYOR sea la característica solicitada, MENOR será el 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60958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886200" y="42670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99960" y="41911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867840" y="60958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3581280"/>
            <a:ext cx="2057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886200" y="1752480"/>
            <a:ext cx="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99960" y="1676520"/>
            <a:ext cx="7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67840" y="35812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aracterística requer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4495680"/>
            <a:ext cx="1600200" cy="1371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4038480" y="1828440"/>
            <a:ext cx="1828800" cy="16002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11960" y="1905120"/>
            <a:ext cx="234288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Frecuencia Má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32280" y="4648320"/>
            <a:ext cx="148032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resupuesto requerido para completar un proyecto de I&amp;D es función de diversos fact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04920" y="1371600"/>
            <a:ext cx="80010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7162920" y="609480"/>
            <a:ext cx="175104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2362320" y="1600200"/>
            <a:ext cx="2514600" cy="16002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xperi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en I &amp; 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0800000">
            <a:off x="2361960" y="5105160"/>
            <a:ext cx="2514600" cy="152388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190440" y="3085560"/>
            <a:ext cx="2514600" cy="2286000"/>
          </a:xfrm>
          <a:prstGeom prst="downArrow">
            <a:avLst>
              <a:gd name="adj1" fmla="val 66796"/>
              <a:gd name="adj2" fmla="val 25000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4920" y="38862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racterísticas fís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829600" y="5562720"/>
            <a:ext cx="1550880" cy="703800"/>
          </a:xfrm>
          <a:prstGeom prst="rect">
            <a:avLst/>
          </a:pr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sto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Requer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3505320"/>
            <a:ext cx="245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supuesto de I &amp; D reque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952880" y="2819520"/>
            <a:ext cx="3810240" cy="373356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8760" y="3005280"/>
            <a:ext cx="324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averiguar 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81480" y="36576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xactit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181480" y="5257800"/>
            <a:ext cx="1752840" cy="914400"/>
          </a:xfrm>
          <a:custGeom>
            <a:avLst/>
            <a:gdLst>
              <a:gd name="textAreaLeft" fmla="*/ 0 w 1752840"/>
              <a:gd name="textAreaRight" fmla="*/ 1753200 w 17528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517360" y="4648320"/>
            <a:ext cx="6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/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934320" y="36576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Estudio de factibilida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34320" y="5257800"/>
            <a:ext cx="176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Tahoma"/>
              </a:rPr>
              <a:t>Preguntas en lín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posibles resultados de un proyecto de I &amp; 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728640" cy="76212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50880" y="1371600"/>
            <a:ext cx="31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sometido a I &amp; D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86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90512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43200" y="18288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fre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má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581280" y="18288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1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0512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8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743200" y="2286000"/>
            <a:ext cx="83808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2286000"/>
            <a:ext cx="838440" cy="4572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000440" y="2843280"/>
            <a:ext cx="289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8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55560" y="3397320"/>
            <a:ext cx="3657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ahoma"/>
              </a:rPr>
              <a:t>(el costo base requerido está bajo el mínimo, pero la I &amp; D tratará de desarrollar el proyecto a un mínimo costo bas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0" y="1981080"/>
            <a:ext cx="838080" cy="762120"/>
          </a:xfrm>
          <a:prstGeom prst="rightArrow">
            <a:avLst>
              <a:gd name="adj1" fmla="val 50000"/>
              <a:gd name="adj2" fmla="val 27492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81480" y="1752480"/>
            <a:ext cx="3276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El costo base mínimo es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osto Base mínimo = $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495680" y="2895480"/>
            <a:ext cx="4648320" cy="3962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52400" y="2887560"/>
            <a:ext cx="301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aso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Costo base requerido = $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3886200"/>
            <a:ext cx="815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ahoma"/>
              </a:rPr>
              <a:t>El presupuesto requerido para completarlo es también calculado en una etapa temprana del proye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5720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975960" y="5029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76160" y="5002200"/>
            <a:ext cx="94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-151200" y="5362560"/>
            <a:ext cx="4804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6068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1700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2860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21932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0040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0220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-13140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8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1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099040" y="5289480"/>
            <a:ext cx="3733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927840" y="50292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45440" y="5029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215480" y="5002200"/>
            <a:ext cx="94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Caso 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490640" y="5362560"/>
            <a:ext cx="4804560" cy="337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asignado  por equipo para perío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402520" y="559116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1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458840" y="5591160"/>
            <a:ext cx="69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$ 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870440" y="6276960"/>
            <a:ext cx="199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válido a costo base = 1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861160" y="5896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42240" y="589608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944040" y="6276960"/>
            <a:ext cx="201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oyecto fracas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510440" y="4495680"/>
            <a:ext cx="475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Presupuesto requerido para completarlo = $5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ahoma"/>
              </a:rPr>
              <a:t>(a costo base = $13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proyecto de I &amp; D completo puede ser usado para modificar marcas existentes y/o introducir nuev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3429000" y="2057400"/>
            <a:ext cx="0" cy="4572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80880" y="4267080"/>
            <a:ext cx="59436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591640" y="1574640"/>
            <a:ext cx="181908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330600" y="4089240"/>
            <a:ext cx="141804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105520" y="26668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962520" y="5029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286000" y="34290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33520" y="33526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5105520" y="4572000"/>
            <a:ext cx="304560" cy="3049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43600" y="4952880"/>
            <a:ext cx="2133720" cy="762120"/>
          </a:xfrm>
          <a:prstGeom prst="wedgeRoundRectCallout">
            <a:avLst>
              <a:gd name="adj1" fmla="val -68972"/>
              <a:gd name="adj2" fmla="val -7791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Nuev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yor 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105520" y="5943600"/>
            <a:ext cx="304560" cy="30492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248520" y="6248520"/>
            <a:ext cx="1676160" cy="380880"/>
          </a:xfrm>
          <a:prstGeom prst="wedgeRoundRectCallout">
            <a:avLst>
              <a:gd name="adj1" fmla="val -90814"/>
              <a:gd name="adj2" fmla="val -103333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Vieja 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257800" y="4952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905120" y="3886200"/>
            <a:ext cx="304560" cy="30492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28600" y="4495680"/>
            <a:ext cx="1752480" cy="762120"/>
          </a:xfrm>
          <a:prstGeom prst="wedgeRoundRectCallout">
            <a:avLst>
              <a:gd name="adj1" fmla="val 42574"/>
              <a:gd name="adj2" fmla="val -101875"/>
              <a:gd name="adj3" fmla="val 16667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Nueva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SAM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Traer proyectos exitosos de I &amp; D al mercado genera  inventario obsol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3962520" y="2895480"/>
            <a:ext cx="1110960" cy="478080"/>
          </a:xfrm>
          <a:prstGeom prst="rect">
            <a:avLst/>
          </a:prstGeom>
          <a:ln w="0">
            <a:noFill/>
          </a:ln>
        </p:spPr>
      </p:pic>
      <p:grpSp>
        <p:nvGrpSpPr>
          <p:cNvPr id="365" name=""/>
          <p:cNvGrpSpPr/>
          <p:nvPr/>
        </p:nvGrpSpPr>
        <p:grpSpPr>
          <a:xfrm>
            <a:off x="228600" y="3962520"/>
            <a:ext cx="837720" cy="945360"/>
            <a:chOff x="228600" y="3962520"/>
            <a:chExt cx="837720" cy="945360"/>
          </a:xfrm>
        </p:grpSpPr>
        <p:sp>
          <p:nvSpPr>
            <p:cNvPr id="366" name=""/>
            <p:cNvSpPr/>
            <p:nvPr/>
          </p:nvSpPr>
          <p:spPr>
            <a:xfrm>
              <a:off x="228600" y="4090680"/>
              <a:ext cx="651960" cy="817200"/>
            </a:xfrm>
            <a:prstGeom prst="rect">
              <a:avLst/>
            </a:prstGeom>
            <a:solidFill>
              <a:srgbClr val="ffff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805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7" h="1295">
                  <a:moveTo>
                    <a:pt x="0" y="175"/>
                  </a:moveTo>
                  <a:lnTo>
                    <a:pt x="0" y="1295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808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31840" y="3962520"/>
              <a:ext cx="8344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19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ff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914400" y="3962520"/>
            <a:ext cx="837720" cy="945360"/>
            <a:chOff x="914400" y="3962520"/>
            <a:chExt cx="837720" cy="945360"/>
          </a:xfrm>
        </p:grpSpPr>
        <p:sp>
          <p:nvSpPr>
            <p:cNvPr id="370" name=""/>
            <p:cNvSpPr/>
            <p:nvPr/>
          </p:nvSpPr>
          <p:spPr>
            <a:xfrm>
              <a:off x="914400" y="4090680"/>
              <a:ext cx="651960" cy="817200"/>
            </a:xfrm>
            <a:prstGeom prst="rect">
              <a:avLst/>
            </a:prstGeom>
            <a:solidFill>
              <a:srgbClr val="00c0c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566360" y="3964320"/>
              <a:ext cx="182160" cy="941400"/>
            </a:xfrm>
            <a:custGeom>
              <a:avLst/>
              <a:gdLst/>
              <a:ahLst/>
              <a:rect l="l" t="t" r="r" b="b"/>
              <a:pathLst>
                <a:path w="316" h="1295">
                  <a:moveTo>
                    <a:pt x="0" y="175"/>
                  </a:moveTo>
                  <a:lnTo>
                    <a:pt x="0" y="1295"/>
                  </a:lnTo>
                  <a:lnTo>
                    <a:pt x="316" y="1075"/>
                  </a:lnTo>
                  <a:lnTo>
                    <a:pt x="316" y="0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00606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15840" y="3962520"/>
              <a:ext cx="836280" cy="130320"/>
            </a:xfrm>
            <a:custGeom>
              <a:avLst/>
              <a:gdLst/>
              <a:ahLst/>
              <a:rect l="l" t="t" r="r" b="b"/>
              <a:pathLst>
                <a:path w="1441" h="180">
                  <a:moveTo>
                    <a:pt x="0" y="180"/>
                  </a:moveTo>
                  <a:lnTo>
                    <a:pt x="1120" y="180"/>
                  </a:lnTo>
                  <a:lnTo>
                    <a:pt x="1441" y="0"/>
                  </a:lnTo>
                  <a:lnTo>
                    <a:pt x="362" y="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676520" y="3962520"/>
            <a:ext cx="837720" cy="943920"/>
            <a:chOff x="1676520" y="3962520"/>
            <a:chExt cx="837720" cy="943920"/>
          </a:xfrm>
        </p:grpSpPr>
        <p:sp>
          <p:nvSpPr>
            <p:cNvPr id="374" name=""/>
            <p:cNvSpPr/>
            <p:nvPr/>
          </p:nvSpPr>
          <p:spPr>
            <a:xfrm>
              <a:off x="1676520" y="4088880"/>
              <a:ext cx="653760" cy="817560"/>
            </a:xfrm>
            <a:prstGeom prst="rect">
              <a:avLst/>
            </a:prstGeom>
            <a:solidFill>
              <a:srgbClr val="ff00ff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8480" y="3964680"/>
              <a:ext cx="184320" cy="941400"/>
            </a:xfrm>
            <a:custGeom>
              <a:avLst/>
              <a:gdLst/>
              <a:ahLst/>
              <a:rect l="l" t="t" r="r" b="b"/>
              <a:pathLst>
                <a:path w="317" h="1294">
                  <a:moveTo>
                    <a:pt x="0" y="174"/>
                  </a:moveTo>
                  <a:lnTo>
                    <a:pt x="0" y="1294"/>
                  </a:lnTo>
                  <a:lnTo>
                    <a:pt x="317" y="1074"/>
                  </a:lnTo>
                  <a:lnTo>
                    <a:pt x="317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800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679760" y="3962520"/>
              <a:ext cx="834480" cy="128520"/>
            </a:xfrm>
            <a:custGeom>
              <a:avLst/>
              <a:gdLst/>
              <a:ahLst/>
              <a:rect l="l" t="t" r="r" b="b"/>
              <a:pathLst>
                <a:path w="1442" h="179">
                  <a:moveTo>
                    <a:pt x="0" y="179"/>
                  </a:moveTo>
                  <a:lnTo>
                    <a:pt x="1120" y="179"/>
                  </a:lnTo>
                  <a:lnTo>
                    <a:pt x="1442" y="0"/>
                  </a:lnTo>
                  <a:lnTo>
                    <a:pt x="362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ff40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380880" y="3124080"/>
            <a:ext cx="838080" cy="917280"/>
            <a:chOff x="380880" y="3124080"/>
            <a:chExt cx="838080" cy="917280"/>
          </a:xfrm>
        </p:grpSpPr>
        <p:sp>
          <p:nvSpPr>
            <p:cNvPr id="378" name=""/>
            <p:cNvSpPr/>
            <p:nvPr/>
          </p:nvSpPr>
          <p:spPr>
            <a:xfrm>
              <a:off x="380880" y="3224160"/>
              <a:ext cx="651960" cy="817200"/>
            </a:xfrm>
            <a:prstGeom prst="rect">
              <a:avLst/>
            </a:prstGeom>
            <a:solidFill>
              <a:srgbClr val="ff8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32840" y="3124080"/>
              <a:ext cx="183960" cy="9154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3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804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82680" y="3124080"/>
              <a:ext cx="836280" cy="102600"/>
            </a:xfrm>
            <a:custGeom>
              <a:avLst/>
              <a:gdLst/>
              <a:ahLst/>
              <a:rect l="l" t="t" r="r" b="b"/>
              <a:pathLst>
                <a:path w="1443" h="143">
                  <a:moveTo>
                    <a:pt x="0" y="143"/>
                  </a:moveTo>
                  <a:lnTo>
                    <a:pt x="1121" y="143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a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1133640" y="3111480"/>
            <a:ext cx="837720" cy="917280"/>
            <a:chOff x="1133640" y="3111480"/>
            <a:chExt cx="837720" cy="917280"/>
          </a:xfrm>
        </p:grpSpPr>
        <p:sp>
          <p:nvSpPr>
            <p:cNvPr id="382" name=""/>
            <p:cNvSpPr/>
            <p:nvPr/>
          </p:nvSpPr>
          <p:spPr>
            <a:xfrm>
              <a:off x="1133640" y="3211200"/>
              <a:ext cx="651600" cy="817560"/>
            </a:xfrm>
            <a:prstGeom prst="rect">
              <a:avLst/>
            </a:prstGeom>
            <a:solidFill>
              <a:srgbClr val="00e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1785240" y="3111480"/>
              <a:ext cx="184320" cy="917280"/>
            </a:xfrm>
            <a:custGeom>
              <a:avLst/>
              <a:gdLst/>
              <a:ahLst/>
              <a:rect l="l" t="t" r="r" b="b"/>
              <a:pathLst>
                <a:path w="317" h="1262">
                  <a:moveTo>
                    <a:pt x="0" y="141"/>
                  </a:moveTo>
                  <a:lnTo>
                    <a:pt x="0" y="1262"/>
                  </a:lnTo>
                  <a:lnTo>
                    <a:pt x="317" y="1075"/>
                  </a:lnTo>
                  <a:lnTo>
                    <a:pt x="317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6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135080" y="3111480"/>
              <a:ext cx="836280" cy="102240"/>
            </a:xfrm>
            <a:custGeom>
              <a:avLst/>
              <a:gdLst/>
              <a:ahLst/>
              <a:rect l="l" t="t" r="r" b="b"/>
              <a:pathLst>
                <a:path w="1443" h="141">
                  <a:moveTo>
                    <a:pt x="0" y="141"/>
                  </a:moveTo>
                  <a:lnTo>
                    <a:pt x="1121" y="141"/>
                  </a:lnTo>
                  <a:lnTo>
                    <a:pt x="1443" y="0"/>
                  </a:lnTo>
                  <a:lnTo>
                    <a:pt x="362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80ff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685800" y="2362320"/>
            <a:ext cx="836280" cy="879120"/>
            <a:chOff x="685800" y="2362320"/>
            <a:chExt cx="836280" cy="879120"/>
          </a:xfrm>
        </p:grpSpPr>
        <p:sp>
          <p:nvSpPr>
            <p:cNvPr id="386" name=""/>
            <p:cNvSpPr/>
            <p:nvPr/>
          </p:nvSpPr>
          <p:spPr>
            <a:xfrm>
              <a:off x="685800" y="2423160"/>
              <a:ext cx="652320" cy="818280"/>
            </a:xfrm>
            <a:prstGeom prst="rect">
              <a:avLst/>
            </a:prstGeom>
            <a:solidFill>
              <a:srgbClr val="ff0000"/>
            </a:soli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38120" y="2362320"/>
              <a:ext cx="183960" cy="879120"/>
            </a:xfrm>
            <a:custGeom>
              <a:avLst/>
              <a:gdLst/>
              <a:ahLst/>
              <a:rect l="l" t="t" r="r" b="b"/>
              <a:pathLst>
                <a:path w="318" h="1209">
                  <a:moveTo>
                    <a:pt x="0" y="90"/>
                  </a:moveTo>
                  <a:lnTo>
                    <a:pt x="0" y="1209"/>
                  </a:lnTo>
                  <a:lnTo>
                    <a:pt x="318" y="1063"/>
                  </a:lnTo>
                  <a:lnTo>
                    <a:pt x="318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c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7600" y="2362320"/>
              <a:ext cx="834480" cy="65160"/>
            </a:xfrm>
            <a:custGeom>
              <a:avLst/>
              <a:gdLst/>
              <a:ahLst/>
              <a:rect l="l" t="t" r="r" b="b"/>
              <a:pathLst>
                <a:path w="1440" h="90">
                  <a:moveTo>
                    <a:pt x="0" y="90"/>
                  </a:moveTo>
                  <a:lnTo>
                    <a:pt x="1121" y="90"/>
                  </a:lnTo>
                  <a:lnTo>
                    <a:pt x="1440" y="0"/>
                  </a:lnTo>
                  <a:lnTo>
                    <a:pt x="353" y="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ff404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9" name="" descr=""/>
          <p:cNvPicPr/>
          <p:nvPr/>
        </p:nvPicPr>
        <p:blipFill>
          <a:blip r:embed="rId2"/>
          <a:stretch/>
        </p:blipFill>
        <p:spPr>
          <a:xfrm>
            <a:off x="6553080" y="2666880"/>
            <a:ext cx="990720" cy="34920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3"/>
          <a:stretch/>
        </p:blipFill>
        <p:spPr>
          <a:xfrm>
            <a:off x="4343400" y="2666880"/>
            <a:ext cx="2678040" cy="26784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 rot="18900000">
            <a:off x="9075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rot="18900000">
            <a:off x="1821960" y="42757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18900000">
            <a:off x="222120" y="419976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8900000">
            <a:off x="1202760" y="327744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18900000">
            <a:off x="374040" y="344232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18900000">
            <a:off x="755640" y="2534400"/>
            <a:ext cx="6685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S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95480" y="2133720"/>
            <a:ext cx="0" cy="4114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905120" y="1676520"/>
            <a:ext cx="198108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arca Modific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onserva nomb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981080" y="5410080"/>
            <a:ext cx="1981440" cy="9144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tiro de Mar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438280" y="350532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sol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724280" y="5410080"/>
            <a:ext cx="144792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PAÑ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COMER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rot="10800000">
            <a:off x="7391520" y="3504960"/>
            <a:ext cx="1371600" cy="10666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582320" y="3657600"/>
            <a:ext cx="12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enta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1523880"/>
            <a:ext cx="4114800" cy="762120"/>
          </a:xfrm>
          <a:prstGeom prst="wedgeRoundRectCallout">
            <a:avLst>
              <a:gd name="adj1" fmla="val -33796"/>
              <a:gd name="adj2" fmla="val 82291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mpraré productos a un %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dado de su costo de transfer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3124080" y="762120"/>
            <a:ext cx="3810240" cy="48765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800600" y="312408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895480" y="60948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76720" y="0"/>
            <a:ext cx="3809880" cy="48769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876920" y="2514600"/>
            <a:ext cx="266688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895480" y="0"/>
            <a:ext cx="457200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la reducción de costos de proyectos hay que considerar el efecto de la curva de exper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2514600" y="2133720"/>
            <a:ext cx="0" cy="396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51460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76720" y="297180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47242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419720" y="47242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2514240" y="41911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1297080" y="2819520"/>
            <a:ext cx="125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295280" y="3962520"/>
            <a:ext cx="12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base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59200" y="4443480"/>
            <a:ext cx="2264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Actu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</a:rPr>
              <a:t>costo de transferencia 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076760" y="1676520"/>
            <a:ext cx="280368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Costo de Transfer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026680" y="6172200"/>
            <a:ext cx="2795760" cy="368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Tahoma"/>
              </a:rPr>
              <a:t>Producción acumul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94760" y="6019920"/>
            <a:ext cx="210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0 KU        225 K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026880" y="4222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49800" y="266688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413960" y="4343400"/>
            <a:ext cx="4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586680" y="2666880"/>
            <a:ext cx="32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actu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inici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13680" y="4495680"/>
            <a:ext cx="326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oducto con costo reduc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(curva de experiencia nue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4572000" y="4800600"/>
            <a:ext cx="8380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3428640" y="29718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estudio MDS mide la percepción de marca en tres dimen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SON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28600" y="1523880"/>
            <a:ext cx="1066680" cy="99072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nd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nveni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021480" y="579132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548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22188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288560" y="426708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3581280" y="59436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57150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 flipV="1">
            <a:off x="678168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772400" y="4572000"/>
            <a:ext cx="3808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5400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987360" y="571500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612108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877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13372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267080" y="6172200"/>
            <a:ext cx="685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467480" y="53341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6477120" y="4648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17524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638680" y="2590920"/>
            <a:ext cx="320040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conomí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, si el preci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flipH="1">
            <a:off x="8229240" y="3200400"/>
            <a:ext cx="304920" cy="1371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2971800"/>
            <a:ext cx="304920" cy="1600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las que son influenciadas en distinta magnitud por los diversos atributo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600200" y="1447920"/>
            <a:ext cx="7238880" cy="99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ercado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Influencia de la característica de la marca en dimensiones 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DS en P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28600" y="502920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lex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28600" y="4267080"/>
            <a:ext cx="175248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fica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28600" y="5791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c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9810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utonom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0481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1148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ámet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3505320"/>
            <a:ext cx="106704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624852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315200" y="3505320"/>
            <a:ext cx="10666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676520" y="2590920"/>
            <a:ext cx="327636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eficacia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la frec. max. aumen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715000" y="2590920"/>
            <a:ext cx="3124080" cy="609480"/>
          </a:xfrm>
          <a:prstGeom prst="roundRect">
            <a:avLst>
              <a:gd name="adj" fmla="val 4557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La flexibilidad percib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600" spc="-1" strike="noStrike">
                <a:solidFill>
                  <a:srgbClr val="000000"/>
                </a:solidFill>
                <a:latin typeface="Tahoma"/>
              </a:rPr>
              <a:t>aumenta si, el peso decre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7238880" y="3200400"/>
            <a:ext cx="0" cy="19051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flipH="1">
            <a:off x="3809880" y="3200400"/>
            <a:ext cx="45720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0880" y="1600200"/>
            <a:ext cx="914400" cy="137160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9810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0481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9810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0481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148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181480" y="5791320"/>
            <a:ext cx="106704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24852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3152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3152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2485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11480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814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spr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181480" y="426708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054400" y="419112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5410080" y="46483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11480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98736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26708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248520" y="502920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21080" y="4952880"/>
            <a:ext cx="13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od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6400800" y="5334120"/>
            <a:ext cx="7621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981080" y="5029200"/>
            <a:ext cx="10670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954440" y="5029200"/>
            <a:ext cx="83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514600" y="518148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048120" y="4267080"/>
            <a:ext cx="106668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021480" y="426708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733920" y="441936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7315200" y="5791320"/>
            <a:ext cx="106668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7288560" y="5791320"/>
            <a:ext cx="83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u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fuer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8001000" y="59436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28600" y="3505320"/>
            <a:ext cx="175248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 flipV="1">
            <a:off x="228600" y="3505320"/>
            <a:ext cx="175248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718560" y="3429000"/>
            <a:ext cx="140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Característic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el produc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83240" y="3962520"/>
            <a:ext cx="126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ahoma"/>
              </a:rPr>
              <a:t>Dimens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uevas decisiones en el perío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85800" y="1905120"/>
            <a:ext cx="7238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rtafolio de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bjetivos perceptuales (en escalamiento semántico o escalamiento multidimension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2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ahora puede ampliar su portafolio al introducir nuevas marcas.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5952960" cy="32004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5562720" y="3352680"/>
            <a:ext cx="3190680" cy="323856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567" name=""/>
          <p:cNvSpPr/>
          <p:nvPr/>
        </p:nvSpPr>
        <p:spPr>
          <a:xfrm>
            <a:off x="5715000" y="2590920"/>
            <a:ext cx="99072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Usted también puede modificar marcas exist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629400" cy="3564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1" name=""/>
          <p:cNvSpPr/>
          <p:nvPr/>
        </p:nvSpPr>
        <p:spPr>
          <a:xfrm flipH="1">
            <a:off x="6019560" y="3124080"/>
            <a:ext cx="1143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2"/>
          <a:stretch/>
        </p:blipFill>
        <p:spPr>
          <a:xfrm>
            <a:off x="5715000" y="3352680"/>
            <a:ext cx="3191040" cy="32385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73" name=""/>
          <p:cNvSpPr/>
          <p:nvPr/>
        </p:nvSpPr>
        <p:spPr>
          <a:xfrm>
            <a:off x="7162920" y="3124080"/>
            <a:ext cx="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010280" y="1676520"/>
            <a:ext cx="19051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antiene 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mismo nom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>
            <a:off x="8000640" y="2514600"/>
            <a:ext cx="6858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514600" y="5486400"/>
            <a:ext cx="2133720" cy="83808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seleccione 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proyecto de I &amp;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4648320" y="4419360"/>
            <a:ext cx="281916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transmitir el mensaje correcto al mercado, Usted puede fijar objetivos perceptuales para cada una de sus me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6381720" cy="495324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>
            <a:off x="0" y="1676520"/>
            <a:ext cx="236232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Desea comun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n dimensiones 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MDS o escalamien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emántic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0" y="3505320"/>
            <a:ext cx="2362320" cy="1143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¿En cuá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imensiones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munica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0" y="5105520"/>
            <a:ext cx="2438280" cy="13716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Ingrese 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ordenadas del pu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que Usted des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alcanzar en el ma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219320" y="30481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219320" y="464832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5715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iniciar hasta cinco proyectos de I&amp;D por período y por tipo de producto (cinco SONITE y cinco VODI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6076800" cy="455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3581280" y="4038480"/>
            <a:ext cx="5324760" cy="25336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91" name=""/>
          <p:cNvSpPr/>
          <p:nvPr/>
        </p:nvSpPr>
        <p:spPr>
          <a:xfrm>
            <a:off x="6934320" y="38098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943600" y="38098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1600200"/>
            <a:ext cx="2743200" cy="2057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Haga </a:t>
            </a:r>
            <a:r>
              <a:rPr b="0" i="1" lang="es-ES_tradnl" sz="1800" spc="-1" strike="noStrike">
                <a:solidFill>
                  <a:srgbClr val="000000"/>
                </a:solidFill>
                <a:latin typeface="Tahoma"/>
              </a:rPr>
              <a:t>click </a:t>
            </a: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obtener una esti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del costo base míni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y presupues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requerido para complet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el proyec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5943600" y="3429000"/>
            <a:ext cx="53352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Usted ahora lo sabe todo</a:t>
            </a: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De ahora en adelante, depende de su estrategia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1"/>
          <a:stretch/>
        </p:blipFill>
        <p:spPr>
          <a:xfrm>
            <a:off x="2971800" y="3352680"/>
            <a:ext cx="288936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realizan sus decisiones de compra basándose en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us propias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rcepciones de su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2127240" cy="2286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80880" y="3886200"/>
            <a:ext cx="2446560" cy="2666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566160" y="1600200"/>
            <a:ext cx="317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u percepción de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7497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74012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30840" y="217656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21560" y="2176560"/>
            <a:ext cx="99036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49760" y="3166920"/>
            <a:ext cx="4572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571080" y="317340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alidad téc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886200"/>
            <a:ext cx="4740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La percepción de los clientes sobre las mar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81680" y="57913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44197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4876920"/>
            <a:ext cx="990720" cy="76176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86600" y="4800600"/>
            <a:ext cx="990720" cy="762120"/>
          </a:xfrm>
          <a:prstGeom prst="rect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267080" y="5638680"/>
            <a:ext cx="42674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7120" y="4648320"/>
            <a:ext cx="0" cy="19810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535960" y="5486400"/>
            <a:ext cx="40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4000" y="4343400"/>
            <a:ext cx="3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Mapa Perceptual” es una valiosa herramienta para visualizar el posicionammiento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4920" y="1905120"/>
            <a:ext cx="495288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954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4267080"/>
            <a:ext cx="495288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6765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29718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5486400"/>
            <a:ext cx="495288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1240" y="396864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070360" y="1447920"/>
            <a:ext cx="171396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Necesidad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1337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9560" y="213372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B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29000" y="41148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30440" y="41148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76520" y="30481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677240" y="30481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3505320"/>
            <a:ext cx="388800" cy="369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15840" y="35542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5638680"/>
            <a:ext cx="380880" cy="381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6240" y="563868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541800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792760" y="541800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41008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2971800"/>
            <a:ext cx="30456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0292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609588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571500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266688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2057400"/>
            <a:ext cx="304920" cy="304920"/>
          </a:xfrm>
          <a:prstGeom prst="flowChartMerg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05740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3505320"/>
            <a:ext cx="380880" cy="380880"/>
          </a:xfrm>
          <a:prstGeom prst="flowChartDecision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05120" y="198108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6720" y="2286000"/>
            <a:ext cx="65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L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03080" y="2590920"/>
            <a:ext cx="6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EM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9360" y="29718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L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31160" y="5410080"/>
            <a:ext cx="61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US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678680" y="563868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B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753920" y="37339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1640" y="502920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49760" y="601992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I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5880" y="6019920"/>
            <a:ext cx="76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SA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5875200"/>
            <a:ext cx="304920" cy="30492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230880" y="538020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unto ideal del seg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32680" y="5764320"/>
            <a:ext cx="260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osición perceptual de las mar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941160" y="4876920"/>
            <a:ext cx="10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l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486400" y="4884840"/>
            <a:ext cx="3352680" cy="1676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562720" y="1752480"/>
            <a:ext cx="35812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apa Percept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basado en un estudio MDS (</a:t>
            </a:r>
            <a:r>
              <a:rPr b="1" i="1" lang="es-ES_tradnl" sz="2000" spc="-1" strike="noStrike">
                <a:solidFill>
                  <a:srgbClr val="000000"/>
                </a:solidFill>
                <a:latin typeface="Tahoma"/>
              </a:rPr>
              <a:t>Escalamiento Multi-Dimensional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-251640" y="6491160"/>
            <a:ext cx="57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-10                   0                 10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00" y="2743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-90720" y="529596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Hay dos formas para re-posicionar un marca en Markstr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600200" y="1905120"/>
            <a:ext cx="525780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267080" y="1905120"/>
            <a:ext cx="180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267080"/>
            <a:ext cx="525780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718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00200" y="3048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00200" y="5334120"/>
            <a:ext cx="525780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5053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3048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5334120"/>
            <a:ext cx="30456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14600" y="38862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2590920" y="3276720"/>
            <a:ext cx="45720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33520" y="4572000"/>
            <a:ext cx="1904760" cy="685800"/>
          </a:xfrm>
          <a:custGeom>
            <a:avLst/>
            <a:gdLst>
              <a:gd name="textAreaLeft" fmla="*/ 0 w 1904760"/>
              <a:gd name="textAreaRight" fmla="*/ 1905120 w 19047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2971800"/>
            <a:ext cx="2133360" cy="68580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34772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8608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40760" y="6491160"/>
            <a:ext cx="619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708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967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219320" y="62485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posicionamiento físico involucra tratar de  igualar las características de las marcas a las 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2286000"/>
            <a:ext cx="8001000" cy="5335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ecesidades de los Cl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086600" y="1600200"/>
            <a:ext cx="1868400" cy="117324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1868400" cy="117324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858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2971800"/>
            <a:ext cx="259092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72200" y="2971800"/>
            <a:ext cx="25146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Conveni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952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385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3924360" y="4305240"/>
            <a:ext cx="2133360" cy="53352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rec. Má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56768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rot="16200000">
            <a:off x="63626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7048440" y="4305240"/>
            <a:ext cx="2133360" cy="533160"/>
          </a:xfrm>
          <a:custGeom>
            <a:avLst/>
            <a:gdLst>
              <a:gd name="textAreaLeft" fmla="*/ 0 w 2133360"/>
              <a:gd name="textAreaRight" fmla="*/ 2133720 w 213336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91320"/>
            <a:ext cx="8001000" cy="457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aracterísticas de la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4114800"/>
            <a:ext cx="990720" cy="990720"/>
          </a:xfrm>
          <a:prstGeom prst="cube">
            <a:avLst>
              <a:gd name="adj" fmla="val 1971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18900000">
            <a:off x="305280" y="44953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osicionar vía publicidad requiere fijar “Objetivos Perceptual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1905120"/>
            <a:ext cx="5410440" cy="472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4800" y="1905120"/>
            <a:ext cx="1440" cy="472428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4267080"/>
            <a:ext cx="5410440" cy="1800"/>
          </a:xfrm>
          <a:prstGeom prst="line">
            <a:avLst/>
          </a:prstGeom>
          <a:ln w="57240">
            <a:solidFill>
              <a:srgbClr val="000000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10080" y="1905120"/>
            <a:ext cx="180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1440" cy="472428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295280" y="304812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5486400"/>
            <a:ext cx="5410440" cy="1440"/>
          </a:xfrm>
          <a:prstGeom prst="line">
            <a:avLst/>
          </a:prstGeom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5440" y="1523880"/>
            <a:ext cx="20170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Rendi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733440" y="3886200"/>
            <a:ext cx="158904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Ec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00"/>
                </a:solidFill>
                <a:latin typeface="Tahoma"/>
              </a:rPr>
              <a:t>Percib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0" y="35053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30481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114800" y="32004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09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114800" y="36576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3440" y="426708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488200" y="4267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11320" y="30481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811320" y="3505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11800" y="6491160"/>
            <a:ext cx="625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              -10                     0                   10                   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16200" y="1676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916200" y="28195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068120" y="4038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5840" y="52578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880" y="62485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715000" y="28954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716440" y="2895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Su éxito en Markstrat dependerá enormemente en su habilidad para gestionar el desarrollo y posicionamiento de sus mar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62320" y="228600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73720" y="2730600"/>
            <a:ext cx="3993840" cy="6426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Posicion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3962520"/>
            <a:ext cx="6324480" cy="1523880"/>
          </a:xfrm>
          <a:prstGeom prst="rightArrow">
            <a:avLst>
              <a:gd name="adj1" fmla="val 61667"/>
              <a:gd name="adj2" fmla="val 10404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543920" y="4406760"/>
            <a:ext cx="1278000" cy="642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Tahoma"/>
              </a:rPr>
              <a:t>I &amp; 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057400"/>
            <a:ext cx="3276360" cy="342900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strateg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éxito en I&amp;D involucra pensar con un horizonte de lago plazo e identificar la evolución de oportunidad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1371600"/>
            <a:ext cx="86104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19320" y="182880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66688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638680" y="17524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59092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200400" y="4648320"/>
            <a:ext cx="0" cy="167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09680" y="53341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4724280"/>
            <a:ext cx="0" cy="167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867280" y="5562720"/>
            <a:ext cx="17528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24280" y="1752480"/>
            <a:ext cx="38916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25720" y="1752480"/>
            <a:ext cx="39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38916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525320" y="190512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00800" y="5943600"/>
            <a:ext cx="388800" cy="3697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2240" y="5943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5943600"/>
            <a:ext cx="380880" cy="380880"/>
          </a:xfrm>
          <a:prstGeom prst="star5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828800" y="1676520"/>
            <a:ext cx="304920" cy="304560"/>
          </a:xfrm>
          <a:prstGeom prst="flowChartExtra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648320"/>
            <a:ext cx="228600" cy="228600"/>
          </a:xfrm>
          <a:prstGeom prst="flowChartProcess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4724280"/>
            <a:ext cx="388800" cy="370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3240" y="47242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P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5320" y="4800600"/>
            <a:ext cx="30456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514600" y="4800600"/>
            <a:ext cx="304920" cy="3049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895480" y="495288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V="1">
            <a:off x="6858000" y="5790960"/>
            <a:ext cx="609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1219320" y="2209680"/>
            <a:ext cx="3045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53840" y="3048120"/>
            <a:ext cx="234792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uevo seg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Obje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941880" y="4495680"/>
            <a:ext cx="191340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Presión so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márge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3800" y="5943600"/>
            <a:ext cx="28753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ompetidor entr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6920" y="3429000"/>
            <a:ext cx="195912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Cambios 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neces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de segm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8T00:10:55Z</dcterms:created>
  <dc:creator>Marcelo y Tomás Münzenmayer S</dc:creator>
  <dc:description/>
  <dc:language>en-US</dc:language>
  <cp:lastModifiedBy>William Young</cp:lastModifiedBy>
  <cp:lastPrinted>2000-03-10T16:13:12Z</cp:lastPrinted>
  <dcterms:modified xsi:type="dcterms:W3CDTF">2006-10-10T22:42:48Z</dcterms:modified>
  <cp:revision>23</cp:revision>
  <dc:subject/>
  <dc:title>Sin título de diapositiva</dc:title>
</cp:coreProperties>
</file>