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3.wmf" ContentType="image/x-wmf"/>
  <Override PartName="/ppt/media/image30.png" ContentType="image/png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1.png" ContentType="image/png"/>
  <Override PartName="/ppt/media/image14.wmf" ContentType="image/x-wmf"/>
  <Override PartName="/ppt/media/image32.png" ContentType="image/png"/>
  <Override PartName="/ppt/media/image33.png" ContentType="image/png"/>
  <Override PartName="/ppt/media/image34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12.wmf" ContentType="image/x-wmf"/>
  <Override PartName="/ppt/media/image27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9.png" ContentType="image/png"/>
  <Override PartName="/ppt/media/image2.wmf" ContentType="image/x-wmf"/>
  <Override PartName="/ppt/media/image28.png" ContentType="image/png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1517-FF5F-4B8F-9064-E993D291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4482-9C3D-4391-A277-CE9D2653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35B6-CDC7-40DA-8FC1-F34D1660A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A3A8-208F-4B3C-B19B-C87E161F8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4053-5ABC-469F-B393-0FDD954A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D82D-FE86-44B8-A08D-36DA3790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2DD2-DA32-43B3-879D-2AE3B7D5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5685-D7A0-4EF0-B0BB-A9C1699B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541D-553A-4658-898B-7442CF15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DBE4D-851A-46E2-8799-4D3BA008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AA8A-9F9D-4E4C-A181-A6DEC8AF7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E918-09A0-4292-8A35-9B801FCF0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797A0-E541-410C-A13A-B62012422C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4.wmf"/><Relationship Id="rId5" Type="http://schemas.openxmlformats.org/officeDocument/2006/relationships/image" Target="../media/image6.wmf"/><Relationship Id="rId6" Type="http://schemas.openxmlformats.org/officeDocument/2006/relationships/image" Target="../media/image8.wmf"/><Relationship Id="rId7" Type="http://schemas.openxmlformats.org/officeDocument/2006/relationships/image" Target="../media/image7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package" Target="../embeddings/oleObject1.xlsx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8.wmf"/><Relationship Id="rId3" Type="http://schemas.openxmlformats.org/officeDocument/2006/relationships/image" Target="../media/image14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00000"/>
                </a:solidFill>
                <a:latin typeface="Arial"/>
              </a:rPr>
              <a:t>The Markstrat Challenge I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icencia MS350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epartamento de Ingeniería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pública 7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tiago, C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0C05-2ADD-4F7E-A750-4057E5CEC88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lient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han sido clasificados en 5 segment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mujer4" descr=""/>
          <p:cNvPicPr/>
          <p:nvPr/>
        </p:nvPicPr>
        <p:blipFill>
          <a:blip r:embed="rId1"/>
          <a:stretch/>
        </p:blipFill>
        <p:spPr>
          <a:xfrm>
            <a:off x="2819520" y="2286000"/>
            <a:ext cx="541080" cy="2514600"/>
          </a:xfrm>
          <a:prstGeom prst="rect">
            <a:avLst/>
          </a:prstGeom>
          <a:ln w="0">
            <a:noFill/>
          </a:ln>
        </p:spPr>
      </p:pic>
      <p:pic>
        <p:nvPicPr>
          <p:cNvPr id="207" name="dinero" descr=""/>
          <p:cNvPicPr/>
          <p:nvPr/>
        </p:nvPicPr>
        <p:blipFill>
          <a:blip r:embed="rId2"/>
          <a:stretch/>
        </p:blipFill>
        <p:spPr>
          <a:xfrm>
            <a:off x="685800" y="4724280"/>
            <a:ext cx="1706400" cy="1538280"/>
          </a:xfrm>
          <a:prstGeom prst="rect">
            <a:avLst/>
          </a:prstGeom>
          <a:ln w="0">
            <a:noFill/>
          </a:ln>
        </p:spPr>
      </p:pic>
      <p:pic>
        <p:nvPicPr>
          <p:cNvPr id="208" name="GOLF" descr=""/>
          <p:cNvPicPr/>
          <p:nvPr/>
        </p:nvPicPr>
        <p:blipFill>
          <a:blip r:embed="rId3"/>
          <a:stretch/>
        </p:blipFill>
        <p:spPr>
          <a:xfrm>
            <a:off x="3962520" y="3733920"/>
            <a:ext cx="1315800" cy="2133360"/>
          </a:xfrm>
          <a:prstGeom prst="rect">
            <a:avLst/>
          </a:prstGeom>
          <a:ln w="0">
            <a:noFill/>
          </a:ln>
        </p:spPr>
      </p:pic>
      <p:pic>
        <p:nvPicPr>
          <p:cNvPr id="209" name="gente1" descr=""/>
          <p:cNvPicPr/>
          <p:nvPr/>
        </p:nvPicPr>
        <p:blipFill>
          <a:blip r:embed="rId4"/>
          <a:stretch/>
        </p:blipFill>
        <p:spPr>
          <a:xfrm>
            <a:off x="5867280" y="4724280"/>
            <a:ext cx="2438640" cy="1528920"/>
          </a:xfrm>
          <a:prstGeom prst="rect">
            <a:avLst/>
          </a:prstGeom>
          <a:ln w="0">
            <a:noFill/>
          </a:ln>
        </p:spPr>
      </p:pic>
      <p:pic>
        <p:nvPicPr>
          <p:cNvPr id="210" name="gente2" descr=""/>
          <p:cNvPicPr/>
          <p:nvPr/>
        </p:nvPicPr>
        <p:blipFill>
          <a:blip r:embed="rId5"/>
          <a:stretch/>
        </p:blipFill>
        <p:spPr>
          <a:xfrm>
            <a:off x="6705720" y="2514600"/>
            <a:ext cx="1406520" cy="16002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5181480" y="3657600"/>
            <a:ext cx="60984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05920" y="563868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001000" y="21337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057400" y="236232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0" y="5486400"/>
            <a:ext cx="609480" cy="6858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364120" y="55627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H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4360" y="3733920"/>
            <a:ext cx="6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307720" y="5715000"/>
            <a:ext cx="5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02440" y="2209680"/>
            <a:ext cx="55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P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135160" y="2438280"/>
            <a:ext cx="51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15680" y="182880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n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869440" y="205740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fess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2920" y="32767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u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11640" y="4267080"/>
            <a:ext cx="20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igh Earn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78560" y="43434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A2B0-6E43-4AD3-BC11-81DD71BBA8F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...mientras que estudios preliminares de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indican diferentes esquemas de segment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603440" y="2079720"/>
          <a:ext cx="6583320" cy="407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3440" y="2079720"/>
                    <a:ext cx="658332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 flipV="1">
            <a:off x="1752480" y="1980720"/>
            <a:ext cx="0" cy="40388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19920"/>
            <a:ext cx="5486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78200" y="601992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83400" y="2057400"/>
            <a:ext cx="114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B662-0923-451E-93C7-D9E0F5BA28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Los consumidores de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 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y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 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eden elegir realizar compras a través de 3 cana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edific5" descr=""/>
          <p:cNvPicPr/>
          <p:nvPr/>
        </p:nvPicPr>
        <p:blipFill>
          <a:blip r:embed="rId1"/>
          <a:stretch/>
        </p:blipFill>
        <p:spPr>
          <a:xfrm>
            <a:off x="3352680" y="2971800"/>
            <a:ext cx="1905120" cy="1220760"/>
          </a:xfrm>
          <a:prstGeom prst="rect">
            <a:avLst/>
          </a:prstGeom>
          <a:ln w="0">
            <a:noFill/>
          </a:ln>
        </p:spPr>
      </p:pic>
      <p:pic>
        <p:nvPicPr>
          <p:cNvPr id="239" name="tienda" descr=""/>
          <p:cNvPicPr/>
          <p:nvPr/>
        </p:nvPicPr>
        <p:blipFill>
          <a:blip r:embed="rId2"/>
          <a:stretch/>
        </p:blipFill>
        <p:spPr>
          <a:xfrm>
            <a:off x="1066680" y="3048120"/>
            <a:ext cx="1295640" cy="1139760"/>
          </a:xfrm>
          <a:prstGeom prst="rect">
            <a:avLst/>
          </a:prstGeom>
          <a:ln w="0">
            <a:noFill/>
          </a:ln>
        </p:spPr>
      </p:pic>
      <p:pic>
        <p:nvPicPr>
          <p:cNvPr id="240" name="edific9" descr=""/>
          <p:cNvPicPr/>
          <p:nvPr/>
        </p:nvPicPr>
        <p:blipFill>
          <a:blip r:embed="rId3"/>
          <a:stretch/>
        </p:blipFill>
        <p:spPr>
          <a:xfrm>
            <a:off x="6172200" y="3048120"/>
            <a:ext cx="2057400" cy="102060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657720" y="1898640"/>
            <a:ext cx="20674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60880" y="1898640"/>
            <a:ext cx="241956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440400" y="1898640"/>
            <a:ext cx="1511280" cy="82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mujer4" descr=""/>
          <p:cNvPicPr/>
          <p:nvPr/>
        </p:nvPicPr>
        <p:blipFill>
          <a:blip r:embed="rId4"/>
          <a:stretch/>
        </p:blipFill>
        <p:spPr>
          <a:xfrm flipH="1">
            <a:off x="3809880" y="4952880"/>
            <a:ext cx="230400" cy="1067040"/>
          </a:xfrm>
          <a:prstGeom prst="rect">
            <a:avLst/>
          </a:prstGeom>
          <a:ln w="0">
            <a:noFill/>
          </a:ln>
        </p:spPr>
      </p:pic>
      <p:pic>
        <p:nvPicPr>
          <p:cNvPr id="245" name="GOLF" descr=""/>
          <p:cNvPicPr/>
          <p:nvPr/>
        </p:nvPicPr>
        <p:blipFill>
          <a:blip r:embed="rId5"/>
          <a:stretch/>
        </p:blipFill>
        <p:spPr>
          <a:xfrm flipH="1">
            <a:off x="3962160" y="5410080"/>
            <a:ext cx="610920" cy="990720"/>
          </a:xfrm>
          <a:prstGeom prst="rect">
            <a:avLst/>
          </a:prstGeom>
          <a:ln w="0">
            <a:noFill/>
          </a:ln>
        </p:spPr>
      </p:pic>
      <p:pic>
        <p:nvPicPr>
          <p:cNvPr id="246" name="gente2" descr=""/>
          <p:cNvPicPr/>
          <p:nvPr/>
        </p:nvPicPr>
        <p:blipFill>
          <a:blip r:embed="rId6"/>
          <a:stretch/>
        </p:blipFill>
        <p:spPr>
          <a:xfrm>
            <a:off x="4648320" y="5029200"/>
            <a:ext cx="669960" cy="762120"/>
          </a:xfrm>
          <a:prstGeom prst="rect">
            <a:avLst/>
          </a:prstGeom>
          <a:ln w="0">
            <a:noFill/>
          </a:ln>
        </p:spPr>
      </p:pic>
      <p:pic>
        <p:nvPicPr>
          <p:cNvPr id="247" name="gente1" descr=""/>
          <p:cNvPicPr/>
          <p:nvPr/>
        </p:nvPicPr>
        <p:blipFill>
          <a:blip r:embed="rId7"/>
          <a:stretch/>
        </p:blipFill>
        <p:spPr>
          <a:xfrm>
            <a:off x="5029200" y="5867280"/>
            <a:ext cx="990720" cy="621000"/>
          </a:xfrm>
          <a:prstGeom prst="rect">
            <a:avLst/>
          </a:prstGeom>
          <a:ln w="0">
            <a:noFill/>
          </a:ln>
        </p:spPr>
      </p:pic>
      <p:pic>
        <p:nvPicPr>
          <p:cNvPr id="248" name="dinero" descr=""/>
          <p:cNvPicPr/>
          <p:nvPr/>
        </p:nvPicPr>
        <p:blipFill>
          <a:blip r:embed="rId8"/>
          <a:stretch/>
        </p:blipFill>
        <p:spPr>
          <a:xfrm>
            <a:off x="2819520" y="5791320"/>
            <a:ext cx="868320" cy="782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5791320" y="4495320"/>
            <a:ext cx="152388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 flipV="1">
            <a:off x="1980720" y="4571640"/>
            <a:ext cx="129564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4343400" y="43430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ED94-6BB6-47C5-9D8F-0AFCDAE86D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sumen del mundo de Markstr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066680" y="2666880"/>
            <a:ext cx="6782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cimiento del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edio ambiente econó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mapa3" descr=""/>
          <p:cNvPicPr/>
          <p:nvPr/>
        </p:nvPicPr>
        <p:blipFill>
          <a:blip r:embed="rId1"/>
          <a:stretch/>
        </p:blipFill>
        <p:spPr>
          <a:xfrm>
            <a:off x="6629400" y="4648320"/>
            <a:ext cx="2057400" cy="1682640"/>
          </a:xfrm>
          <a:prstGeom prst="rect">
            <a:avLst/>
          </a:prstGeom>
          <a:ln w="0">
            <a:noFill/>
          </a:ln>
        </p:spPr>
      </p:pic>
      <p:pic>
        <p:nvPicPr>
          <p:cNvPr id="257" name="pc1" descr=""/>
          <p:cNvPicPr/>
          <p:nvPr/>
        </p:nvPicPr>
        <p:blipFill>
          <a:blip r:embed="rId2"/>
          <a:stretch/>
        </p:blipFill>
        <p:spPr>
          <a:xfrm>
            <a:off x="685800" y="3124080"/>
            <a:ext cx="2209680" cy="1698840"/>
          </a:xfrm>
          <a:prstGeom prst="rect">
            <a:avLst/>
          </a:prstGeom>
          <a:ln w="0">
            <a:noFill/>
          </a:ln>
        </p:spPr>
      </p:pic>
      <p:pic>
        <p:nvPicPr>
          <p:cNvPr id="258" name="Progres2" descr=""/>
          <p:cNvPicPr/>
          <p:nvPr/>
        </p:nvPicPr>
        <p:blipFill>
          <a:blip r:embed="rId3"/>
          <a:stretch/>
        </p:blipFill>
        <p:spPr>
          <a:xfrm>
            <a:off x="6553080" y="2133720"/>
            <a:ext cx="2249640" cy="125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7B01-2D76-4E37-8FB0-B0C8013CB4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7F44-B009-43D2-9DE4-9BBAC70EC0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objetivo en gestionar su compañía es maximizar el precio de su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0880" y="205740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a lograr esto, usted debe optimiz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rogreso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651640" cy="320040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2334600" y="2819520"/>
            <a:ext cx="55926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cipación de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cimiento de ven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ibución neta acumul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ersión en I&amp;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Investigación y desarrollo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12800" y="5867280"/>
            <a:ext cx="713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..pero el objetivo principal 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APREND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champan" descr=""/>
          <p:cNvPicPr/>
          <p:nvPr/>
        </p:nvPicPr>
        <p:blipFill>
          <a:blip r:embed="rId2"/>
          <a:stretch/>
        </p:blipFill>
        <p:spPr>
          <a:xfrm flipH="1">
            <a:off x="228240" y="4038480"/>
            <a:ext cx="1981080" cy="184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86AC-D93E-4AC9-A98C-A84BAD0DA8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ted necesitará realizar una serie de análisis antes de crear directrices estratégicas para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2438280"/>
            <a:ext cx="198144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2438280"/>
            <a:ext cx="190512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8520" y="2438280"/>
            <a:ext cx="2057400" cy="114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90920" y="2666880"/>
            <a:ext cx="761760" cy="76212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2590920"/>
            <a:ext cx="761760" cy="761760"/>
          </a:xfrm>
          <a:prstGeom prst="rightArrow">
            <a:avLst>
              <a:gd name="adj1" fmla="val 60120"/>
              <a:gd name="adj2" fmla="val 4354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067040" y="279576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a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434040" y="2743200"/>
            <a:ext cx="1905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Inform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55000" y="2514600"/>
            <a:ext cx="204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Estratég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305920" y="2971800"/>
            <a:ext cx="304560" cy="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534520" y="2971800"/>
            <a:ext cx="0" cy="1143000"/>
          </a:xfrm>
          <a:prstGeom prst="line">
            <a:avLst/>
          </a:prstGeom>
          <a:ln w="120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1447920" y="4114800"/>
            <a:ext cx="7162560" cy="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523880" y="3428640"/>
            <a:ext cx="0" cy="68580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norte" descr=""/>
          <p:cNvPicPr/>
          <p:nvPr/>
        </p:nvPicPr>
        <p:blipFill>
          <a:blip r:embed="rId1"/>
          <a:stretch/>
        </p:blipFill>
        <p:spPr>
          <a:xfrm>
            <a:off x="6477120" y="4495680"/>
            <a:ext cx="2133360" cy="20624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 flipV="1">
            <a:off x="4038480" y="5257800"/>
            <a:ext cx="990720" cy="129528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5029200" y="5257800"/>
            <a:ext cx="304920" cy="76320"/>
          </a:xfrm>
          <a:prstGeom prst="line">
            <a:avLst/>
          </a:prstGeom>
          <a:ln w="1522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5334120" y="4571640"/>
            <a:ext cx="304560" cy="685800"/>
          </a:xfrm>
          <a:prstGeom prst="line">
            <a:avLst/>
          </a:prstGeom>
          <a:ln w="1522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733920" y="5334120"/>
            <a:ext cx="60948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724280" y="5943600"/>
            <a:ext cx="609840" cy="609480"/>
          </a:xfrm>
          <a:prstGeom prst="ellipse">
            <a:avLst/>
          </a:prstGeom>
          <a:noFill/>
          <a:ln w="15228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228600" y="4800600"/>
          <a:ext cx="2895480" cy="1344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4800600"/>
                    <a:ext cx="289548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E66F-A5A8-4AEE-AEF9-AD9E73D7C3F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carroc" descr=""/>
          <p:cNvPicPr/>
          <p:nvPr/>
        </p:nvPicPr>
        <p:blipFill>
          <a:blip r:embed="rId1"/>
          <a:stretch/>
        </p:blipFill>
        <p:spPr>
          <a:xfrm>
            <a:off x="6248520" y="3124080"/>
            <a:ext cx="1523880" cy="1584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81240" y="1735200"/>
            <a:ext cx="61531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neles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s semá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5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calamiento Multi-dimensional (M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AB7B-654F-45C9-8D7D-5BD8E438BF5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bincular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200400" cy="131148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520200" y="1971720"/>
            <a:ext cx="480600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Benchmarking de la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redicciones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ublicidad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Fuerza de venta 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6B40-AFA2-4E00-8257-0A49E8B10B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tudios de investigación de mercado proveen datos... su tarea es priorizar, digerir e interpretarlos (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continuación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balanza2" descr=""/>
          <p:cNvPicPr/>
          <p:nvPr/>
        </p:nvPicPr>
        <p:blipFill>
          <a:blip r:embed="rId1"/>
          <a:stretch/>
        </p:blipFill>
        <p:spPr>
          <a:xfrm>
            <a:off x="5486400" y="3048120"/>
            <a:ext cx="2743200" cy="201744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2209680"/>
            <a:ext cx="466416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de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perimentos con la fuerz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4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álisis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7564-6A0E-4076-9858-A5C54F016E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Markstrat es una simulación diseñada para enfocar decisiones estratégicas de marke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ecesidades de los consum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pectivas de largo plaz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arketing como gestor de benefi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cepto del medio competi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rategia de marketing basada en segmentación, posicionamiento y asignación de recurso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A7B0-EE69-4215-9972-8877584793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uando tenga clara su estrategia, debe proceder a realizar numerosas decisiones tácticas cada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 rot="10800000">
            <a:off x="380880" y="6095880"/>
            <a:ext cx="1526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38080" y="1828800"/>
            <a:ext cx="5045040" cy="44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nificación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isposición de inv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jar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unicación mas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erza de venta y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vestigación de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ocupado" descr=""/>
          <p:cNvPicPr/>
          <p:nvPr/>
        </p:nvPicPr>
        <p:blipFill>
          <a:blip r:embed="rId1"/>
          <a:stretch/>
        </p:blipFill>
        <p:spPr>
          <a:xfrm>
            <a:off x="5867280" y="2286000"/>
            <a:ext cx="2853000" cy="350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336F-44CE-4988-B0BF-D84EE39BC60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 departamento de producción ajustará automáticamente el nivel de producción hasta en un 20% (+ 0 -) dependiendo de su plan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1828800"/>
            <a:ext cx="50450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600" y="2590920"/>
            <a:ext cx="1600200" cy="1167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del 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5029200"/>
            <a:ext cx="1676520" cy="398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057400" y="4267080"/>
            <a:ext cx="6553080" cy="0"/>
          </a:xfrm>
          <a:prstGeom prst="line">
            <a:avLst/>
          </a:prstGeom>
          <a:ln w="19044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334120" y="3886200"/>
            <a:ext cx="761760" cy="76212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15000" y="2666880"/>
            <a:ext cx="0" cy="1524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5715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3048120"/>
            <a:ext cx="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0" y="2971800"/>
            <a:ext cx="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50292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342900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V="1">
            <a:off x="6705720" y="4343400"/>
            <a:ext cx="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3429000" y="1904760"/>
            <a:ext cx="0" cy="464796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6705720" y="1904760"/>
            <a:ext cx="0" cy="472428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2285640" y="3581280"/>
            <a:ext cx="114300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705360" y="3581280"/>
            <a:ext cx="106668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0288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3428640" y="4952880"/>
            <a:ext cx="1676520" cy="0"/>
          </a:xfrm>
          <a:prstGeom prst="line">
            <a:avLst/>
          </a:prstGeom>
          <a:ln w="57240">
            <a:solidFill>
              <a:srgbClr val="000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631920" y="2438280"/>
            <a:ext cx="11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e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911960" y="236232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cumul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 Inv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772400" y="24382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sumiendo cero nivel de inventa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648320" y="5181480"/>
            <a:ext cx="782640" cy="520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951160" y="5181480"/>
            <a:ext cx="15354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+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642400" y="5181480"/>
            <a:ext cx="1447200" cy="94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Q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(1-20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191120" y="5842080"/>
            <a:ext cx="1676160" cy="825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vel de producción ped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C495-F540-4E0D-AEBD-AB021C7DD7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comparación entre intención y participación de mercado le puede dar una estimación de las “ventas perdida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0492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2286000"/>
            <a:ext cx="1962000" cy="1523880"/>
          </a:xfrm>
          <a:prstGeom prst="roundRect">
            <a:avLst>
              <a:gd name="adj" fmla="val 16667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5000" y="2286000"/>
            <a:ext cx="1809720" cy="1523880"/>
          </a:xfrm>
          <a:prstGeom prst="roundRect">
            <a:avLst>
              <a:gd name="adj" fmla="val 16667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28600" y="2514600"/>
            <a:ext cx="2058840" cy="9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n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819160" y="2666880"/>
            <a:ext cx="201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Particip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Tahoma"/>
              </a:rPr>
              <a:t>de Merc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641560" y="2514600"/>
            <a:ext cx="194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V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ahoma"/>
              </a:rPr>
              <a:t>Perdid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17520" y="2209680"/>
            <a:ext cx="106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209680" y="2209680"/>
            <a:ext cx="546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Tahoma"/>
              </a:rPr>
              <a:t>-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5334120" y="3429000"/>
            <a:ext cx="1440" cy="1828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00400" y="5105520"/>
            <a:ext cx="66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89400" y="3949560"/>
            <a:ext cx="2972520" cy="26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competi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d. Pendiente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érdidas indust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791320" y="457200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5791320" y="419112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791320" y="541008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5791320" y="5029200"/>
            <a:ext cx="0" cy="380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1320" y="6248520"/>
            <a:ext cx="304560" cy="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V="1">
            <a:off x="5791320" y="5866920"/>
            <a:ext cx="0" cy="381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6C50-74F0-4335-9FEB-2A9CA3A9127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563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 Markstrat, los precios se fijan una vez a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1DOLAR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971800" cy="14479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6324480" y="380880"/>
            <a:ext cx="2057400" cy="276480"/>
          </a:xfrm>
          <a:prstGeom prst="rect">
            <a:avLst/>
          </a:prstGeom>
          <a:solidFill>
            <a:srgbClr val="afff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f7b19"/>
                </a:solidFill>
                <a:latin typeface="Tahoma"/>
              </a:rPr>
              <a:t>BANCO DE MARKSTR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92720" y="1905120"/>
            <a:ext cx="7407360" cy="520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Precio al por menor recomendado = 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971800" y="5410080"/>
            <a:ext cx="175248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724280" y="2895480"/>
            <a:ext cx="182880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ff00"/>
                </a:solidFill>
                <a:latin typeface="Tahoma"/>
              </a:rPr>
              <a:t>Departamen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553080" y="457200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553080" y="5410080"/>
            <a:ext cx="16765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724280" y="5410080"/>
            <a:ext cx="182880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19320" y="457200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Margen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Distibu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553080" y="3733920"/>
            <a:ext cx="16765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71800" y="373392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219320" y="3733920"/>
            <a:ext cx="1752480" cy="8380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ecio R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Tahoma"/>
              </a:rPr>
              <a:t>Promed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19320" y="54100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e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Promedi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V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724280" y="4572000"/>
            <a:ext cx="18288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971800" y="2895480"/>
            <a:ext cx="175248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Tienda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Especi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553080" y="2895480"/>
            <a:ext cx="1676520" cy="8384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erc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Ma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971800" y="4572000"/>
            <a:ext cx="175248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1824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2100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4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32100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11200" y="3809880"/>
            <a:ext cx="12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10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22576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3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181480" y="5486400"/>
            <a:ext cx="105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25960" y="380988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9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02280" y="464832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2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902280" y="548640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$6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2F6E-0A5A-45AA-9C3D-3CC9E95081C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recibe un presupuesto para el período entrante, basado en el desempeño del período prev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10800000">
            <a:off x="226800" y="2055960"/>
            <a:ext cx="729000" cy="4419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ahoma"/>
              </a:rPr>
              <a:t>Presupues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95280" y="5486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nvestigació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de Mercad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3200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Fuerza d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Vent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95280" y="4343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I &amp; 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295280" y="2057400"/>
            <a:ext cx="22860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Publicida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914400" y="236232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914400" y="3429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14400" y="4572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14400" y="5715000"/>
            <a:ext cx="380880" cy="5335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581280" y="2209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81280" y="27432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581280" y="3352680"/>
            <a:ext cx="381240" cy="180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581280" y="36576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81280" y="411480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505320" y="4800600"/>
            <a:ext cx="45720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81280" y="6019920"/>
            <a:ext cx="381240" cy="1440"/>
          </a:xfrm>
          <a:prstGeom prst="line">
            <a:avLst/>
          </a:prstGeom>
          <a:ln w="1522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62520" y="19051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962520" y="2362320"/>
            <a:ext cx="31366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stos en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 public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962520" y="312408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62520" y="350532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contratar y entren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962520" y="411480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sto de despe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4648320"/>
            <a:ext cx="3124080" cy="368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supuesto de desarro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62520" y="5715000"/>
            <a:ext cx="3124080" cy="6426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Costo de los estudios pa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ahoma"/>
              </a:rPr>
              <a:t>Sonite y Vod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162920" y="205740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38880" y="4267080"/>
            <a:ext cx="457200" cy="11430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15171" dir="502314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0120" y="205740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Marc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848720" y="4419720"/>
            <a:ext cx="129528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99192" dir="3018055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ara cada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Tahoma"/>
              </a:rPr>
              <a:t>Proyect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AD4C3-5C3E-4CBA-88C6-F56D2953CE2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reunir3" descr=""/>
          <p:cNvPicPr/>
          <p:nvPr/>
        </p:nvPicPr>
        <p:blipFill>
          <a:blip r:embed="rId1"/>
          <a:stretch/>
        </p:blipFill>
        <p:spPr>
          <a:xfrm>
            <a:off x="6248520" y="4267080"/>
            <a:ext cx="1752480" cy="868320"/>
          </a:xfrm>
          <a:prstGeom prst="rect">
            <a:avLst/>
          </a:prstGeom>
          <a:ln w="0">
            <a:noFill/>
          </a:ln>
        </p:spPr>
      </p:pic>
      <p:pic>
        <p:nvPicPr>
          <p:cNvPr id="424" name="gente2" descr=""/>
          <p:cNvPicPr/>
          <p:nvPr/>
        </p:nvPicPr>
        <p:blipFill>
          <a:blip r:embed="rId2"/>
          <a:stretch/>
        </p:blipFill>
        <p:spPr>
          <a:xfrm>
            <a:off x="838080" y="3809880"/>
            <a:ext cx="1406520" cy="1600200"/>
          </a:xfrm>
          <a:prstGeom prst="rect">
            <a:avLst/>
          </a:prstGeom>
          <a:ln w="0">
            <a:noFill/>
          </a:ln>
        </p:spPr>
      </p:pic>
      <p:pic>
        <p:nvPicPr>
          <p:cNvPr id="425" name="pc1" descr=""/>
          <p:cNvPicPr/>
          <p:nvPr/>
        </p:nvPicPr>
        <p:blipFill>
          <a:blip r:embed="rId3"/>
          <a:stretch/>
        </p:blipFill>
        <p:spPr>
          <a:xfrm>
            <a:off x="2895480" y="4495680"/>
            <a:ext cx="2590920" cy="2103480"/>
          </a:xfrm>
          <a:prstGeom prst="rect">
            <a:avLst/>
          </a:prstGeom>
          <a:ln w="0">
            <a:noFill/>
          </a:ln>
        </p:spPr>
      </p:pic>
      <p:pic>
        <p:nvPicPr>
          <p:cNvPr id="426" name="pc1" descr=""/>
          <p:cNvPicPr/>
          <p:nvPr/>
        </p:nvPicPr>
        <p:blipFill>
          <a:blip r:embed="rId4"/>
          <a:stretch/>
        </p:blipFill>
        <p:spPr>
          <a:xfrm>
            <a:off x="2438280" y="1905120"/>
            <a:ext cx="2438640" cy="197964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/>
          <p:nvPr/>
        </p:nvSpPr>
        <p:spPr>
          <a:xfrm rot="16200000">
            <a:off x="1371240" y="5181480"/>
            <a:ext cx="1067040" cy="152388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 rot="16200000">
            <a:off x="6704280" y="1828800"/>
            <a:ext cx="1371600" cy="1523880"/>
          </a:xfrm>
          <a:custGeom>
            <a:avLst/>
            <a:gdLst>
              <a:gd name="textAreaLeft" fmla="*/ 360 w 1371600"/>
              <a:gd name="textAreaRight" fmla="*/ 1372320 w 1371600"/>
              <a:gd name="textAreaTop" fmla="*/ 0 h 1523880"/>
              <a:gd name="textAreaBottom" fmla="*/ 152424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10113" stAng="10800000" swAng="5400000"/>
                <a:lnTo>
                  <a:pt x="12974" y="2047"/>
                </a:lnTo>
                <a:lnTo>
                  <a:pt x="12974" y="0"/>
                </a:lnTo>
                <a:lnTo>
                  <a:pt x="21600" y="6079"/>
                </a:lnTo>
                <a:lnTo>
                  <a:pt x="12974" y="12158"/>
                </a:lnTo>
                <a:lnTo>
                  <a:pt x="12974" y="10111"/>
                </a:lnTo>
                <a:lnTo>
                  <a:pt x="12427" y="10111"/>
                </a:lnTo>
                <a:arcTo wR="4363" hR="2049" stAng="16200000" swAng="-5400000"/>
                <a:lnTo>
                  <a:pt x="806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676520" y="1905120"/>
            <a:ext cx="1066680" cy="1143000"/>
          </a:xfrm>
          <a:custGeom>
            <a:avLst/>
            <a:gdLst>
              <a:gd name="textAreaLeft" fmla="*/ 0 w 1066680"/>
              <a:gd name="textAreaRight" fmla="*/ 1067040 w 106668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715000" y="5334120"/>
            <a:ext cx="1295280" cy="1218960"/>
          </a:xfrm>
          <a:custGeom>
            <a:avLst/>
            <a:gdLst>
              <a:gd name="textAreaLeft" fmla="*/ 360 w 1295280"/>
              <a:gd name="textAreaRight" fmla="*/ 1296000 w 12952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348" stAng="10800000" swAng="5400000"/>
                <a:lnTo>
                  <a:pt x="12441" y="2812"/>
                </a:lnTo>
                <a:lnTo>
                  <a:pt x="12441" y="0"/>
                </a:lnTo>
                <a:lnTo>
                  <a:pt x="21600" y="6079"/>
                </a:lnTo>
                <a:lnTo>
                  <a:pt x="12441" y="12158"/>
                </a:lnTo>
                <a:lnTo>
                  <a:pt x="12441" y="9346"/>
                </a:lnTo>
                <a:lnTo>
                  <a:pt x="12427" y="9346"/>
                </a:lnTo>
                <a:arcTo wR="5893" hR="2814" stAng="16200000" swAng="-5400000"/>
                <a:lnTo>
                  <a:pt x="6534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553080" y="3352680"/>
            <a:ext cx="129564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V="1">
            <a:off x="6553080" y="3885840"/>
            <a:ext cx="381240" cy="304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34320" y="3886200"/>
            <a:ext cx="15228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V="1">
            <a:off x="7086600" y="3809880"/>
            <a:ext cx="22860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3809880"/>
            <a:ext cx="152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7467480" y="3505320"/>
            <a:ext cx="76320" cy="30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7543800" y="3429000"/>
            <a:ext cx="30492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 rot="10800000">
            <a:off x="304920" y="2894400"/>
            <a:ext cx="1295280" cy="83844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304920" y="2971440"/>
            <a:ext cx="30456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609480" y="3124080"/>
            <a:ext cx="15264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761760" y="3123720"/>
            <a:ext cx="22860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990360" y="3351960"/>
            <a:ext cx="1522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1143000" y="3352320"/>
            <a:ext cx="76320" cy="306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1219320" y="3657600"/>
            <a:ext cx="304560" cy="763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7040" y="31305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726080" y="1523880"/>
            <a:ext cx="109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41080" y="2133720"/>
            <a:ext cx="80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823200" y="4724280"/>
            <a:ext cx="70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MS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P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17560" y="198108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INI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" y="566640"/>
            <a:ext cx="859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simulación comienza al final del  primer  período. 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uevo gerente (Usted!) debe tomar las decisione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F2BF-C003-410C-90BE-FDC34DE3FC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Para que su equipo pueda familiarizarse mejor con Markstrat, se han limitado algunas decisiones del primer perío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09480" y="2084400"/>
            <a:ext cx="8077320" cy="38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Recoger inform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realizar grandes cambios en las operaciones de su 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 modificar,  retirar o introducir nuevas mar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iniciar proyectos de I &amp;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 dar objetivos perceptuales para 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3072-2BEA-4838-8FB9-33941CA6213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Organícense y gestionen el trabajo gru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flechas3" descr=""/>
          <p:cNvPicPr/>
          <p:nvPr/>
        </p:nvPicPr>
        <p:blipFill>
          <a:blip r:embed="rId1"/>
          <a:stretch/>
        </p:blipFill>
        <p:spPr>
          <a:xfrm>
            <a:off x="3048120" y="2438280"/>
            <a:ext cx="2916000" cy="30481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4983480" y="2362320"/>
            <a:ext cx="328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Limitación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iemp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956840" y="5257800"/>
            <a:ext cx="284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Opin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nflictiv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07440" y="2514600"/>
            <a:ext cx="3010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Exceso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form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C024-A861-4EDF-AFB2-4F6081F4394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8A65D-FBB6-4804-AFB6-9A3CA9AF27C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ingresar al sitio de su equipo, el menú principal estará en la pantalla de su P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1523880" y="2887560"/>
            <a:ext cx="5867640" cy="3719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471" name="" descr=""/>
          <p:cNvPicPr/>
          <p:nvPr/>
        </p:nvPicPr>
        <p:blipFill>
          <a:blip r:embed="rId2"/>
          <a:stretch/>
        </p:blipFill>
        <p:spPr>
          <a:xfrm>
            <a:off x="1523880" y="2209680"/>
            <a:ext cx="5867640" cy="72720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523880" y="2286000"/>
            <a:ext cx="6019920" cy="533520"/>
          </a:xfrm>
          <a:prstGeom prst="wedgeRoundRectCallout">
            <a:avLst>
              <a:gd name="adj1" fmla="val 40824"/>
              <a:gd name="adj2" fmla="val -95537"/>
              <a:gd name="adj3" fmla="val 16667"/>
            </a:avLst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50880" y="1752480"/>
            <a:ext cx="21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arra de Módul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28600" y="1981080"/>
            <a:ext cx="1447920" cy="762120"/>
          </a:xfrm>
          <a:prstGeom prst="wedgeRoundRectCallout">
            <a:avLst>
              <a:gd name="adj1" fmla="val 74125"/>
              <a:gd name="adj2" fmla="val 31458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228600" y="2057400"/>
            <a:ext cx="1600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acceder el módulo de decisio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902B-884D-4793-A789-3011C4EC1C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486400" y="449568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638680" y="4191120"/>
            <a:ext cx="2438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562720" y="4495680"/>
            <a:ext cx="3124080" cy="205740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3048120" cy="2133360"/>
          </a:xfrm>
          <a:prstGeom prst="rect">
            <a:avLst/>
          </a:prstGeom>
          <a:solidFill>
            <a:srgbClr val="9933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85800"/>
            <a:ext cx="3047760" cy="205740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9907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43200" y="3048120"/>
            <a:ext cx="335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estionando su fir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562720" y="4648320"/>
            <a:ext cx="3124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Preparados para comenza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398F-6089-4AE5-A616-22DE852D0C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uego de haber ingresado a la ventana principal del Módulo de Decisiones, Usted comenzará a realizar decisiones para el período sigu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238880" cy="458784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981080" y="1981080"/>
            <a:ext cx="2286000" cy="914400"/>
          </a:xfrm>
          <a:prstGeom prst="wedgeRoundRectCallout">
            <a:avLst>
              <a:gd name="adj1" fmla="val 49097"/>
              <a:gd name="adj2" fmla="val 84375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981080" y="21337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0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 para ingresar al módulo de producción. precio y public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F3BE-0AED-40CC-8E54-4C85384CED3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cisiones de producción, precio y publicidad deben ser tomadas para cad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1371600" y="1905120"/>
            <a:ext cx="6553080" cy="468144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7162920" y="2590920"/>
            <a:ext cx="1752480" cy="1066680"/>
          </a:xfrm>
          <a:prstGeom prst="wedgeRoundRectCallout">
            <a:avLst>
              <a:gd name="adj1" fmla="val -42662"/>
              <a:gd name="adj2" fmla="val -77527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59436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na marca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676520" y="2133720"/>
            <a:ext cx="228600" cy="22860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47920" y="2133720"/>
            <a:ext cx="228600" cy="228600"/>
          </a:xfrm>
          <a:prstGeom prst="rect">
            <a:avLst/>
          </a:prstGeom>
          <a:solidFill>
            <a:srgbClr val="d5d5d5"/>
          </a:solidFill>
          <a:ln w="32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828800"/>
            <a:ext cx="1600200" cy="91440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ambia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onites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315200" y="2666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Usted está actualmente decidiendo sobre la marca S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980E-DE95-442F-9D07-1AE9F7FFFD6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fuerza de venta está organizada por tipo de canal de distribución, para poder así conocer sus necesidades especí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715000" y="3581280"/>
          <a:ext cx="289548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15000" y="3581280"/>
                    <a:ext cx="289548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80880" y="1981080"/>
            <a:ext cx="5619960" cy="285768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2590920" y="4876920"/>
            <a:ext cx="3124080" cy="838080"/>
          </a:xfrm>
          <a:prstGeom prst="wedgeRoundRectCallout">
            <a:avLst>
              <a:gd name="adj1" fmla="val 509"/>
              <a:gd name="adj2" fmla="val -80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514600" y="5029200"/>
            <a:ext cx="33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para normalizar la fuerza de venta a un 100% en cada ca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514600" y="4648320"/>
            <a:ext cx="0" cy="1523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1448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53EB4-BBFE-4821-9322-B3350E5E7A5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l comprar estudios de investigación de mercado, éstos le ayudarán a hacer buenas decis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6705720" cy="470052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457200" y="2133720"/>
            <a:ext cx="6553080" cy="304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858000" y="3429000"/>
            <a:ext cx="1905120" cy="838080"/>
          </a:xfrm>
          <a:prstGeom prst="wedgeRoundRectCallout">
            <a:avLst>
              <a:gd name="adj1" fmla="val -64166"/>
              <a:gd name="adj2" fmla="val 110796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858000" y="35053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s costos son actualizados de acuerdo a su sel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90AB-5E07-4FBF-B6B4-CCABBCEE3B3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sted puede monitorear el estado de sus decisiones cuando des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6095880" cy="3863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aphicFrame>
        <p:nvGraphicFramePr>
          <p:cNvPr id="508" name=""/>
          <p:cNvGraphicFramePr/>
          <p:nvPr/>
        </p:nvGraphicFramePr>
        <p:xfrm>
          <a:off x="4572000" y="1905120"/>
          <a:ext cx="411480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905120"/>
                    <a:ext cx="4114800" cy="1650960"/>
                  </a:xfrm>
                  <a:prstGeom prst="rect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10" name=""/>
          <p:cNvSpPr/>
          <p:nvPr/>
        </p:nvSpPr>
        <p:spPr>
          <a:xfrm flipV="1">
            <a:off x="3886200" y="3504960"/>
            <a:ext cx="2666880" cy="2057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3657600" y="6095880"/>
            <a:ext cx="45720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838080" y="6095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D372-182A-4942-9534-3035FDA1917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olvide transferir sus decision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873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516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6172200" cy="763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17" name=""/>
          <p:cNvSpPr/>
          <p:nvPr/>
        </p:nvSpPr>
        <p:spPr>
          <a:xfrm>
            <a:off x="7086600" y="2819520"/>
            <a:ext cx="1676520" cy="838080"/>
          </a:xfrm>
          <a:prstGeom prst="wedgeRoundRectCallout">
            <a:avLst>
              <a:gd name="adj1" fmla="val -72157"/>
              <a:gd name="adj2" fmla="val -11155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086600" y="2819520"/>
            <a:ext cx="180324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Haga </a:t>
            </a:r>
            <a:r>
              <a:rPr b="1" i="1" lang="es-ES_tradnl" sz="12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para acceder al Módulo Interf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457200" y="2666880"/>
            <a:ext cx="1600200" cy="990720"/>
          </a:xfrm>
          <a:prstGeom prst="wedgeRoundRectCallout">
            <a:avLst>
              <a:gd name="adj1" fmla="val 60217"/>
              <a:gd name="adj2" fmla="val 74680"/>
              <a:gd name="adj3" fmla="val 1666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57200" y="2666880"/>
            <a:ext cx="16002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iera sus decisiones y entregue su disco al i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418E-1173-4C98-9357-434AA20E417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 sus marcas... Listos... YA..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323080" y="2590920"/>
            <a:ext cx="674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igne un nombre a su compañ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377160" y="3505320"/>
            <a:ext cx="56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pete el plazo de entreg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RELOJCRO" descr=""/>
          <p:cNvPicPr/>
          <p:nvPr/>
        </p:nvPicPr>
        <p:blipFill>
          <a:blip r:embed="rId1"/>
          <a:stretch/>
        </p:blipFill>
        <p:spPr>
          <a:xfrm>
            <a:off x="7102440" y="228600"/>
            <a:ext cx="1606680" cy="2185920"/>
          </a:xfrm>
          <a:prstGeom prst="rect">
            <a:avLst/>
          </a:prstGeom>
          <a:ln w="0">
            <a:noFill/>
          </a:ln>
        </p:spPr>
      </p:pic>
      <p:sp>
        <p:nvSpPr>
          <p:cNvPr id="526" name=""/>
          <p:cNvSpPr/>
          <p:nvPr/>
        </p:nvSpPr>
        <p:spPr>
          <a:xfrm>
            <a:off x="3043440" y="4724280"/>
            <a:ext cx="6096960" cy="1099440"/>
          </a:xfrm>
          <a:prstGeom prst="rect">
            <a:avLst/>
          </a:prstGeom>
          <a:noFill/>
          <a:ln w="0">
            <a:noFill/>
          </a:ln>
          <a:effectLst>
            <a:outerShdw dist="77353" dir="483752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c0000"/>
                </a:solidFill>
                <a:latin typeface="Arial"/>
              </a:rPr>
              <a:t>Buena Suerte 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2"/>
          <a:stretch/>
        </p:blipFill>
        <p:spPr>
          <a:xfrm>
            <a:off x="533520" y="1981080"/>
            <a:ext cx="2589120" cy="4105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CAC6-7C67-4B64-9CD2-BF67FA3E2FB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“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Mundo Markstrat”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un gran territorio con una economía altamente desarroll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AMERICS2" descr=""/>
          <p:cNvPicPr/>
          <p:nvPr/>
        </p:nvPicPr>
        <p:blipFill>
          <a:blip r:embed="rId1"/>
          <a:stretch/>
        </p:blipFill>
        <p:spPr>
          <a:xfrm flipH="1">
            <a:off x="4495320" y="4038480"/>
            <a:ext cx="1676520" cy="2438640"/>
          </a:xfrm>
          <a:prstGeom prst="rect">
            <a:avLst/>
          </a:prstGeom>
          <a:ln w="0">
            <a:noFill/>
          </a:ln>
        </p:spPr>
      </p:pic>
      <p:pic>
        <p:nvPicPr>
          <p:cNvPr id="58" name="AMERICN2" descr=""/>
          <p:cNvPicPr/>
          <p:nvPr/>
        </p:nvPicPr>
        <p:blipFill>
          <a:blip r:embed="rId2"/>
          <a:stretch/>
        </p:blipFill>
        <p:spPr>
          <a:xfrm>
            <a:off x="2590920" y="1828800"/>
            <a:ext cx="2579400" cy="2295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52480" y="2362320"/>
            <a:ext cx="586764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ahoma"/>
              </a:rPr>
              <a:t>El Mundo Markstr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505320"/>
            <a:ext cx="7772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Población: 250 mill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ahoma"/>
              </a:rPr>
              <a:t>Moneda: Dólar Markstrat ($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820C-6A9F-4E2E-A889-A3A58961A8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s firmas en competencia se inician en posiciones distin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RAPIDO" descr=""/>
          <p:cNvPicPr/>
          <p:nvPr/>
        </p:nvPicPr>
        <p:blipFill>
          <a:blip r:embed="rId1"/>
          <a:stretch/>
        </p:blipFill>
        <p:spPr>
          <a:xfrm>
            <a:off x="6781680" y="2743200"/>
            <a:ext cx="1900440" cy="2362320"/>
          </a:xfrm>
          <a:prstGeom prst="rect">
            <a:avLst/>
          </a:prstGeom>
          <a:ln w="0">
            <a:noFill/>
          </a:ln>
        </p:spPr>
      </p:pic>
      <p:pic>
        <p:nvPicPr>
          <p:cNvPr id="65" name="RAPIDO" descr=""/>
          <p:cNvPicPr/>
          <p:nvPr/>
        </p:nvPicPr>
        <p:blipFill>
          <a:blip r:embed="rId2"/>
          <a:stretch/>
        </p:blipFill>
        <p:spPr>
          <a:xfrm>
            <a:off x="3429000" y="2362320"/>
            <a:ext cx="14716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RAPIDO" descr=""/>
          <p:cNvPicPr/>
          <p:nvPr/>
        </p:nvPicPr>
        <p:blipFill>
          <a:blip r:embed="rId3"/>
          <a:stretch/>
        </p:blipFill>
        <p:spPr>
          <a:xfrm>
            <a:off x="228600" y="1828800"/>
            <a:ext cx="1287360" cy="1600200"/>
          </a:xfrm>
          <a:prstGeom prst="rect">
            <a:avLst/>
          </a:prstGeom>
          <a:ln w="0">
            <a:noFill/>
          </a:ln>
        </p:spPr>
      </p:pic>
      <p:pic>
        <p:nvPicPr>
          <p:cNvPr id="67" name="RAPIDO" descr=""/>
          <p:cNvPicPr/>
          <p:nvPr/>
        </p:nvPicPr>
        <p:blipFill>
          <a:blip r:embed="rId4"/>
          <a:stretch/>
        </p:blipFill>
        <p:spPr>
          <a:xfrm>
            <a:off x="3962520" y="3809880"/>
            <a:ext cx="2146320" cy="2667240"/>
          </a:xfrm>
          <a:prstGeom prst="rect">
            <a:avLst/>
          </a:prstGeom>
          <a:ln w="0">
            <a:noFill/>
          </a:ln>
        </p:spPr>
      </p:pic>
      <p:pic>
        <p:nvPicPr>
          <p:cNvPr id="68" name="RAPIDO" descr=""/>
          <p:cNvPicPr/>
          <p:nvPr/>
        </p:nvPicPr>
        <p:blipFill>
          <a:blip r:embed="rId5"/>
          <a:stretch/>
        </p:blipFill>
        <p:spPr>
          <a:xfrm>
            <a:off x="1219320" y="3048120"/>
            <a:ext cx="1827000" cy="22701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28600" y="2971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28600" y="3505320"/>
            <a:ext cx="8686800" cy="5331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41148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480060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5638680"/>
            <a:ext cx="8686800" cy="5335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" y="6477120"/>
            <a:ext cx="2743200" cy="1522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647A-D2C8-4BBD-BF58-ACFF025BB28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da firma puede competir en DOS producto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400800" y="2362320"/>
            <a:ext cx="1676520" cy="2133360"/>
          </a:xfrm>
          <a:prstGeom prst="flowChartMagneticDisk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2057400" cy="2057400"/>
          </a:xfrm>
          <a:prstGeom prst="cube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2819520"/>
            <a:ext cx="327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sustit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complement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4724280"/>
            <a:ext cx="243864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ON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943600" y="4724280"/>
            <a:ext cx="2438280" cy="7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ODI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5791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áximo: 5 marcas/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C068-5F59-4E03-A237-BB592C7841B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l mercado </a:t>
            </a: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Sonite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es altamente desarrollado y cada producto tiene 6 características pro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819520"/>
            <a:ext cx="920520" cy="676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36576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2590920" y="33526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219320" y="33526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905120" y="2514240"/>
            <a:ext cx="1440" cy="115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2590920"/>
            <a:ext cx="46044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419720" y="2743200"/>
            <a:ext cx="920520" cy="3380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7800" y="2743200"/>
            <a:ext cx="74520" cy="880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3200400"/>
            <a:ext cx="395280" cy="40644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2666880"/>
            <a:ext cx="8380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5105520"/>
            <a:ext cx="920880" cy="744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30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3716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1371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8288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8288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5562720"/>
            <a:ext cx="19692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2860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14600" y="556272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14600" y="6095880"/>
            <a:ext cx="19692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91120" y="5105520"/>
            <a:ext cx="525240" cy="1015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5105520"/>
            <a:ext cx="263520" cy="1015920"/>
          </a:xfrm>
          <a:custGeom>
            <a:avLst/>
            <a:gdLst>
              <a:gd name="textAreaLeft" fmla="*/ 0 w 263520"/>
              <a:gd name="textAreaRight" fmla="*/ 185040 w 263520"/>
              <a:gd name="textAreaTop" fmla="*/ 253800 h 1015920"/>
              <a:gd name="textAreaBottom" fmla="*/ 76212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5181480"/>
            <a:ext cx="263520" cy="812880"/>
          </a:xfrm>
          <a:custGeom>
            <a:avLst/>
            <a:gdLst>
              <a:gd name="textAreaLeft" fmla="*/ 0 w 263520"/>
              <a:gd name="textAreaRight" fmla="*/ 185040 w 263520"/>
              <a:gd name="textAreaTop" fmla="*/ 203040 h 812880"/>
              <a:gd name="textAreaBottom" fmla="*/ 609840 h 81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5410080"/>
            <a:ext cx="131760" cy="474840"/>
          </a:xfrm>
          <a:custGeom>
            <a:avLst/>
            <a:gdLst>
              <a:gd name="textAreaLeft" fmla="*/ 0 w 131760"/>
              <a:gd name="textAreaRight" fmla="*/ 92520 w 131760"/>
              <a:gd name="textAreaTop" fmla="*/ 118800 h 474840"/>
              <a:gd name="textAreaBottom" fmla="*/ 356400 h 474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5400"/>
                  <a:pt x="21600" y="10800"/>
                </a:cubicBezTo>
                <a:lnTo>
                  <a:pt x="21600" y="10800"/>
                </a:lnTo>
                <a:cubicBezTo>
                  <a:pt x="21600" y="162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9480" y="4419720"/>
            <a:ext cx="2590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3920" y="44197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o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71600" y="6248520"/>
            <a:ext cx="9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5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038480" y="624852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7920" y="19051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886200" y="1905120"/>
            <a:ext cx="12952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37339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14800" y="37339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10280" y="373392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162920" y="3581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010280" y="2666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274320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243828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14600" y="50292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4876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23623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69240" y="25909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3DB6-DF2F-47A0-89D6-5363C1A3B9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ahoma"/>
              </a:rPr>
              <a:t>Vodites</a:t>
            </a: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 también posee 6 características propias, pero el mercado está aún en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520" y="2286000"/>
            <a:ext cx="6705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114800" y="6172200"/>
            <a:ext cx="1380960" cy="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486400" y="5867280"/>
            <a:ext cx="144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4114800" y="5867280"/>
            <a:ext cx="0" cy="27144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62920" y="495288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905120"/>
            <a:ext cx="259056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Frecuencia Max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4419720"/>
            <a:ext cx="19810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Cost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0" y="62485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in.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343400" y="4419720"/>
            <a:ext cx="10666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295280" y="4419720"/>
            <a:ext cx="129564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0" y="1905120"/>
            <a:ext cx="152388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iámet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67080" y="6248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3880" y="6248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 - 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086600" y="35812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49528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4876920"/>
            <a:ext cx="9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n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34320" y="2666880"/>
            <a:ext cx="1523880" cy="83844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934320" y="31240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15200" y="27432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19320" y="5105520"/>
            <a:ext cx="457200" cy="10666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5029200"/>
            <a:ext cx="914400" cy="53352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76520" y="50292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828800" y="5638680"/>
            <a:ext cx="609480" cy="60984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91120" y="5410080"/>
            <a:ext cx="1218960" cy="6858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800600" y="5028840"/>
            <a:ext cx="0" cy="1143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2514600"/>
            <a:ext cx="1143000" cy="83808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1447920" y="2895480"/>
            <a:ext cx="1440" cy="533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765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6765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051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9051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1337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62320" y="2895480"/>
            <a:ext cx="196560" cy="18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23623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90920" y="2895480"/>
            <a:ext cx="1440" cy="542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3429000"/>
            <a:ext cx="19656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3581280"/>
            <a:ext cx="99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590920" y="2362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kH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039920" y="1905120"/>
            <a:ext cx="1771920" cy="45972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Autonom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343400" y="2590920"/>
            <a:ext cx="1219320" cy="10666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2895480"/>
            <a:ext cx="457200" cy="457200"/>
          </a:xfrm>
          <a:prstGeom prst="ellipse">
            <a:avLst/>
          </a:prstGeom>
          <a:solidFill>
            <a:srgbClr val="66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952880" y="2895120"/>
            <a:ext cx="53352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4864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19720" y="358128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 -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EA7F-0DD5-4E03-AD41-A3ECAAF4EE2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 fácil reconocer el origen de las marcas a partir de sus nomb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1752480"/>
            <a:ext cx="8077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438280"/>
            <a:ext cx="7772400" cy="16765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9568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4771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90920" y="2438280"/>
            <a:ext cx="0" cy="1676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514600"/>
            <a:ext cx="1143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2514600"/>
            <a:ext cx="9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6600" y="2514600"/>
            <a:ext cx="1066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0020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505320" y="4038480"/>
            <a:ext cx="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486400" y="4038480"/>
            <a:ext cx="45720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6858000" y="4038480"/>
            <a:ext cx="533520" cy="7621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85800" y="4800600"/>
            <a:ext cx="1828800" cy="179100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 de Produ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=Son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=Vod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666880" y="4800600"/>
            <a:ext cx="1828800" cy="174744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ñía dueña de la mar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,E,I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4800600"/>
            <a:ext cx="3352680" cy="1015920"/>
          </a:xfrm>
          <a:prstGeom prst="rect">
            <a:avLst/>
          </a:prstGeom>
          <a:solidFill>
            <a:srgbClr val="00cc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ras o número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e ele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3795-6697-4613-9CBE-E93FA3E1D5D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15T19:02:46Z</dcterms:created>
  <dc:creator>Marcelo y Tomás Münzenmayer S</dc:creator>
  <dc:description/>
  <dc:language>en-US</dc:language>
  <cp:lastModifiedBy>Universidad De Chile</cp:lastModifiedBy>
  <cp:lastPrinted>1999-12-21T19:58:19Z</cp:lastPrinted>
  <dcterms:modified xsi:type="dcterms:W3CDTF">2001-10-05T15:44:58Z</dcterms:modified>
  <cp:revision>22</cp:revision>
  <dc:subject/>
  <dc:title>The Markstrat Challenge I</dc:title>
</cp:coreProperties>
</file>