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E651-3979-4422-93F4-2C8D83A1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8530-1233-48D2-80F3-7F3B50A1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46D5-9BD3-47A6-937F-F35BA9B99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4860-71A5-468E-8F93-1C7DE8F3C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6E18-6995-40EC-BED7-8A991E66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C02B-5B5A-434B-844C-B793EED9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B51A-1723-49A0-88A7-FC2D9C3D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D530-0A17-4B0C-A2F1-F77CD1C4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7625-EAAD-44BD-8E60-9A4142FD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367A-368D-4059-97E7-5E261DA9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950D-CC57-4D9B-8803-AE53A10D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D1A7-80DC-49FD-B54A-C8119B91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943D-1F97-4510-B440-68D13FC71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y requiere además trabajar efectivamente con su departamento de I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143000" y="3390840"/>
            <a:ext cx="2057400" cy="18511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38080" y="2971800"/>
            <a:ext cx="259092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 flipH="1">
            <a:off x="1981080" y="2666880"/>
            <a:ext cx="349200" cy="630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36232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286000" y="2514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2514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133720" y="236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7524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3581280"/>
            <a:ext cx="3581280" cy="838440"/>
          </a:xfrm>
          <a:prstGeom prst="hexagon">
            <a:avLst>
              <a:gd name="adj" fmla="val 33143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1523880"/>
            <a:ext cx="1981440" cy="198144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úmer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0800000">
            <a:off x="6095880" y="4571640"/>
            <a:ext cx="1981440" cy="1981080"/>
          </a:xfrm>
          <a:prstGeom prst="downArrowCallout">
            <a:avLst>
              <a:gd name="adj1" fmla="val 25007"/>
              <a:gd name="adj2" fmla="val 25005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54280" y="548640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6480" y="1752480"/>
            <a:ext cx="41248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 = Centr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0720" y="5410080"/>
            <a:ext cx="483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suficientes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ijar costos unitari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1676520"/>
            <a:ext cx="0" cy="48006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l realizar I&amp;D, tenga presente considerar factores de posicionamiento y 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2438280"/>
            <a:ext cx="914400" cy="838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438280"/>
            <a:ext cx="914400" cy="838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2438280"/>
            <a:ext cx="914400" cy="8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00400" y="2438280"/>
            <a:ext cx="91440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Má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2438280"/>
            <a:ext cx="91440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3505320"/>
            <a:ext cx="48769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13480" y="17524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3733920"/>
            <a:ext cx="27198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á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4572000"/>
            <a:ext cx="3581640" cy="2057400"/>
          </a:xfrm>
          <a:prstGeom prst="upArrowCallout">
            <a:avLst>
              <a:gd name="adj1" fmla="val 43525"/>
              <a:gd name="adj2" fmla="val 43521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ecesidades 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c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ango fac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76920" y="4572000"/>
            <a:ext cx="4038480" cy="2057400"/>
          </a:xfrm>
          <a:prstGeom prst="upArrowCallout">
            <a:avLst>
              <a:gd name="adj1" fmla="val 38735"/>
              <a:gd name="adj2" fmla="val 42202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gen 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otros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acto de 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59840" y="2895480"/>
            <a:ext cx="2745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a 100K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produ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54160" y="1752480"/>
            <a:ext cx="91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mpacto de las características físicas en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16002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41148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6002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AY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1148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EN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60958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886200" y="42670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99960" y="41911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7840" y="60958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3581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886200" y="1752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99960" y="16765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67840" y="35812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4800" y="4495680"/>
            <a:ext cx="1600200" cy="1371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038480" y="1828440"/>
            <a:ext cx="182880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11960" y="1905120"/>
            <a:ext cx="2342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recuencia Má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32280" y="4648320"/>
            <a:ext cx="14803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resupuesto requerido para completar un proyecto de I&amp;D es función de diversos 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137160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1751040" cy="2057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362320" y="1600200"/>
            <a:ext cx="2514600" cy="16002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I &amp;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2361960" y="5105160"/>
            <a:ext cx="2514600" cy="152388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190440" y="3085560"/>
            <a:ext cx="2514600" cy="22860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38862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9600" y="5562720"/>
            <a:ext cx="1550880" cy="703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quer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3505320"/>
            <a:ext cx="24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supuesto de I &amp; D reque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52880" y="2819520"/>
            <a:ext cx="3810240" cy="3733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8760" y="30052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averiguar m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81480" y="36576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ac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1480" y="52578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17360" y="46483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34320" y="36576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studio de fact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34320" y="52578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Preguntas en 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posibles resultados de un proyecto de I &amp;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728640" cy="762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50880" y="13716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sometido a I &amp; 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0512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432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0512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00440" y="2843280"/>
            <a:ext cx="289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560" y="3397320"/>
            <a:ext cx="3657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ahoma"/>
              </a:rPr>
              <a:t>(el costo base requerido está bajo el mínimo, pero la I &amp; D tratará de desarrollar el proyecto a un mínimo costo 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1981080"/>
            <a:ext cx="838080" cy="762120"/>
          </a:xfrm>
          <a:prstGeom prst="rightArrow">
            <a:avLst>
              <a:gd name="adj1" fmla="val 50000"/>
              <a:gd name="adj2" fmla="val 274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81480" y="175248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costo base mínimo es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sto Base mínimo = $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95680" y="2895480"/>
            <a:ext cx="4648320" cy="3962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52400" y="2887560"/>
            <a:ext cx="301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388620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l presupuesto requerido para completarlo es también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75960" y="5029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76160" y="5002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151200" y="5362560"/>
            <a:ext cx="48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068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700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040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0220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-13140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9904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2784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45440" y="5029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15480" y="5002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90640" y="5362560"/>
            <a:ext cx="4804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0252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5884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7044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116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224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4404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1044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5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proyecto de I &amp; D completo puede ser usado para modificar marcas existentes y/o introducir nuev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429000" y="205740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0880" y="426708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1640" y="1574640"/>
            <a:ext cx="181908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330600" y="4089240"/>
            <a:ext cx="141804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055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25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3352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05520" y="4572000"/>
            <a:ext cx="30456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43600" y="4952880"/>
            <a:ext cx="2133720" cy="762120"/>
          </a:xfrm>
          <a:prstGeom prst="wedgeRoundRectCallout">
            <a:avLst>
              <a:gd name="adj1" fmla="val -68972"/>
              <a:gd name="adj2" fmla="val -7791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Nuev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yor 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59436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6248520"/>
            <a:ext cx="1676160" cy="380880"/>
          </a:xfrm>
          <a:prstGeom prst="wedgeRoundRectCallout">
            <a:avLst>
              <a:gd name="adj1" fmla="val -90814"/>
              <a:gd name="adj2" fmla="val -10333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Viej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257800" y="4952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05120" y="3886200"/>
            <a:ext cx="3045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" y="4495680"/>
            <a:ext cx="1752480" cy="762120"/>
          </a:xfrm>
          <a:prstGeom prst="wedgeRoundRectCallout">
            <a:avLst>
              <a:gd name="adj1" fmla="val 42574"/>
              <a:gd name="adj2" fmla="val -101875"/>
              <a:gd name="adj3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SAM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raer proyectos exitosos de I &amp; D al mercado genera  inventario obso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1110960" cy="47808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228600" y="3962520"/>
            <a:ext cx="837720" cy="945360"/>
            <a:chOff x="228600" y="3962520"/>
            <a:chExt cx="837720" cy="945360"/>
          </a:xfrm>
        </p:grpSpPr>
        <p:sp>
          <p:nvSpPr>
            <p:cNvPr id="366" name=""/>
            <p:cNvSpPr/>
            <p:nvPr/>
          </p:nvSpPr>
          <p:spPr>
            <a:xfrm>
              <a:off x="228600" y="4090680"/>
              <a:ext cx="651960" cy="81720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805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7" h="1295">
                  <a:moveTo>
                    <a:pt x="0" y="175"/>
                  </a:moveTo>
                  <a:lnTo>
                    <a:pt x="0" y="1295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0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1840" y="3962520"/>
              <a:ext cx="8344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19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914400" y="3962520"/>
            <a:ext cx="837720" cy="945360"/>
            <a:chOff x="914400" y="3962520"/>
            <a:chExt cx="837720" cy="945360"/>
          </a:xfrm>
        </p:grpSpPr>
        <p:sp>
          <p:nvSpPr>
            <p:cNvPr id="370" name=""/>
            <p:cNvSpPr/>
            <p:nvPr/>
          </p:nvSpPr>
          <p:spPr>
            <a:xfrm>
              <a:off x="914400" y="4090680"/>
              <a:ext cx="651960" cy="817200"/>
            </a:xfrm>
            <a:prstGeom prst="rect">
              <a:avLst/>
            </a:prstGeom>
            <a:solidFill>
              <a:srgbClr val="00c0c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663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6" h="1295">
                  <a:moveTo>
                    <a:pt x="0" y="175"/>
                  </a:moveTo>
                  <a:lnTo>
                    <a:pt x="0" y="1295"/>
                  </a:lnTo>
                  <a:lnTo>
                    <a:pt x="316" y="1075"/>
                  </a:lnTo>
                  <a:lnTo>
                    <a:pt x="316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606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15840" y="3962520"/>
              <a:ext cx="8362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20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40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676520" y="3962520"/>
            <a:ext cx="837720" cy="943920"/>
            <a:chOff x="1676520" y="3962520"/>
            <a:chExt cx="837720" cy="943920"/>
          </a:xfrm>
        </p:grpSpPr>
        <p:sp>
          <p:nvSpPr>
            <p:cNvPr id="374" name=""/>
            <p:cNvSpPr/>
            <p:nvPr/>
          </p:nvSpPr>
          <p:spPr>
            <a:xfrm>
              <a:off x="1676520" y="4088880"/>
              <a:ext cx="653760" cy="8175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28480" y="3964680"/>
              <a:ext cx="184320" cy="941400"/>
            </a:xfrm>
            <a:custGeom>
              <a:avLst/>
              <a:gdLst/>
              <a:ahLst/>
              <a:rect l="l" t="t" r="r" b="b"/>
              <a:pathLst>
                <a:path w="317" h="1294">
                  <a:moveTo>
                    <a:pt x="0" y="174"/>
                  </a:moveTo>
                  <a:lnTo>
                    <a:pt x="0" y="1294"/>
                  </a:lnTo>
                  <a:lnTo>
                    <a:pt x="317" y="1074"/>
                  </a:lnTo>
                  <a:lnTo>
                    <a:pt x="317" y="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800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79760" y="3962520"/>
              <a:ext cx="834480" cy="128520"/>
            </a:xfrm>
            <a:custGeom>
              <a:avLst/>
              <a:gdLst/>
              <a:ahLst/>
              <a:rect l="l" t="t" r="r" b="b"/>
              <a:pathLst>
                <a:path w="1442" h="179">
                  <a:moveTo>
                    <a:pt x="0" y="179"/>
                  </a:moveTo>
                  <a:lnTo>
                    <a:pt x="1120" y="179"/>
                  </a:lnTo>
                  <a:lnTo>
                    <a:pt x="1442" y="0"/>
                  </a:lnTo>
                  <a:lnTo>
                    <a:pt x="362" y="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ff40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80880" y="3124080"/>
            <a:ext cx="838080" cy="917280"/>
            <a:chOff x="380880" y="3124080"/>
            <a:chExt cx="838080" cy="917280"/>
          </a:xfrm>
        </p:grpSpPr>
        <p:sp>
          <p:nvSpPr>
            <p:cNvPr id="378" name=""/>
            <p:cNvSpPr/>
            <p:nvPr/>
          </p:nvSpPr>
          <p:spPr>
            <a:xfrm>
              <a:off x="380880" y="3224160"/>
              <a:ext cx="651960" cy="817200"/>
            </a:xfrm>
            <a:prstGeom prst="rect">
              <a:avLst/>
            </a:prstGeom>
            <a:solidFill>
              <a:srgbClr val="ff8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32840" y="3124080"/>
              <a:ext cx="183960" cy="9154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3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04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2680" y="3124080"/>
              <a:ext cx="836280" cy="102600"/>
            </a:xfrm>
            <a:custGeom>
              <a:avLst/>
              <a:gdLst/>
              <a:ahLst/>
              <a:rect l="l" t="t" r="r" b="b"/>
              <a:pathLst>
                <a:path w="1443" h="143">
                  <a:moveTo>
                    <a:pt x="0" y="143"/>
                  </a:moveTo>
                  <a:lnTo>
                    <a:pt x="1121" y="143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a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133640" y="3111480"/>
            <a:ext cx="837720" cy="917280"/>
            <a:chOff x="1133640" y="3111480"/>
            <a:chExt cx="837720" cy="917280"/>
          </a:xfrm>
        </p:grpSpPr>
        <p:sp>
          <p:nvSpPr>
            <p:cNvPr id="382" name=""/>
            <p:cNvSpPr/>
            <p:nvPr/>
          </p:nvSpPr>
          <p:spPr>
            <a:xfrm>
              <a:off x="1133640" y="3211200"/>
              <a:ext cx="651600" cy="817560"/>
            </a:xfrm>
            <a:prstGeom prst="rect">
              <a:avLst/>
            </a:prstGeom>
            <a:solidFill>
              <a:srgbClr val="00e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85240" y="3111480"/>
              <a:ext cx="184320" cy="9172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1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6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35080" y="3111480"/>
              <a:ext cx="836280" cy="102240"/>
            </a:xfrm>
            <a:custGeom>
              <a:avLst/>
              <a:gdLst/>
              <a:ahLst/>
              <a:rect l="l" t="t" r="r" b="b"/>
              <a:pathLst>
                <a:path w="1443" h="141">
                  <a:moveTo>
                    <a:pt x="0" y="141"/>
                  </a:moveTo>
                  <a:lnTo>
                    <a:pt x="1121" y="141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80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85800" y="2362320"/>
            <a:ext cx="836280" cy="879120"/>
            <a:chOff x="685800" y="2362320"/>
            <a:chExt cx="836280" cy="879120"/>
          </a:xfrm>
        </p:grpSpPr>
        <p:sp>
          <p:nvSpPr>
            <p:cNvPr id="386" name=""/>
            <p:cNvSpPr/>
            <p:nvPr/>
          </p:nvSpPr>
          <p:spPr>
            <a:xfrm>
              <a:off x="685800" y="2423160"/>
              <a:ext cx="652320" cy="818280"/>
            </a:xfrm>
            <a:prstGeom prst="rect">
              <a:avLst/>
            </a:pr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38120" y="2362320"/>
              <a:ext cx="183960" cy="879120"/>
            </a:xfrm>
            <a:custGeom>
              <a:avLst/>
              <a:gdLst/>
              <a:ahLst/>
              <a:rect l="l" t="t" r="r" b="b"/>
              <a:pathLst>
                <a:path w="318" h="1209">
                  <a:moveTo>
                    <a:pt x="0" y="90"/>
                  </a:moveTo>
                  <a:lnTo>
                    <a:pt x="0" y="1209"/>
                  </a:lnTo>
                  <a:lnTo>
                    <a:pt x="318" y="1063"/>
                  </a:lnTo>
                  <a:lnTo>
                    <a:pt x="318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7600" y="2362320"/>
              <a:ext cx="834480" cy="65160"/>
            </a:xfrm>
            <a:custGeom>
              <a:avLst/>
              <a:gdLst/>
              <a:ahLst/>
              <a:rect l="l" t="t" r="r" b="b"/>
              <a:pathLst>
                <a:path w="1440" h="90">
                  <a:moveTo>
                    <a:pt x="0" y="90"/>
                  </a:moveTo>
                  <a:lnTo>
                    <a:pt x="1121" y="90"/>
                  </a:lnTo>
                  <a:lnTo>
                    <a:pt x="1440" y="0"/>
                  </a:lnTo>
                  <a:lnTo>
                    <a:pt x="353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4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6553080" y="2666880"/>
            <a:ext cx="990720" cy="3492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4343400" y="2666880"/>
            <a:ext cx="2678040" cy="26784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 rot="18900000">
            <a:off x="9075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8900000">
            <a:off x="18219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8900000">
            <a:off x="222120" y="419976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8900000">
            <a:off x="1202760" y="327744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8900000">
            <a:off x="374040" y="34423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8900000">
            <a:off x="755640" y="253440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2133720"/>
            <a:ext cx="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051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rca Mod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onserva nomb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81080" y="541008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tiro de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38280" y="350532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so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4280" y="5410080"/>
            <a:ext cx="1447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PAÑ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0800000">
            <a:off x="7391520" y="350496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582320" y="3657600"/>
            <a:ext cx="12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nt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24280" y="1523880"/>
            <a:ext cx="4114800" cy="762120"/>
          </a:xfrm>
          <a:prstGeom prst="wedgeRoundRectCallout">
            <a:avLst>
              <a:gd name="adj1" fmla="val -33796"/>
              <a:gd name="adj2" fmla="val 82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ré productos a un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o de su costo de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124080" y="762120"/>
            <a:ext cx="3810240" cy="4876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00600" y="312408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95480" y="60948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0"/>
            <a:ext cx="3809880" cy="487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76920" y="251460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895480" y="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la reducción de costos de proyectos hay que considerar el efecto de la curva de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514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76720" y="29718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14600" y="4724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972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51424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97080" y="281952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95280" y="3962520"/>
            <a:ext cx="12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9200" y="4443480"/>
            <a:ext cx="22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de transferencia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076760" y="1676520"/>
            <a:ext cx="28036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Costo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026680" y="6172200"/>
            <a:ext cx="27957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Producción acumul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94760" y="60199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 KU        225 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26880" y="4222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49800" y="26668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13960" y="434340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6680" y="2666880"/>
            <a:ext cx="32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ini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13680" y="449568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con costo redu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nue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572000" y="480060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342864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estudio MDS mide la percepción de marca en tres dimen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SON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8600" y="1523880"/>
            <a:ext cx="1066680" cy="990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ven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21480" y="579132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548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22188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288560" y="426708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3581280" y="59436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57150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78168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772400" y="4572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5400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8736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2108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1877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6708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7467480" y="53341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6477120" y="46483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7524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6386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el preci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8229240" y="3200400"/>
            <a:ext cx="3049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2971800"/>
            <a:ext cx="3049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las que son influenciadas en distinta magnitud por los diversos atributo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6520" y="2590920"/>
            <a:ext cx="327636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ficaci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15000" y="2590920"/>
            <a:ext cx="312408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flexibilidad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el pes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38880" y="32004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809880" y="3200400"/>
            <a:ext cx="4572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0880" y="1600200"/>
            <a:ext cx="914400" cy="137160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873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708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2108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40080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544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5146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21480" y="4267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733920" y="441936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288560" y="57913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001000" y="5943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uevas decisiones en el perío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5800" y="19051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rtafolio de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bjetivos perceptuales (en escalamiento semántico o escalamiento multidimens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ahora puede ampliar su portafolio al introducir nuevas marca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95296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3190680" cy="32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5715000" y="2590920"/>
            <a:ext cx="9907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Usted también puede modificar marcas 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6629400" cy="3564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1" name=""/>
          <p:cNvSpPr/>
          <p:nvPr/>
        </p:nvSpPr>
        <p:spPr>
          <a:xfrm flipH="1">
            <a:off x="6019560" y="31240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3191040" cy="32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3" name=""/>
          <p:cNvSpPr/>
          <p:nvPr/>
        </p:nvSpPr>
        <p:spPr>
          <a:xfrm>
            <a:off x="7162920" y="3124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010280" y="1676520"/>
            <a:ext cx="19051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ntiene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ismo no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8000640" y="2514600"/>
            <a:ext cx="6858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14600" y="5486400"/>
            <a:ext cx="21337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eleccione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de I &amp;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648320" y="4419360"/>
            <a:ext cx="281916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transmitir el mensaje correcto al mercado, Usted puede fijar objetivos perceptuales para cada una de sus me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6381720" cy="495324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0" y="1676520"/>
            <a:ext cx="236232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sea comun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dimension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DS o escalam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mántic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505320"/>
            <a:ext cx="236232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En cuá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mensiones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unic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5105520"/>
            <a:ext cx="243828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gres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ordenadas del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Usted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canzar en el m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19320" y="3048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4648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3828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iniciar hasta cinco proyectos de I&amp;D por período y por tipo de producto (cinco SONITE y cinco VOD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6076800" cy="45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5324760" cy="2533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1" name=""/>
          <p:cNvSpPr/>
          <p:nvPr/>
        </p:nvSpPr>
        <p:spPr>
          <a:xfrm>
            <a:off x="6934320" y="3809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43600" y="38098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00800" y="16002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aga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tener una est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l costo base mín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y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erido para comple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5943600" y="342900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Usted ahora lo sabe todo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De ahora en adelante, depende de su estrategi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88936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realizan sus decisiones de compra basándose en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us propias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rcepciones de su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12724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446560" cy="2666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66160" y="1600200"/>
            <a:ext cx="31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 percepción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497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4012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3084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215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49760" y="316692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71080" y="317340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3886200"/>
            <a:ext cx="47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ercepción de los clientes sobre las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57913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44197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48769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4800600"/>
            <a:ext cx="99072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56386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4648320"/>
            <a:ext cx="0" cy="19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35960" y="54864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4000" y="43434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Mapa Perceptual” es una valiosa herramienta para visualizar el posicionammiento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905120"/>
            <a:ext cx="49528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267080"/>
            <a:ext cx="495288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9718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54864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1240" y="396864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70360" y="144792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1337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560" y="21337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41148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440" y="4114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30481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7240" y="30481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35053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5840" y="3554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5638680"/>
            <a:ext cx="38088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6240" y="5638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1320" y="541800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2760" y="5418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41008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971800"/>
            <a:ext cx="30456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50292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609588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571500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266688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05740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05740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50532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1981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6720" y="22860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3080" y="25909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9360" y="29718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31160" y="54100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8680" y="56386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3920" y="37339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640" y="502920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9760" y="60199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5880" y="60199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587520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30880" y="538020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unto ideal del seg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32680" y="5764320"/>
            <a:ext cx="26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sición perceptual de las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41160" y="487692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884840"/>
            <a:ext cx="33526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1752480"/>
            <a:ext cx="3581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apa Per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asado en un estudio MDS (</a:t>
            </a: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Escalamiento Multi-Dimensional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251640" y="6491160"/>
            <a:ext cx="57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-10                   0                 10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00" y="2743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90720" y="52959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formas para re-posicionar un marca en Markst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905120"/>
            <a:ext cx="525780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4267080"/>
            <a:ext cx="525780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3048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5334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35053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3048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5334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14600" y="3886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590920" y="32767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4572000"/>
            <a:ext cx="1904760" cy="68580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2971800"/>
            <a:ext cx="2133360" cy="68580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4772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8608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40760" y="6491160"/>
            <a:ext cx="61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708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67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62485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osicionamiento físico involucra tratar de  igualar las características de las marcas a las 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2286000"/>
            <a:ext cx="8001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086600" y="1600200"/>
            <a:ext cx="1868400" cy="11732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1868400" cy="1173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58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2971800"/>
            <a:ext cx="2514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952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238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39243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56768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63626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70484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791320"/>
            <a:ext cx="80010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racterística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114800"/>
            <a:ext cx="990720" cy="990720"/>
          </a:xfrm>
          <a:prstGeom prst="cube">
            <a:avLst>
              <a:gd name="adj" fmla="val 197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8900000">
            <a:off x="305280" y="449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sicionar vía publicidad requiere fijar “Objetivos Perceptu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1905120"/>
            <a:ext cx="541044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1905120"/>
            <a:ext cx="144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4267080"/>
            <a:ext cx="541044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304812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548640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544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344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5053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30481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114800" y="3200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11480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3440" y="4267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88200" y="4267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1132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11320" y="35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1800" y="6491160"/>
            <a:ext cx="62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62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6200" y="2819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81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5840" y="5257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988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28954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6440" y="2895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éxito en I&amp;D involucra pensar con un horizonte de lago plazo e identificar la evolución de oportunidad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18288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66688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38680" y="17524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59092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4648320"/>
            <a:ext cx="0" cy="16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53341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47242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55627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1752480"/>
            <a:ext cx="38916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5720" y="1752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1905120"/>
            <a:ext cx="38916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5320" y="19051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59436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2240" y="5943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16765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33920" y="464832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47242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3240" y="4724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480060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8006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54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858000" y="579096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219320" y="22096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53840" y="3048120"/>
            <a:ext cx="23479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uevo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41880" y="4495680"/>
            <a:ext cx="19134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esión so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ár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73800" y="5943600"/>
            <a:ext cx="28753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mpetidor ent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6920" y="3429000"/>
            <a:ext cx="195912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mbios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e 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8T00:10:55Z</dcterms:created>
  <dc:creator>Marcelo y Tomás Münzenmayer S</dc:creator>
  <dc:description/>
  <dc:language>en-US</dc:language>
  <cp:lastModifiedBy>William Young</cp:lastModifiedBy>
  <cp:lastPrinted>2000-03-10T16:13:12Z</cp:lastPrinted>
  <dcterms:modified xsi:type="dcterms:W3CDTF">2006-10-10T22:42:48Z</dcterms:modified>
  <cp:revision>23</cp:revision>
  <dc:subject/>
  <dc:title>Sin título de diapositiva</dc:title>
</cp:coreProperties>
</file>