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B98C-8DE0-419F-9D1A-E82EBB45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C73C-C0DF-4144-9EF9-6EA5C0AC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3CCD-A864-4EA0-A8E4-36022EA4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C3B4-EFC5-4B77-A3CE-E7027728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CD67-D063-4AFE-B20C-C9008D3E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D481-F9AC-4007-9932-B6EF1463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A2EE-28F5-41B1-B2EB-3D81C2ED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83E0-C32A-4268-A60F-64AA1740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5697-C901-4C29-A917-07FB2D5B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34FB-721A-4FAA-98C1-8EF12AA7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F112-6AA6-47A5-AD0E-5C045D06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44B4-BB26-4C12-A525-01E68ED9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DFDF-69FF-4F92-8EC1-79EFBE263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1B5D-2634-4E8D-A044-440D9D9B9C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ujer4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dinero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GOLF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gente1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gente2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4360" y="37339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68A8-D9F4-4EE7-866D-9974845531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A965-A9E1-4501-98F5-09035B6AE2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edific5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tienda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edific9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mujer4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GOLF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gente2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gente1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dinero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18AE-4DF8-4418-970B-1C0BB3C219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apa3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pc1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Progres2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8FCF-B9C8-4DE3-8BBB-6281126F64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0AE3-5DAD-4D5B-88EF-1205BD0430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rogreso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65164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champan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AC9C-ED4E-4CBE-BD98-C405FC5BE4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norte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D930-36C6-4B0B-B7C2-F1FE705C87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arroc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C46A-F3A2-4ADF-919A-6225EE4A89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bincular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AF4F-D33C-4AC7-B9C0-7814CE4EFB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alanza2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798-D6D8-4B01-850A-EFACB9BB8B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7EF6-9F03-4D75-AE2B-F3853ADE5D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cupado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917-9348-4612-979D-D2AEEC62B4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886200"/>
            <a:ext cx="76176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666880"/>
            <a:ext cx="0" cy="152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15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2205-AD8E-417B-83FB-F96E439A38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9BC-FC57-4F9B-9CEC-DE6558E255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1DOLAR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2B20-E42E-43D1-B5F2-51CEC9A852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454B-A2CD-425E-96D2-D591EE58A28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reunir3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4" name="gente2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5" name="pc1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pc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16B0-7267-4AF4-94F7-C4EE5F6F7FB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F3ED-CD60-4BD3-BA9B-9FE76735A20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echas3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6D0E-35C9-486C-B650-818640954B5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1AD9-0B98-4FB5-96DF-716DAC8EF4B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1D63-68E6-41B7-83D4-2ACBDAC13C7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C9DF-2F35-4012-9688-A7776F2284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5BC-6002-4199-8B35-0E598DA9494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8288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1261-5FF8-474F-AEC2-B2A42D89AC4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A1F1-4836-47D6-B91B-78DDD9E2D1B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64B7-F37B-4912-B03A-F6FBA5628BD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648C-DD1E-4F86-A771-D3017CC0699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EDEC-C679-43EF-907C-BE7AC5667BE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3080" y="2590920"/>
            <a:ext cx="67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e un nombre a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LOJCRO" descr=""/>
          <p:cNvPicPr/>
          <p:nvPr/>
        </p:nvPicPr>
        <p:blipFill>
          <a:blip r:embed="rId1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63CB-482F-469F-B19A-AB993DD2F9C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MERICS2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AMERICN2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6DD2-A98B-4A5F-8B77-1F057152A7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PIDO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90044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RAPID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APIDO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RAPIDO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RAPIDO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82700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DDA7-D742-447E-86B4-1A2D096741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0915-B6F3-4C70-BB38-509C494D2F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5482-CAFA-4A80-93FF-F6E5534868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F35A-CA9F-4368-A27B-0E1971D37F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001D-15E3-4F4C-A2F6-7DFC1A45EC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</cp:lastModifiedBy>
  <cp:lastPrinted>1999-12-21T19:58:19Z</cp:lastPrinted>
  <dcterms:modified xsi:type="dcterms:W3CDTF">2001-10-05T15:44:58Z</dcterms:modified>
  <cp:revision>22</cp:revision>
  <dc:subject/>
  <dc:title>The Markstrat Challenge I</dc:title>
</cp:coreProperties>
</file>