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AA6C-8533-415A-93CE-C8A39F8A7BC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AC78-E3C7-4FBC-9A23-B2675ABE51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2E2E-B94D-43C8-8DDE-4101F4C34DA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8BB2-CFA1-4896-9461-7BD033DDA6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8B8B-556A-4DB3-8E63-DA82BD507D3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799B-0CBA-47BB-9EE1-0AFF2ED562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0793-C211-438D-B93B-C6642EAE01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D127-1D13-4C04-A515-256210FDBD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87E6-59C5-417D-8E04-3265A40131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91D8-E41F-4A51-8C3A-ACF3763A5E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7CBA-85CA-463D-89BD-5695047E7A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2A9E-2AB1-419E-86D7-C4602E22E86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E8EC-3274-416E-9A3F-A7B7234667D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C656-54A4-45BA-8E16-9BBCBF4C5C0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B0CC-5FC8-4C21-B9C7-EF4378CBA4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EE97-F9C0-495C-9889-7407E8DF148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8193-C631-482E-9FBD-6F724464D4C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4C67-AF31-48F2-9CAA-9330B260EAF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F0BF-403B-4C85-B401-6B33933EFA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D8E3-229D-4A0E-A976-0CDAB77EBF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2CE5-75FE-46FA-80E4-497AA04F28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B78B-3DD5-4827-B201-E4062EA33F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DE0F-58E0-4072-A1C2-2CC1E4115D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9392-A003-48E9-877C-F3AB4B75AD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577A-F6C5-42D3-A7B2-60D5618707A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FD8D-BAC6-4EF4-8BA7-55F47803D6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5BCF-CEFD-43D3-9C38-EFE8B6D6E1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40D0-CD58-4C03-8616-117D5959085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8845-36FB-42AD-B261-8C3EAFB668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D01BC-793D-42E3-B941-225E9243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31271-5C63-4F43-9E7E-547C2B2B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980EC-AA11-4EAE-B9BE-2B702E32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38AA-A685-42C7-BEE2-CCA1BB09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7659-7C59-435F-9855-BFB11662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F932-22D8-41C4-AF48-62DB3417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E0A6-AD6A-4CEA-B568-54666145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BAB0-782F-4F31-B7A6-7D26F9DB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44EC-935C-4D9A-9C06-85A17F3F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63E2-25AC-45CD-8BCC-267AAD58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3863-4B78-4B72-A139-8EC7F9FF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CACB3-C2E7-498A-AC4F-7E64E6D0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54C3-3201-4E81-A4B7-F6D34E98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5DA0-9F58-4589-BDBE-989B6888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1DFE-4192-4575-BF47-6C4B02CB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7B51-1A0F-48CB-B2E0-D31F749A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6DB3-4C16-47BE-A070-C93E1BF8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A055B-4AA3-42D4-BD83-B2A05E54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9138-759F-4119-8015-CDE0E8D8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BF0A3-8B89-4214-9FD1-3A82F11B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94B6C-C4BD-45E7-B9FE-0F09CCA7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EE1CE-1CCC-419B-B48B-EF6521B8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5C691-B746-4263-905F-5C96B158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CD14A-0D28-4C3D-837E-784ECA13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D3E6-764E-4EE2-9F5A-D1B5E7994F7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6592-D6FE-4DE7-9669-4BDB255ECB8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35592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200" spc="-1" strike="noStrike">
                <a:solidFill>
                  <a:srgbClr val="ffff99"/>
                </a:solidFill>
                <a:latin typeface="Arial"/>
              </a:rPr>
              <a:t>PRODUCTO</a:t>
            </a:r>
            <a:r>
              <a:rPr b="1" lang="es-MX" sz="4800" spc="-1" strike="noStrike">
                <a:solidFill>
                  <a:srgbClr val="ff66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7C6C-3E64-48C9-B190-8975B6AD369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Vacas Lecher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t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de crecimiento l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n más efectivo del que necesitan para su crecimiento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eden usarse para crear o desarrollar otros negocio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árgenes de utilidad alto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Perr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j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de crecimiento l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eden generar pocas utilidades o a veces pérdida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mente deben ser reestructuradas o eliminad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6D42-0FAC-4E9E-8B1D-D3EF836BEB5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“Ley” de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oston Consult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7B00-1E6E-4AC5-BA88-B21555DE465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ey de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eriencia=volumen acumulado de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 experiencia =  costos valor agre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 en valor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xperiencia es mas importante en el arran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0802-D82B-4431-A5D9-F31E96D7CC8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usas del efecto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iciencia del Trabaj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nda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os procedimientos de fabr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joras en recursos utili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eño d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AB90-02FD-4E0E-89A4-781D46F710B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ormulación Matemá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 *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Q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**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p= Costo unitario prev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b = Costo unitari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 = Volumen acumulado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= elasticidad del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1581-2597-4683-BDC8-3E651CC6CB7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Object 2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3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4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4AFC-2B25-40DF-B203-4CB77ADB50A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lica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mpresa que acumula la mayor producción tendrá los costos men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mpresas tienen interés en desarrollarse para descender lo más rápidamente posible por la curva de exper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bjetivo es crecer más rápido que l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almente al princi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s de Pene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56D5-792C-464D-8A8C-7526EECB2B2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ím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a predictibilidad en Productos de poco valor agre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considera la diferen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mbios tecn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07840" y="4332240"/>
            <a:ext cx="7986960" cy="42300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confundir experiencia con economía de escal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oría de la difusión de productos nuev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1614-CA7E-4669-B771-80DC83D0EEF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Teoría de la difusión de productos nue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Cómo un producto nuevo es asimilado en la sociedad en el tiemp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iempo de adopción de Ro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uatro “proposicion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” acerca del proceso de adop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C794-33AD-490D-AA9E-25501DC3561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ES UN PRODU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ES LO QUE VENDE LA EMPRE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N QUÉ NEGOCIO EST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50D2-6D28-471A-AE8B-11AEE637D10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1-  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ETAPAS EN EL PROCESO DE ADOP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4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E695-66AF-4C8F-BED1-EE0A391BFCA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Las personas difieren en su tendencia a probar productos nue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nco gru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OPTADORES TEMPRAN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ORÍA TEMP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ORÍA TAR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ZAG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736E-9FF6-4B80-9E35-52EEBC44EFB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2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3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Freeform 7"/>
          <p:cNvSpPr/>
          <p:nvPr/>
        </p:nvSpPr>
        <p:spPr>
          <a:xfrm>
            <a:off x="363600" y="853920"/>
            <a:ext cx="8170920" cy="28036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12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99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2,5%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34,5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ayoria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tempran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13,5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daptadores tempraner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ayoria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tardí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16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retrasad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C881-E98E-4182-89F7-C1078FED8EE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772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6276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LGUNAS CARACTERISTICAS LOS INNOV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ISTICA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ducación, ingreso, nivel de vida están correlacionados positiv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 existe correlación con la e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TU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itud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sitiva al camb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spiraciones educ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tivación por los log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LACIONE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ida social ac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a exposición a los medios de comuni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viación de las normas so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ticipación en actividades sociales de gru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228600" y="34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73E8-22C7-406D-86E9-CB1C5A505F2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3-Influencia de otras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íderes de opinión: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importantes en la etapa de adop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4-Características del producto que pueden modificar la tasa de velocidad  a la que se desarrolla el proceso de ado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Ventajas rel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Beneficios de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sibilidad de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6AA1-0BA9-452B-A0AD-519CD8F3904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DELOS DE VENTAS DE NUEVOS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DIFUSIÓN O DE PRIMERA COMP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COMPRA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EDFB-6246-4C2E-8F18-2DD59E47B36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S DE DIFUS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MODELO DE B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o de los modelos de difusión más cono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el de B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99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Times New Roman"/>
              </a:rPr>
              <a:t>ADOPT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Times New Roman"/>
              </a:rPr>
              <a:t>POTENCIAL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AutoShape 8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10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11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4420-0626-4116-B062-D3C991AA5C5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B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76280" y="2060280"/>
            <a:ext cx="812808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uma de efectos de “innovadores” e “imitadores” los expresa Bass con la siguiente ecu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1" lang="es-ES_tradnl" sz="1500" spc="-1" strike="noStrike">
                <a:solidFill>
                  <a:srgbClr val="666699"/>
                </a:solidFill>
                <a:latin typeface="Bookman Old Style"/>
              </a:rPr>
              <a:t>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: Ventas del periodo 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15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: Ventas acumuladas previas al periodo 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 : Mercado potenc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 : Coeficiente de innov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q : Coeficiente de imit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114E-895C-4AD0-8267-0F0B821917E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5680" y="545760"/>
            <a:ext cx="762984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entas (t) = p (O - Vt ) + q Vt (O - Vt ) / 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 = 0.04  q = 0.6  O = 5000   O: Mercado Potencial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: Coeficiente de innovación q:  Coeficiente de imi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3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4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B68F-353D-4456-8BCB-9220D8BF768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ún Charles Revson , presidente de la empresa de cosmética Revl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666699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LA FÁBRICA HACEMOS COSMÉTICOS; EN LA TIENDA, VENDEMOS ESPERANZA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CONSUMIDORES NO COMPRAN PRODUCTOS; ADQUIEREN LA ESPERANZA DE CONSEGUIR BENEFIC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CB57-C208-449C-B8F9-92C246E1AEA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 AUMEN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ASPECTOS AÑADID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Producto “aumentado”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9999cc"/>
          </a:solidFill>
          <a:ln w="1260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8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9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1" lang="es-ES_tradnl" sz="1400" spc="-1" strike="noStrike">
                <a:solidFill>
                  <a:srgbClr val="00007d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1899720" y="5127480"/>
            <a:ext cx="465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Servicio posventa                          Financiació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2"/>
          <p:cNvSpPr/>
          <p:nvPr/>
        </p:nvSpPr>
        <p:spPr>
          <a:xfrm rot="5400000">
            <a:off x="-254160" y="3785760"/>
            <a:ext cx="3307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Entrega                         Garantí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3"/>
          <p:cNvSpPr/>
          <p:nvPr/>
        </p:nvSpPr>
        <p:spPr>
          <a:xfrm rot="16200000">
            <a:off x="6226560" y="3001680"/>
            <a:ext cx="363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7d"/>
                </a:solidFill>
                <a:latin typeface="Times New Roman"/>
              </a:rPr>
              <a:t>Instalación</a:t>
            </a: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             Mantenimiento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167800" y="5772240"/>
            <a:ext cx="2889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DD23-A6B3-4997-9FE4-BEE7FAD318B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alud de LP de muchas compañías está relacionada con su capacidad de 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sa y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6886-8DA2-499D-9CC2-0F8DF1DD70B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ficultad del Desarrollo de Productos nue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gmentación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VP más 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8A6B-B925-4025-BB73-E15D1B6293D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etidores (Benchmar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presentante de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os (consultores, agencias, laboratorios universita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Fuente de Generación 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F60A-033F-4BAB-82A3-977E29A9599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Object 2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3"/>
          <p:cNvSpPr/>
          <p:nvPr/>
        </p:nvSpPr>
        <p:spPr>
          <a:xfrm>
            <a:off x="497160" y="4111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7E78-8C77-4D6C-9FAD-7FDFCCEA894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Estrell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ta participación relativa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 de alto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andes cantidades de efectivo para financiar el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tilidades significativa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Signos de Interrog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j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creciendo rápidamente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an grandes cantidades de efectivo para financiar su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dores débiles de efectiv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empresa debe evaluar si sigue invirtiendo en éste negoci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 Young</cp:lastModifiedBy>
  <dcterms:modified xsi:type="dcterms:W3CDTF">2009-04-27T19:54:12Z</dcterms:modified>
  <cp:revision>409</cp:revision>
  <dc:subject/>
  <dc:title>77n</dc:title>
</cp:coreProperties>
</file>