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74B6-7E56-4053-AF42-997F0D75C70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D374-FAB2-46BA-B4D8-4B0B22E9167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0D67-05C7-493B-A158-62DE0E73CF5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584C-E4E1-4947-BB77-B2C9FA11C97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DEDE-3FB9-4099-9304-387739AE7C1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C67B-FDAD-4A91-B43A-DD7317E6E58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8DDF-187A-42CB-A26D-F99C905B341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6E67-0903-4ACD-A639-BA04BC0F312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CF5D-8421-47B3-B3B1-454B02C7915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8F04-BA66-42D6-A448-E49CBA9FA11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CDD8-0786-4777-8202-58D376FC76D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BFD8-4501-4E22-B06F-7049091EABB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CE14-DE36-4899-A05E-CF3B848A3FB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BCAE-BDF9-445F-940B-770BE251A70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5426-ABF6-44A3-8F22-B66461F7B6F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D36B-BC5E-4F77-8C79-CA5DBC6CC7A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810F-098B-43F9-903D-6918484A8DF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A322-27C7-46D1-A98C-F320427CA30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60C7-2F7B-47FA-A3B1-0349CF7CECB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AADB-CC9B-45F1-ACE1-9B8AF9B8521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7559-39A7-4135-9E40-634442337F2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EBAD-63B3-4B78-AA28-46457F428E7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083B-6FBE-4A1C-8EE6-A6614B9B758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9377-E6AC-415A-81B1-6028FDF2571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6EBE-D65D-455D-B078-EEA77141BDA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FDE7E-CAA6-4534-9E9E-0186FE0766F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2590-F029-4225-A5DD-991F7F5EE12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3162-B33F-4A09-801B-52546978EA8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8DD4-9BC9-469C-BF93-623730E5B5C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EC427-2F41-44B2-8477-090B1A3DE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DCA68-D6B4-48F6-8938-B86A091E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52DDA-C853-4560-A378-03720893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1B3A3-C166-45C4-BA6D-368E22332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C5B0-C411-422F-815E-7D484C50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CF49-BA3A-4D69-A218-6073EB0C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047B-5B15-434B-A7DA-48E96707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B205-62DA-48F8-99BF-D3CDF484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F8FA-050F-4FAF-8842-169B6EF2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313B-06FE-4088-8DD5-4FEF73B6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8BAC-3544-41A0-9C0F-EA5B69E7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3634D-1FF5-42F8-8DC9-CDB1C5FA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B993C-9F91-49FC-B4E9-B856BFB3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8EBF-C7B2-4E04-B12F-DCC5BD6B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7111-AB81-4B93-96BA-6D9DC48A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F5A5-C022-4D5E-8515-F00142D0C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A98F-305B-4D6E-9785-2440E3A1F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B14A3-EC28-4922-A041-3386A648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B0B21-1AC9-4D29-885A-127FC25F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6BA12-E97D-4E5A-81D1-199A459D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6FF62-9799-43EB-AD4D-D773CCB8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5FF1D-FA44-4A2A-8D27-3EBFBAC1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F25BE-C896-4B6F-8DF8-9F1A004A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025A4-EDEC-4957-9ADE-3D30CC7F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5C64-CA2A-4C9D-8E42-780C653AB44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D7B6-71EB-494F-87A3-C073E68DAC2E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3355920" y="2895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200" spc="-1" strike="noStrike">
                <a:solidFill>
                  <a:srgbClr val="ffff99"/>
                </a:solidFill>
                <a:latin typeface="Arial"/>
              </a:rPr>
              <a:t>PRODUCTO</a:t>
            </a:r>
            <a:r>
              <a:rPr b="1" lang="es-MX" sz="4800" spc="-1" strike="noStrike">
                <a:solidFill>
                  <a:srgbClr val="ff66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F4B7-3D22-465F-AA33-A2C25FB683C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914400"/>
            <a:ext cx="9144000" cy="56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7000"/>
                </a:solidFill>
                <a:latin typeface="Arial"/>
                <a:ea typeface="Times New Roman"/>
              </a:rPr>
              <a:t>Vacas Lecher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ta participación en el mercad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rcados de crecimiento lent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n más efectivo del que necesitan para su crecimiento en el mercad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eden usarse para crear o desarrollar otros negocios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árgenes de utilidad altos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7000"/>
                </a:solidFill>
                <a:latin typeface="Arial"/>
                <a:ea typeface="Times New Roman"/>
              </a:rPr>
              <a:t>Perr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ja participación en el mercad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rcados de crecimiento lent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ueden generar pocas utilidades o a veces pérdidas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mente deben ser reestructuradas o eliminada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Verdana"/>
              </a:rPr>
              <a:t>Manejo de la cartera de produc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C1C7-8742-4220-9AAE-1020A986CE4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a “Ley” de Experi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oston Consulting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costo unitario del valor añadido de un producto homogéneo, medido en unidades monetarias constantes disminuye en un porcentaje fijo y previsible cada vez que la producción acumulada se dupl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C50B-F154-411A-B8D4-1E6A7B6BC38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ey de Experi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periencia=volumen acumulado de     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fecto experiencia =  costos valor agreg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sto en valor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xperiencia es mas importante en el arran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4F9A-6D3D-473A-A3EF-B637A546529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ausas del efecto Experi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ficiencia del Trabaj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andar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evos procedimientos de fabr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joras en recursos utiliz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diseño del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75D6-68B7-450B-8D26-68181417712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Formulación Matemá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 =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 *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/Q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**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p= Costo unitario previ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b = Costo unitario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Q = Volumen acumulado de 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Char char="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= elasticidad del co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9F59-BEAD-4C9D-AE05-D42DA35817F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1" name="Object 2"/>
          <p:cNvGraphicFramePr/>
          <p:nvPr/>
        </p:nvGraphicFramePr>
        <p:xfrm>
          <a:off x="0" y="0"/>
          <a:ext cx="91440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Rectangle 3"/>
          <p:cNvSpPr/>
          <p:nvPr/>
        </p:nvSpPr>
        <p:spPr>
          <a:xfrm>
            <a:off x="6172200" y="1981080"/>
            <a:ext cx="18288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 =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-0,51457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Line 4"/>
          <p:cNvSpPr/>
          <p:nvPr/>
        </p:nvSpPr>
        <p:spPr>
          <a:xfrm flipH="1">
            <a:off x="6324120" y="2514600"/>
            <a:ext cx="22860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5323320" y="976320"/>
            <a:ext cx="221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endiente de experienc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0,70 (Cp/Cb)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E2F9-850A-4D65-9964-F194AFE618D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Implica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mpresa que acumula la mayor producción tendrá los costos men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empresas tienen interés en desarrollarse para descender lo más rápidamente posible por la curva de experi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objetivo es crecer más rápido que los compet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pecialmente al princi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ategias de Pene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9E22-E308-45C2-B296-96DDF49F6DE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ím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ja predictibilidad en Productos de poco valor agreg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considera la diferenci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mbios tecn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07840" y="4332240"/>
            <a:ext cx="7986960" cy="42300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 confundir experiencia con economía de escala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ffffff"/>
                </a:solidFill>
                <a:latin typeface="Arial"/>
              </a:rPr>
              <a:t>Teoría de la difusión de productos nuev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AF84-4D1E-4597-9F71-4B9619345DED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Teoría de la difusión de productos nue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Cómo un producto nuevo es asimilado en la sociedad en el tiemp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iempo de adopción de Ro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uatro “proposicion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” acerca del proceso de adop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D9CC-33F8-44E9-B0E7-C9014B70A987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ES UN PRODUC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ES LO QUE VENDE LA EMPRES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1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EN QUÉ NEGOCIO ESTÁ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64C0-FE19-4B2A-9A57-0EB454B113E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960" y="2209320"/>
            <a:ext cx="3429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 u="sng">
                <a:solidFill>
                  <a:srgbClr val="000000"/>
                </a:solidFill>
                <a:uFillTx/>
                <a:latin typeface="Arial"/>
              </a:rPr>
              <a:t>1-  </a:t>
            </a: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ETAPAS EN EL PROCESO DE ADOP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3"/>
          <p:cNvGraphicFramePr/>
          <p:nvPr/>
        </p:nvGraphicFramePr>
        <p:xfrm>
          <a:off x="4673520" y="152280"/>
          <a:ext cx="4246560" cy="631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3520" y="152280"/>
                    <a:ext cx="4246560" cy="631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Rectangle 4"/>
          <p:cNvSpPr/>
          <p:nvPr/>
        </p:nvSpPr>
        <p:spPr>
          <a:xfrm>
            <a:off x="228600" y="3049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roposicione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F6E4-16BA-462B-A263-00E10E9320E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oposi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2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Las personas difieren en su tendencia a probar productos nue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inco gru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NOV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OPTADORES TEMPRAN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YORÍA TEMPR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YORÍA TAR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ZAG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9297-B5F3-4EC5-9D54-AB284B7C9F12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Line 2"/>
          <p:cNvSpPr/>
          <p:nvPr/>
        </p:nvSpPr>
        <p:spPr>
          <a:xfrm>
            <a:off x="380880" y="419112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Line 3"/>
          <p:cNvSpPr/>
          <p:nvPr/>
        </p:nvSpPr>
        <p:spPr>
          <a:xfrm>
            <a:off x="1371600" y="33526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2666880" y="24382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5638680" y="2705040"/>
            <a:ext cx="0" cy="1486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Line 6"/>
          <p:cNvSpPr/>
          <p:nvPr/>
        </p:nvSpPr>
        <p:spPr>
          <a:xfrm>
            <a:off x="3962520" y="99072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Freeform 7"/>
          <p:cNvSpPr/>
          <p:nvPr/>
        </p:nvSpPr>
        <p:spPr>
          <a:xfrm>
            <a:off x="363600" y="853920"/>
            <a:ext cx="8170920" cy="280368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Line 8"/>
          <p:cNvSpPr/>
          <p:nvPr/>
        </p:nvSpPr>
        <p:spPr>
          <a:xfrm>
            <a:off x="914400" y="3657600"/>
            <a:ext cx="228600" cy="16765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9"/>
          <p:cNvSpPr/>
          <p:nvPr/>
        </p:nvSpPr>
        <p:spPr>
          <a:xfrm>
            <a:off x="1523880" y="2286000"/>
            <a:ext cx="533520" cy="1447920"/>
          </a:xfrm>
          <a:prstGeom prst="line">
            <a:avLst/>
          </a:prstGeom>
          <a:ln w="3816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Line 10"/>
          <p:cNvSpPr/>
          <p:nvPr/>
        </p:nvSpPr>
        <p:spPr>
          <a:xfrm>
            <a:off x="3276720" y="3200400"/>
            <a:ext cx="304560" cy="1752480"/>
          </a:xfrm>
          <a:prstGeom prst="line">
            <a:avLst/>
          </a:prstGeom>
          <a:ln w="38160">
            <a:solidFill>
              <a:srgbClr val="2fa3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Line 11"/>
          <p:cNvSpPr/>
          <p:nvPr/>
        </p:nvSpPr>
        <p:spPr>
          <a:xfrm>
            <a:off x="6172200" y="3581280"/>
            <a:ext cx="685800" cy="17528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12"/>
          <p:cNvSpPr/>
          <p:nvPr/>
        </p:nvSpPr>
        <p:spPr>
          <a:xfrm flipH="1">
            <a:off x="4723920" y="1219320"/>
            <a:ext cx="762120" cy="1143000"/>
          </a:xfrm>
          <a:prstGeom prst="line">
            <a:avLst/>
          </a:prstGeom>
          <a:ln w="38160">
            <a:solidFill>
              <a:srgbClr val="99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-228600" y="533412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2,5%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innovador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2666880" y="5181480"/>
            <a:ext cx="289584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34,5%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mayoria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temprana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15"/>
          <p:cNvSpPr/>
          <p:nvPr/>
        </p:nvSpPr>
        <p:spPr>
          <a:xfrm>
            <a:off x="380880" y="1371600"/>
            <a:ext cx="2895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13,5%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adaptadores tempraner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5638680" y="609480"/>
            <a:ext cx="28958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mayoria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tardía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17"/>
          <p:cNvSpPr/>
          <p:nvPr/>
        </p:nvSpPr>
        <p:spPr>
          <a:xfrm>
            <a:off x="5791320" y="5486400"/>
            <a:ext cx="28954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16%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retrasad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A453-5DD2-458A-B5A2-D3AECF6AF632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920" y="772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76276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LGUNAS CARACTERISTICAS LOS INNOV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RACTERISTICAS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ducación, ingreso, nivel de vida están correlacionados positiva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o existe correlación con la e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TU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ctitud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ositiva al camb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spiraciones educacion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otivación por los log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LACIONES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ida social activ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lta exposición a los medios de comunic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sviación de las normas soci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articipación en actividades sociales de grup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228600" y="3412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roposicione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0A07-0A63-4204-BC1F-AF4FD3BCFD4C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roposi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4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3-Influencia de otras pers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íderes de opinión: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 importantes en la etapa de adop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4-Características del producto que pueden modificar la tasa de velocidad  a la que se desarrolla el proceso de ado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mplej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Ventajas rel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Beneficios de corto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osibilidad de 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79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ivi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20D1-C694-4DE7-A813-2CE37CBB5B6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ODELOS DE VENTAS DE NUEVOS PRODU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83920" y="220968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OS DE DIFUSIÓN O DE PRIMERA COMP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OS DE COMPRA REPETI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5B41-ECC0-4983-98F0-B4BDB22706A2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87320" y="26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DELOS DE DIFUSIÓ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MODELO DE B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84280" y="1371240"/>
            <a:ext cx="825480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o de los modelos de difusión más conoc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el de B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3462480" y="2405160"/>
            <a:ext cx="2625480" cy="733320"/>
          </a:xfrm>
          <a:prstGeom prst="rect">
            <a:avLst/>
          </a:prstGeom>
          <a:solidFill>
            <a:srgbClr val="99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6699"/>
                </a:solidFill>
                <a:latin typeface="Times New Roman"/>
              </a:rPr>
              <a:t>ADOPTADOR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6699"/>
                </a:solidFill>
                <a:latin typeface="Times New Roman"/>
              </a:rPr>
              <a:t>POTENCIAL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1125360" y="3490920"/>
            <a:ext cx="2524320" cy="7333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NNOVADOR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6019920" y="3505320"/>
            <a:ext cx="2523960" cy="733320"/>
          </a:xfrm>
          <a:prstGeom prst="rect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IMITADOR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Oval 7"/>
          <p:cNvSpPr/>
          <p:nvPr/>
        </p:nvSpPr>
        <p:spPr>
          <a:xfrm>
            <a:off x="685800" y="4648320"/>
            <a:ext cx="3438360" cy="101916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EDIO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UNICACIÓN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INFLUENCIA EXTERNA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AutoShape 8"/>
          <p:cNvSpPr/>
          <p:nvPr/>
        </p:nvSpPr>
        <p:spPr>
          <a:xfrm flipH="1" rot="5520000">
            <a:off x="2180520" y="4219200"/>
            <a:ext cx="447480" cy="390600"/>
          </a:xfrm>
          <a:prstGeom prst="rightArrow">
            <a:avLst>
              <a:gd name="adj1" fmla="val 75000"/>
              <a:gd name="adj2" fmla="val 61763"/>
            </a:avLst>
          </a:prstGeom>
          <a:solidFill>
            <a:srgbClr val="00007d"/>
          </a:solidFill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Oval 9"/>
          <p:cNvSpPr/>
          <p:nvPr/>
        </p:nvSpPr>
        <p:spPr>
          <a:xfrm>
            <a:off x="5502240" y="4648320"/>
            <a:ext cx="3641760" cy="1133280"/>
          </a:xfrm>
          <a:prstGeom prst="ellipse">
            <a:avLst/>
          </a:prstGeom>
          <a:solidFill>
            <a:srgbClr val="7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UNICACIÓN VERBAL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LOS QUE YA HAN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DOPTADO EL PRODUCTO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INFLUENCIA INTERNA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10"/>
          <p:cNvSpPr/>
          <p:nvPr/>
        </p:nvSpPr>
        <p:spPr>
          <a:xfrm flipH="1" rot="4980000">
            <a:off x="6981480" y="4218840"/>
            <a:ext cx="447480" cy="390600"/>
          </a:xfrm>
          <a:prstGeom prst="rightArrow">
            <a:avLst>
              <a:gd name="adj1" fmla="val 75000"/>
              <a:gd name="adj2" fmla="val 65937"/>
            </a:avLst>
          </a:prstGeom>
          <a:solidFill>
            <a:srgbClr val="00007d"/>
          </a:solidFill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Line 11"/>
          <p:cNvSpPr/>
          <p:nvPr/>
        </p:nvSpPr>
        <p:spPr>
          <a:xfrm flipV="1">
            <a:off x="2235240" y="2795400"/>
            <a:ext cx="0" cy="69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2243160" y="2800440"/>
            <a:ext cx="120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Line 13"/>
          <p:cNvSpPr/>
          <p:nvPr/>
        </p:nvSpPr>
        <p:spPr>
          <a:xfrm>
            <a:off x="6103800" y="2800440"/>
            <a:ext cx="110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Line 14"/>
          <p:cNvSpPr/>
          <p:nvPr/>
        </p:nvSpPr>
        <p:spPr>
          <a:xfrm>
            <a:off x="7213680" y="2805120"/>
            <a:ext cx="0" cy="67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AutoShape 15"/>
          <p:cNvSpPr/>
          <p:nvPr/>
        </p:nvSpPr>
        <p:spPr>
          <a:xfrm>
            <a:off x="3665520" y="3719520"/>
            <a:ext cx="2422440" cy="219240"/>
          </a:xfrm>
          <a:prstGeom prst="rightArrow">
            <a:avLst>
              <a:gd name="adj1" fmla="val 75000"/>
              <a:gd name="adj2" fmla="val 552514"/>
            </a:avLst>
          </a:prstGeom>
          <a:solidFill>
            <a:srgbClr val="00007d"/>
          </a:solidFill>
          <a:ln w="1260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16"/>
          <p:cNvSpPr/>
          <p:nvPr/>
        </p:nvSpPr>
        <p:spPr>
          <a:xfrm>
            <a:off x="4192200" y="3429000"/>
            <a:ext cx="106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nfluenc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DC33-E70D-478A-98ED-28B764D75B6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 DE B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76280" y="2060280"/>
            <a:ext cx="8128080" cy="432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suma de efectos de “innovadores” e “imitadores” los expresa Bass con la siguiente ecu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v</a:t>
            </a:r>
            <a:r>
              <a:rPr b="1" lang="es-ES_tradnl" sz="26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=p (M - V</a:t>
            </a:r>
            <a:r>
              <a:rPr b="1" lang="es-ES_tradnl" sz="26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)+ q (V</a:t>
            </a:r>
            <a:r>
              <a:rPr b="1" lang="es-ES_tradnl" sz="2600" spc="-1" strike="noStrike" baseline="-25000">
                <a:solidFill>
                  <a:srgbClr val="000000"/>
                </a:solidFill>
                <a:latin typeface="Bookman Old Style"/>
              </a:rPr>
              <a:t>t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 /M)(M - V</a:t>
            </a:r>
            <a:r>
              <a:rPr b="1" lang="es-ES_tradnl" sz="2600" spc="-1" strike="noStrike" baseline="-25000">
                <a:solidFill>
                  <a:srgbClr val="000000"/>
                </a:solidFill>
                <a:latin typeface="Bookman Old Style"/>
              </a:rPr>
              <a:t>t </a:t>
            </a:r>
            <a:r>
              <a:rPr b="1" lang="es-ES_tradnl" sz="26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Arial"/>
              </a:rPr>
              <a:t>Con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Bookman Old Style"/>
              </a:rPr>
              <a:t>vt</a:t>
            </a:r>
            <a:r>
              <a:rPr b="1" lang="es-ES_tradnl" sz="1500" spc="-1" strike="noStrike">
                <a:solidFill>
                  <a:srgbClr val="666699"/>
                </a:solidFill>
                <a:latin typeface="Bookman Old Style"/>
              </a:rPr>
              <a:t> 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: Ventas del periodo 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_tradnl" sz="15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: Ventas acumuladas previas al periodo 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M : Mercado potencia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p : Coeficiente de innovació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q : Coeficiente de imitació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4259-ED1D-4CF3-8776-91CA5490F3D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85680" y="545760"/>
            <a:ext cx="762984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entas (t) = p (O - Vt ) + q Vt (O - Vt ) / O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 = 0.04  q = 0.6  O = 5000   O: Mercado Potencial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: Coeficiente de innovación q:  Coeficiente de imi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3"/>
          <p:cNvGraphicFramePr/>
          <p:nvPr/>
        </p:nvGraphicFramePr>
        <p:xfrm>
          <a:off x="136440" y="1492200"/>
          <a:ext cx="8821800" cy="530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1492200"/>
                    <a:ext cx="8821800" cy="530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4"/>
          <p:cNvSpPr/>
          <p:nvPr/>
        </p:nvSpPr>
        <p:spPr>
          <a:xfrm>
            <a:off x="7958160" y="4613400"/>
            <a:ext cx="93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428040" y="2155680"/>
            <a:ext cx="85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AED7-7BC6-4ED1-B7CA-4B75A2C02EC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gún Charles Revson , presidente de la empresa de cosmética Revl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6699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666699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LA FÁBRICA HACEMOS COSMÉTICOS; EN LA TIENDA, VENDEMOS ESPERANZA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CONSUMIDORES NO COMPRAN PRODUCTOS; ADQUIEREN LA ESPERANZA DE CONSEGUIR BENEFICI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46DE-52EE-4D1A-9388-5125225BA6A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DUCTO AUMEN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609480" y="1219320"/>
            <a:ext cx="7891560" cy="43383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049200" y="1371600"/>
            <a:ext cx="2661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d"/>
                </a:solidFill>
                <a:latin typeface="Times New Roman"/>
              </a:rPr>
              <a:t>ASPECTOS AÑADIDO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d"/>
                </a:solidFill>
                <a:latin typeface="Times New Roman"/>
              </a:rPr>
              <a:t>Producto “aumentado”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905120" y="2133720"/>
            <a:ext cx="5572080" cy="2619360"/>
          </a:xfrm>
          <a:prstGeom prst="rect">
            <a:avLst/>
          </a:prstGeom>
          <a:solidFill>
            <a:srgbClr val="9999cc"/>
          </a:solidFill>
          <a:ln w="1260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276720" y="3200400"/>
            <a:ext cx="2590560" cy="73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BENEFICIO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BÁSICO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435120" y="2286000"/>
            <a:ext cx="26625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ASPECTOS FORMAL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Producto “intangible”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99"/>
                </a:solidFill>
                <a:latin typeface="Verdana"/>
              </a:rPr>
              <a:t>          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Calida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8"/>
          <p:cNvSpPr/>
          <p:nvPr/>
        </p:nvSpPr>
        <p:spPr>
          <a:xfrm rot="5400000">
            <a:off x="2247120" y="3514320"/>
            <a:ext cx="73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Marca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9"/>
          <p:cNvSpPr/>
          <p:nvPr/>
        </p:nvSpPr>
        <p:spPr>
          <a:xfrm rot="16200000">
            <a:off x="5921640" y="3492720"/>
            <a:ext cx="803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nvas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3724920" y="4267080"/>
            <a:ext cx="1325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Estilo</a:t>
            </a:r>
            <a:r>
              <a:rPr b="1" lang="es-ES_tradnl" sz="1400" spc="-1" strike="noStrike">
                <a:solidFill>
                  <a:srgbClr val="00007d"/>
                </a:solidFill>
                <a:latin typeface="Times New Roman"/>
              </a:rPr>
              <a:t>/</a:t>
            </a:r>
            <a:r>
              <a:rPr b="1" lang="es-ES_tradnl" sz="1400" spc="-1" strike="noStrike">
                <a:solidFill>
                  <a:srgbClr val="ffff99"/>
                </a:solidFill>
                <a:latin typeface="Verdana"/>
              </a:rPr>
              <a:t>Diseño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1899720" y="5127480"/>
            <a:ext cx="4655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d"/>
                </a:solidFill>
                <a:latin typeface="Times New Roman"/>
              </a:rPr>
              <a:t>Servicio posventa                          Financiació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12"/>
          <p:cNvSpPr/>
          <p:nvPr/>
        </p:nvSpPr>
        <p:spPr>
          <a:xfrm rot="5400000">
            <a:off x="-254160" y="3785760"/>
            <a:ext cx="3307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d"/>
                </a:solidFill>
                <a:latin typeface="Times New Roman"/>
              </a:rPr>
              <a:t>Entrega                         Garantía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13"/>
          <p:cNvSpPr/>
          <p:nvPr/>
        </p:nvSpPr>
        <p:spPr>
          <a:xfrm rot="16200000">
            <a:off x="6226560" y="3001680"/>
            <a:ext cx="3637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7d"/>
                </a:solidFill>
                <a:latin typeface="Times New Roman"/>
              </a:rPr>
              <a:t>Instalación</a:t>
            </a:r>
            <a:r>
              <a:rPr b="1" lang="es-ES_tradnl" sz="1800" spc="-1" strike="noStrike">
                <a:solidFill>
                  <a:srgbClr val="00007d"/>
                </a:solidFill>
                <a:latin typeface="Times New Roman"/>
              </a:rPr>
              <a:t>             Mantenimiento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5167800" y="5772240"/>
            <a:ext cx="2889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Fuente: adaptado Philip Kotler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6D34-F568-48AD-A3A3-EC619F40E7F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salud de LP de muchas compañías está relacionada con su capacidad de inno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iesgosa y cost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07F7-4B5B-48B7-92D9-FEC40A85563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SARROLLO DE PRODU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ficultad del Desarrollo de Productos nuev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ragmentación mer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tricciones so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tricciones guberna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VP más co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4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CC01-C32F-4564-AACB-83E8F790936C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9044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petidores (Benchmark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presentante de V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re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tros (consultores, agencias, laboratorios universitari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Fuente de Generación 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Id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AB9B-92F2-4290-8F8F-60662E15525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Object 2"/>
          <p:cNvGraphicFramePr/>
          <p:nvPr/>
        </p:nvGraphicFramePr>
        <p:xfrm>
          <a:off x="76320" y="1278000"/>
          <a:ext cx="8915400" cy="47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78000"/>
                    <a:ext cx="89154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Rectangle 3"/>
          <p:cNvSpPr/>
          <p:nvPr/>
        </p:nvSpPr>
        <p:spPr>
          <a:xfrm>
            <a:off x="497160" y="411120"/>
            <a:ext cx="79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Verdana"/>
              </a:rPr>
              <a:t>Manejo de la cartera de produc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2 Marcador de número de diapositiva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C440-DDEF-457E-AEBD-B2EC1332E12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1066680"/>
            <a:ext cx="9144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7000"/>
                </a:solidFill>
                <a:latin typeface="Arial"/>
                <a:ea typeface="Times New Roman"/>
              </a:rPr>
              <a:t>Estrell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ta participación relativa en el mercad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rcado de alto crecimient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randes cantidades de efectivo para financiar el crecimient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tilidades significativas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707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707000"/>
                </a:solidFill>
                <a:latin typeface="Arial"/>
                <a:ea typeface="Times New Roman"/>
              </a:rPr>
              <a:t>Signos de Interrogac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ja participación en el mercad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rcados creciendo rápidamente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mandan grandes cantidades de efectivo para financiar su crecimient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dores débiles de efectiv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empresa debe evaluar si sigue invirtiendo en éste negocio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474840" y="380880"/>
            <a:ext cx="7992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Verdana"/>
              </a:rPr>
              <a:t>Manejo de la cartera de product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4T04:32:08Z</dcterms:created>
  <dc:creator>Loreto Arenas</dc:creator>
  <dc:description/>
  <dc:language>en-US</dc:language>
  <cp:lastModifiedBy>William Young</cp:lastModifiedBy>
  <dcterms:modified xsi:type="dcterms:W3CDTF">2009-04-27T19:54:12Z</dcterms:modified>
  <cp:revision>409</cp:revision>
  <dc:subject/>
  <dc:title>77n</dc:title>
</cp:coreProperties>
</file>