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4355-4A5C-499E-ABEE-36C362F30C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2A5B-F7EA-48BA-A20D-0B9E41585B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19A1-1D2E-45CA-9903-5AC7D7E8C3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7539-1037-4F15-833D-DF6F6F1E38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289-60A7-4ACB-8D2E-C9EE978A50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33F9-28C7-4288-AE4B-DFF1E4BE27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12CA-7B80-4C02-8614-8A942FBD72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9FD7-022C-430F-A6B0-43465EAF9C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55DE-AF66-4761-A56E-B6693BBD9B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CEB3-79AF-489A-A178-0CA82880FA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3190-3975-4191-9BD3-C2E8820AF8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D87C-91E1-4D80-A1B8-5DB2691E88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2803-974E-4F35-BA28-FD42627853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659A-B429-4072-8B93-557782B1C6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B52-1E25-4727-9E71-308EA1E299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7F9-EEF0-4825-A7A7-116AFFC41F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A26C-93BE-4EED-AC76-4782523ABC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4467-9BF0-471B-9A84-61D4C041BE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CD65-BB77-44D2-933A-BD2B0D60CD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92B3-D5AA-4F58-BE31-986A16CA9C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EDD6-182E-46AE-82B6-17CC925677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4A2B-9149-49EB-87D9-457E6DE72E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187C-D3E4-4CE4-8F84-910EC38FEA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1430-C340-4694-B8D0-523DB0DCED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878B-45CB-4575-8A73-6A77FF8291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B12E-EAD2-450C-A0FB-5CC21C206B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3857-0FB2-466E-8C6F-A0C583B09D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6D9E-66A6-4A4C-BF21-4E3ABCBAFA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6724-728E-4598-9237-04A0078DDF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A529-6249-4243-8B01-E7F01A0A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8808-22B9-4685-BC8F-468BAE35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BEE62-BEF2-476A-9CF4-D389887C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6A9F-237D-4480-AB67-82444C96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B744-A86B-47CA-B6B4-93B667C2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A810-D28C-44AB-B7B8-3D86933F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4B95-4CCE-476A-B704-6BC0F36E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CAF9-E4E0-4416-8B71-B2C59FE2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0071-5612-4FAC-9C4E-98A4146D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DBA7-5A41-46FE-9A42-7D97885C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4B17-05F9-4F9E-BACA-6B7152B9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6975-AFF1-4A44-A752-7B7B1090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1F67-C131-4B4B-A950-0A092D79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49C5-45CF-47FF-850F-1A91E9BD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4850-A2F6-46D1-8521-51EE9187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C45A-730A-45CA-893F-23881322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52BF-F2A6-4E6A-9ECC-F51C729C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D7CC-94F5-425D-8260-57614271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763A-EECB-43C9-8A92-554637C2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269D-1B04-4E6F-BB86-EEB9EA7B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90CC-9756-4729-AE48-D89160BB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1E61-AE94-4822-A10E-E66D93AD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31BA-C1EA-4602-B88B-23359264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0530-4B57-4DAA-8422-8485BF70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6DFB-E03F-4366-A49C-7A18380AC64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28CF-44F0-489E-9B72-3C9492143DB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35592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99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9F0D-917A-42FC-B103-19C2B9F843A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Vacas Lecher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n más efectivo del que necesitan para su crecimiento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usarse para crear o desarrollar otros negoci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árgenes de utilidad alt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Perr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generar pocas utilidades o a veces pérdid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mente deben ser reestructuradas o eliminad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384C-9B3B-43B3-B392-5580B413BF6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“Ley”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ston Consult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FB2E-A2A8-4209-8663-A82D46E699C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ey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=volumen acumulado de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experiencia =  costos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en valor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periencia es mas importante en el arra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8170-5554-401A-8967-04FE27FFBC7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usas del efecto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cedimientos de fabr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 en recursos ut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eño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6ED1-1299-4904-B109-30AF88B4418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ormula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**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p= Costo unitario prev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b = Costo unitari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 = Volumen acumulad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elasticidad del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BD3E-8624-4B22-8829-D8BEA713F3E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5A61-7D27-4C71-8657-30B7E1047CF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mpresa que acumula la mayor producción tendrá los costos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tienen interés en desarrollarse para descender lo más rápidamente posible por la curva de exper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es crecer más rápido que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mente al prin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Pene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1AF7-CC47-4076-B47D-AFC140CDEF3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predictibilidad en Productos de poco valor agre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onsidera la 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os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07840" y="4332240"/>
            <a:ext cx="7986960" cy="423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confundir experiencia con economía de escal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oría de la difusión de productos nuev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456C-7C1E-43D1-85EE-7BCD7EC7ABB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ía de la difusión de productos nue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ómo un producto nuevo es asimilado en la sociedad en el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de adopción de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atro “proposicion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cerca del proceso de ado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3DB6-FC4C-4BB8-8F73-BDD6F36FF02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UN PRODU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LO QUE VENDE LA EMPRE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N QUÉ NEGOCIO EST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E570-FA5F-4AD9-AB1A-D0327C3C916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1-  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TAPAS EN EL PROCESO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4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0A41-C502-4983-9BE8-24A7B8E4307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Las personas difieren en su tendencia a probar producto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nco 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OPTADORES TEMPRAN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EMP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ZA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C21E-7337-412D-B82C-43415FFBB1B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363600" y="853920"/>
            <a:ext cx="8170920" cy="2803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99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2,5%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34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empran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3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daptadores tempraner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ard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6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retrasa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3427-4568-46C4-B214-A37E2F4E860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772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627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LGUNAS CARACTERISTICAS LOS IN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ISTIC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ducación, ingreso, nivel de vida están correlacionados posi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existe correlación con la 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tud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itiva al camb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spiraciones educ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tivación por los lo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ON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ida social a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a exposición a los medios de comun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viación de las normas so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ticipación en actividades sociales de gru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228600" y="34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CC82-3562-4076-9B9F-37FC704E1D1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3-Influencia de otras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íderes de opinión: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importantes en la etapa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-Características del producto que pueden modificar la tasa de velocidad  a la que se desarrolla el proceso de ado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entajas re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eneficios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sibilidad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698D-FC68-43FE-AE40-ACD08B7DFF8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S DE VENTAS DE NUEVOS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DIFUSIÓN O DE PRIMERA COM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COMPRA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E9F4-A495-41DC-AA86-E0F8CD3B8F8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S DE DIFUS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o de los modelos de difusión más cono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el de B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ADOP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POTENCIAL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AutoShape 8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10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A483-0E3A-46C8-A438-2DAA1579358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76280" y="2060280"/>
            <a:ext cx="812808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ma de efectos de “innovadores” e “imitadores” los expresa Bass con la siguiente ec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5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de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5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acumuladas previas a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 : Mercado potenc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 : Coeficiente de innov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 : Coeficiente de imit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2117-35E7-4179-8696-B97015A066A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5680" y="545760"/>
            <a:ext cx="762984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s (t) = p (O - Vt ) + q Vt (O - Vt ) / 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 0.04  q = 0.6  O = 5000   O: Mercado Potencial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: Coeficiente de innovación q:  Coeficiente de im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4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AF1F-392B-4EA7-A7D1-4841CE99DF6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Charles Revson , presidente de la empresa de cosmética Revl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FÁBRICA HACEMOS COSMÉTICOS; EN LA TIENDA, VENDEMOS ESPERANZ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NSUMIDORES NO COMPRAN PRODUCTOS; ADQUIEREN LA ESPERANZA DE CONSEGUIR BENEFI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CAE2-62C8-4FC9-9818-72DA02E977B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 AUM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ASPECTOS AÑADI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Producto “aumentado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9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1" lang="es-ES_tradnl" sz="1400" spc="-1" strike="noStrike">
                <a:solidFill>
                  <a:srgbClr val="00007d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1899720" y="5127480"/>
            <a:ext cx="465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Servicio posventa                          Financiació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2"/>
          <p:cNvSpPr/>
          <p:nvPr/>
        </p:nvSpPr>
        <p:spPr>
          <a:xfrm rot="5400000">
            <a:off x="-254160" y="3785760"/>
            <a:ext cx="3307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Entrega                         Garant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3"/>
          <p:cNvSpPr/>
          <p:nvPr/>
        </p:nvSpPr>
        <p:spPr>
          <a:xfrm rot="16200000">
            <a:off x="6226560" y="3001680"/>
            <a:ext cx="363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Times New Roman"/>
              </a:rPr>
              <a:t>Instalación</a:t>
            </a: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             Mantenimient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167800" y="5772240"/>
            <a:ext cx="288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FE9D-0959-4C59-A12B-99DB44A4A4C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BEAC-D9D0-4E69-A622-2B321E6FE56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60D9-F721-4E43-9FDC-E410B030B64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idores (Benchmar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presentante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(consultores, agencias, laboratorios universit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ente de Generación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CC23-9461-4090-9446-F3A157B3901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3"/>
          <p:cNvSpPr/>
          <p:nvPr/>
        </p:nvSpPr>
        <p:spPr>
          <a:xfrm>
            <a:off x="497160" y="4111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3593-8B46-4192-AE34-FCAC92B1C27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relativa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 de alto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ndes cantidades de efectivo para financiar el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dades significativ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creciendo rápidament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n grandes cantidades de efectivo para financiar su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dores débiles de efectiv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mpresa debe evaluar si sigue invirtiendo en éste negoci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9-04-27T19:54:12Z</dcterms:modified>
  <cp:revision>409</cp:revision>
  <dc:subject/>
  <dc:title>77n</dc:title>
</cp:coreProperties>
</file>