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E254-BE9D-44C8-8156-1A1685AC68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9481-2F47-4940-B655-01751BAA19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902C-930F-4A25-B5F8-6EE2520B0F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4312-4AD7-4444-AC6B-BC5BC4F815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F47E-39D2-44D9-95D7-92EE2EA058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DF6E-8B69-4CD7-825D-E34991C7F4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A213-197A-42E4-9850-1456CA55423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A2DD-4165-4D73-85FD-2652A37A55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CCEB-370F-408B-B0D2-E1A414423EC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5BF6-F31F-4EB7-ABC1-9F2AD89554E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80DA-319D-493F-8DF5-6139AC42FB4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AD94-3F01-49CA-97E3-31E7D6C446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8F35-D7DA-4F35-BDB9-62F974EE953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89EF-318F-4C36-BC01-6655CE943C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E8A2-6285-465C-A143-F0AD280237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AD4A-35D6-4FE0-9F27-23EE6D29A56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2AC6-4E76-4AE8-B38E-2C648A394F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6670-BE7D-40EA-A651-CC65EE33E91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3383-5FF2-4F77-8FFB-AD0C9266C11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15E4-F689-4976-90E6-2ADF6FCA48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10D5-DD56-4F43-B173-D13F7F382C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36D4-8E7D-4A14-BC8D-A48C7DCEC74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4316-CDEE-4E74-A0C8-E9065066A0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B69E-45FE-486B-8045-98532834DE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88E3-1ABC-4665-910D-36B13A7C96E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4EB7-EAFA-4F74-BA35-2814206111A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40DC-8036-40A1-B8CA-556D7F64F50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F42A-A45A-4E7C-A326-7FFB8C88EB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2A6C-BCE0-4CCB-A7F8-39817E96C5F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4AB1B-594C-47E6-B1E9-0A122BE9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2F978-5F7E-4CCB-826A-6B4B9058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8A2C6-81A4-4177-9D2B-78F73C3B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23489-C238-442E-8B26-B5B93DB3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9A09-D327-43F8-878A-F72DD7E2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300C-C250-41B3-BF61-DD955D0F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8657-92C3-46CE-9373-C3DDF2FE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235C-6E3D-4E60-BA92-38C938C1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9C49-3413-45A5-AC8B-228E5326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A360-904F-4AB6-96B5-8CFE14C5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7D00-AD42-4A1C-A2FB-8B7FB750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AD1AB-4C11-4803-88D4-15A26AE5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5B34-63C0-49F5-B0F6-26802C42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BA42-B19C-4ABA-A12F-1B5B0263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301E-D007-46F3-B68A-8FE416AF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34D2-AEDE-4258-9E39-1B001D0F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4017-E3DB-419B-B584-C65439C7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4C802-A688-4C23-AE9E-36ADFF5B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5E6F-3E63-4211-9D79-A59056A1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15DA2-B24C-4583-A936-CD563D48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5A5B-CCA7-4868-8882-6342D689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A341F-1F08-4523-ADC1-0978B402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9DF10-FF9F-4B6C-AB3A-0B8BA298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5FCB6-0A59-4DC7-B437-370EC345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3B9B-5302-49E1-A502-3EE6FBE4ED1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0BF5-D88D-430E-965E-A466416537B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35592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200" spc="-1" strike="noStrike">
                <a:solidFill>
                  <a:srgbClr val="ffff99"/>
                </a:solidFill>
                <a:latin typeface="Arial"/>
              </a:rPr>
              <a:t>PRODUCTO</a:t>
            </a:r>
            <a:r>
              <a:rPr b="1" lang="es-MX" sz="4800" spc="-1" strike="noStrike">
                <a:solidFill>
                  <a:srgbClr val="ff66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77E6-F911-48A8-BF73-D4EA9950C49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Vacas Lecher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t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de crecimiento l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n más efectivo del que necesitan para su crecimiento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eden usarse para crear o desarrollar otros negocio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árgenes de utilidad alto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Perr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j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de crecimiento l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eden generar pocas utilidades o a veces pérdida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mente deben ser reestructuradas o eliminad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2624-AB6B-4D18-9471-BE62DD4CE8B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 “Ley” de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oston Consult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3B90-9B8B-4647-9F59-373AFE3457E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ey de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eriencia=volumen acumulado de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 experiencia =  costos valor agre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 en valor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xperiencia es mas importante en el arran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1545-8608-4431-BBBA-609470C7185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usas del efecto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ficiencia del Trabaj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nda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os procedimientos de fabr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joras en recursos utili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seño d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5288-0160-48B5-9ABD-51E75F4582A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ormulación Matemá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 *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Q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**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p= Costo unitario prev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b = Costo unitari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 = Volumen acumulado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= elasticidad del c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D7D3-4D83-4D03-BCEE-A56F1AB1E6E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Object 2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3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4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6F43-4040-4BA5-B941-9D38A89E9F6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mplica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mpresa que acumula la mayor producción tendrá los costos men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mpresas tienen interés en desarrollarse para descender lo más rápidamente posible por la curva de exper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bjetivo es crecer más rápido que lo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almente al princi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s de Pene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596D-6623-4118-8C9D-60607BF08F1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ím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a predictibilidad en Productos de poco valor agre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considera la diferen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mbios tecn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07840" y="4332240"/>
            <a:ext cx="7986960" cy="42300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confundir experiencia con economía de escal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oría de la difusión de productos nuev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A943-135C-4AE1-B076-07DE1562F26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Teoría de la difusión de productos nue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Cómo un producto nuevo es asimilado en la sociedad en el tiemp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iempo de adopción de Ro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uatro “proposicion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” acerca del proceso de adop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91CE-71D2-4513-AFD7-36E7A696FAE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ES UN PRODU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ES LO QUE VENDE LA EMPRE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N QUÉ NEGOCIO EST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3C8E-CC55-43CE-A133-8F3E16EDEC3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1-  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ETAPAS EN EL PROCESO DE ADOP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4"/>
          <p:cNvSpPr/>
          <p:nvPr/>
        </p:nvSpPr>
        <p:spPr>
          <a:xfrm>
            <a:off x="22860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B42F-F424-446E-A25A-32641AFA7D0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Las personas difieren en su tendencia a probar productos nue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nco gru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OV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OPTADORES TEMPRAN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ORÍA TEMP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ORÍA TAR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ZAG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E998-AC25-4840-836D-4E01F0BE4CB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2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3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Freeform 7"/>
          <p:cNvSpPr/>
          <p:nvPr/>
        </p:nvSpPr>
        <p:spPr>
          <a:xfrm>
            <a:off x="363600" y="853920"/>
            <a:ext cx="8170920" cy="28036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12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99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2,5%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34,5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ayoria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tempran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13,5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adaptadores tempraner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ayoria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tardí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16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retrasad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725E-F78E-4CCB-BE1F-3CDD501FAE0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772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6276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LGUNAS CARACTERISTICAS LOS INNOV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ISTICA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ducación, ingreso, nivel de vida están correlacionados positiv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 existe correlación con la e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TU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titud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sitiva al camb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spiraciones educ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tivación por los log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LACIONE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ida social act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a exposición a los medios de comuni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viación de las normas so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rticipación en actividades sociales de gru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228600" y="34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480D-7872-4F3F-8E2C-C0166DA6684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3-Influencia de otras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íderes de opinión: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importantes en la etapa de adop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4-Características del producto que pueden modificar la tasa de velocidad  a la que se desarrolla el proceso de ado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Ventajas rel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Beneficios de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sibilidad de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42BE-54A8-4ED5-A4AF-B1FBB72B631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DELOS DE VENTAS DE NUEVOS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DIFUSIÓN O DE PRIMERA COMP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COMPRA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FC96-5C60-448F-A362-6C5502BFAEA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S DE DIFUS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MODELO DE B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o de los modelos de difusión más cono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el de B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99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Times New Roman"/>
              </a:rPr>
              <a:t>ADOPT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Times New Roman"/>
              </a:rPr>
              <a:t>POTENCIAL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AutoShape 8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10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11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D5EA-6F54-4916-B1BF-519C775560C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B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76280" y="2060280"/>
            <a:ext cx="812808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uma de efectos de “innovadores” e “imitadores” los expresa Bass con la siguiente ecu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1" lang="es-ES_tradnl" sz="1500" spc="-1" strike="noStrike">
                <a:solidFill>
                  <a:srgbClr val="666699"/>
                </a:solidFill>
                <a:latin typeface="Bookman Old Style"/>
              </a:rPr>
              <a:t>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: Ventas del periodo 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15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: Ventas acumuladas previas al periodo 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 : Mercado potenci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p : Coeficiente de innov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q : Coeficiente de imit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75AE-012F-4225-B9D7-D91AEFE852B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5680" y="545760"/>
            <a:ext cx="762984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entas (t) = p (O - Vt ) + q Vt (O - Vt ) / 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 = 0.04  q = 0.6  O = 5000   O: Mercado Potencial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: Coeficiente de innovación q:  Coeficiente de imi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3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4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B02B-A878-403B-A4C1-6BA88A4E98B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ún Charles Revson , presidente de la empresa de cosmética Revl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666699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LA FÁBRICA HACEMOS COSMÉTICOS; EN LA TIENDA, VENDEMOS ESPERANZA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CONSUMIDORES NO COMPRAN PRODUCTOS; ADQUIEREN LA ESPERANZA DE CONSEGUIR BENEFIC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8ECB-28CF-4D27-8A20-04B2D6A9FCD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 AUMEN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ASPECTOS AÑADID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Producto “aumentado”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9999cc"/>
          </a:solidFill>
          <a:ln w="1260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8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9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1" lang="es-ES_tradnl" sz="1400" spc="-1" strike="noStrike">
                <a:solidFill>
                  <a:srgbClr val="00007d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1899720" y="5127480"/>
            <a:ext cx="465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Servicio posventa                          Financiació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2"/>
          <p:cNvSpPr/>
          <p:nvPr/>
        </p:nvSpPr>
        <p:spPr>
          <a:xfrm rot="5400000">
            <a:off x="-254160" y="3785760"/>
            <a:ext cx="3307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Entrega                         Garantí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3"/>
          <p:cNvSpPr/>
          <p:nvPr/>
        </p:nvSpPr>
        <p:spPr>
          <a:xfrm rot="16200000">
            <a:off x="6226560" y="3001680"/>
            <a:ext cx="363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7d"/>
                </a:solidFill>
                <a:latin typeface="Times New Roman"/>
              </a:rPr>
              <a:t>Instalación</a:t>
            </a: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             Mantenimiento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167800" y="5772240"/>
            <a:ext cx="2889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4FF1-57BA-4657-A253-44E773686D5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alud de LP de muchas compañías está relacionada con su capacidad de 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sa y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6C9B-4D3C-44A9-BB56-BADC698A5DB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ficultad del Desarrollo de Productos nue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gmentación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VP más c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56DF-C4EC-4A17-AFFE-62622EF5C82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etidores (Benchmar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presentante de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os (consultores, agencias, laboratorios universita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Fuente de Generación 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B76E-8C3D-4D8C-AA47-A644D301CFF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Object 2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3"/>
          <p:cNvSpPr/>
          <p:nvPr/>
        </p:nvSpPr>
        <p:spPr>
          <a:xfrm>
            <a:off x="497160" y="4111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0F7F-F784-4B7D-AC89-1B46BC239B6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Estrell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ta participación relativa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 de alto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andes cantidades de efectivo para financiar el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tilidades significativa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Signos de Interrog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j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creciendo rápidamente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an grandes cantidades de efectivo para financiar su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dores débiles de efectiv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empresa debe evaluar si sigue invirtiendo en éste negoci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 Young</cp:lastModifiedBy>
  <dcterms:modified xsi:type="dcterms:W3CDTF">2009-04-27T19:54:12Z</dcterms:modified>
  <cp:revision>409</cp:revision>
  <dc:subject/>
  <dc:title>77n</dc:title>
</cp:coreProperties>
</file>