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06D4-D083-4A55-B099-15B93DF5D37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06B6-47E8-47D7-B4C9-7236A648204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8CD4-C470-4018-86A5-5EB6B1F7082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1EAD-C4C8-4815-B9DE-AC1038B236F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7CF8-45C1-41DB-A18A-B2BBAF5174A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C857-E33E-4365-930A-577AA25C264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69A4-8DE8-4D7E-88AA-B61FDEC0F71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5DFE-B420-4984-AE81-C8D52649803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AC3F-F58B-4979-A52D-6F45DD719A9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5C23-E273-47F7-89F5-C3259E74C8A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AE64-7334-466D-9599-A780BFCD666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F89A-6A31-4627-B8ED-02D3EDC7C5C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ED43-E7B5-4C43-AA85-8F3AC77CE99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1AF2-4E0D-4ED8-94CD-F693E81CF05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90D8-F484-4FE8-8EA8-DC682F81CE3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821E-2D6D-453F-9454-9F13A6D81E8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0315-0DD5-462E-8E77-32A784631CA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9488-0D96-4901-AA48-2829FEB59F6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38CD-A0FF-4169-8700-22E05C1FBBA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BABE-478A-4890-8A21-6FC948C5787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5FD3-E861-4157-A051-835D7650DF0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1A69-73F6-4161-89B1-69154001A9D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A9EA-AF88-430D-B23E-A8B0175F532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9875-D7DF-465C-85EE-F67AD2998EE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99F3-A226-4FDA-B566-37A5A178E10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3094-31FA-48DD-B0A0-D04F5D8058E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27E5-238A-448E-B6C1-16F68333F52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6162-FCC4-4EF2-AD14-A8D1CAAC58C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2986-7A05-4420-BD66-EA455F93E26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39A05-3269-40C4-B1AE-8EF4676A9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39E2F-0BBE-4572-BEA6-978D9D60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8FB2C-8BB3-4F83-86C4-FC1430246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BD4F9-98EB-4EDE-AF40-BC7B94CF0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7FBB-8403-4454-B588-0F02977C5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BC1F-8B97-4359-BC2A-7E56946E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7FDE-C5D5-4B39-BD51-F70798F2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6BBD-193D-460D-AAF1-0C2B7917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7C68-DA7F-4298-BEDE-9C3DBAA1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AFA3-52A0-4CC5-B760-7A999819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F04A-F816-443F-A108-0F79F904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A6538-E424-44AD-8E70-CA091082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13C5-C641-4D87-B08C-A8C1F64D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705A-7DD3-443F-A332-50D8A4A9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1A287-B1F6-4088-BA4B-B1157795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58D8-6DA8-44A3-AB79-A804E1193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4A19-0783-4EC8-B1A6-02C6557BE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985BD-B465-48D9-9975-EC5676D7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AE5A5-E6AC-4A5B-A003-AF2E1285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9DEB0-A47C-4E38-9785-EF5F992C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FC215-385E-4BA5-B7F0-4648B3F1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CB59D-8527-4B54-A39D-45A841FC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59669-9AB6-4F0C-B9A9-9D20ED6D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A32A7-473E-4147-84B0-9D529857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7101-3249-4088-B460-9F43459967AA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9180-5517-4974-AFD6-80040726E365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355920" y="2895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200" spc="-1" strike="noStrike">
                <a:solidFill>
                  <a:srgbClr val="ffff99"/>
                </a:solidFill>
                <a:latin typeface="Arial"/>
              </a:rPr>
              <a:t>PRODUCTO</a:t>
            </a:r>
            <a:r>
              <a:rPr b="1" lang="es-MX" sz="4800" spc="-1" strike="noStrike">
                <a:solidFill>
                  <a:srgbClr val="ff66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2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8A12-A055-41F1-AA39-2FA090A93F63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914400"/>
            <a:ext cx="9144000" cy="56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07000"/>
                </a:solidFill>
                <a:latin typeface="Arial"/>
                <a:ea typeface="Times New Roman"/>
              </a:rPr>
              <a:t>Vacas Lecher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ta participación en el mercad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rcados de crecimiento lent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n más efectivo del que necesitan para su crecimiento en el mercad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ueden usarse para crear o desarrollar otros negocios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árgenes de utilidad altos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07000"/>
                </a:solidFill>
                <a:latin typeface="Arial"/>
                <a:ea typeface="Times New Roman"/>
              </a:rPr>
              <a:t>Perr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aja participación en el mercad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rcados de crecimiento lent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ueden generar pocas utilidades o a veces pérdidas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mente deben ser reestructuradas o eliminada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474840" y="380880"/>
            <a:ext cx="7992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Verdana"/>
              </a:rPr>
              <a:t>Manejo de la cartera de produc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56A6-897C-4478-A0E5-53AA48C4C392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a “Ley” de Experi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oston Consulting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costo unitario del valor añadido de un producto homogéneo, medido en unidades monetarias constantes disminuye en un porcentaje fijo y previsible cada vez que la producción acumulada se dupl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C1E8-B619-488B-ACD5-3674F56611F1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ey de Experi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periencia=volumen acumulado de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fecto experiencia =  costos valor agreg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sto en valor 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experiencia es mas importante en el arran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A131-5453-4550-89B7-5DB30F86978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ausas del efecto Experi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ficiencia del Trabaj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andar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uevos procedimientos de fabr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joras en recursos utiliz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diseño del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316D-086B-4B76-8174-62ED5533EF34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Formulación Matemá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 =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 *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Q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)**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p= Costo unitario previ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b = Costo unitario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 = Volumen acumulado de p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= elasticidad del co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2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A388-BCCC-4485-A5DA-68BDFDA21FF3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1" name="Object 2"/>
          <p:cNvGraphicFramePr/>
          <p:nvPr/>
        </p:nvGraphicFramePr>
        <p:xfrm>
          <a:off x="0" y="0"/>
          <a:ext cx="914400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Rectangle 3"/>
          <p:cNvSpPr/>
          <p:nvPr/>
        </p:nvSpPr>
        <p:spPr>
          <a:xfrm>
            <a:off x="6172200" y="1981080"/>
            <a:ext cx="18288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 =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-0,51457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Line 4"/>
          <p:cNvSpPr/>
          <p:nvPr/>
        </p:nvSpPr>
        <p:spPr>
          <a:xfrm flipH="1">
            <a:off x="6324120" y="2514600"/>
            <a:ext cx="22860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5323320" y="976320"/>
            <a:ext cx="221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endiente de experienc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0,70 (Cp/Cb)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9BBF-8C24-46AC-85F8-38D6C6AD7575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Implican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empresa que acumula la mayor producción tendrá los costos men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empresas tienen interés en desarrollarse para descender lo más rápidamente posible por la curva de experi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objetivo es crecer más rápido que los competi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pecialmente al princip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ategias de Pene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09EE-53B3-49AD-9DA9-8AC1B4773B7C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ím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ja predictibilidad en Productos de poco valor agreg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considera la diferenci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mbios tecno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07840" y="4332240"/>
            <a:ext cx="7986960" cy="42300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 confundir experiencia con economía de escala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oría de la difusión de productos nuev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1DF7-3D0F-4E1E-9BB6-BCE0927D560D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Teoría de la difusión de productos nue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Cómo un producto nuevo es asimilado en la sociedad en el tiemp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iempo de adopción de Ro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uatro “proposicion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” acerca del proceso de adop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7E4B-C78A-42B1-B2AF-99DD16578E8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É ES UN PRODUC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É ES LO QUE VENDE LA EMPRES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EN QUÉ NEGOCIO ESTÁ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F011-65A0-48E2-B608-518CDD4ED591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960" y="2209320"/>
            <a:ext cx="3429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 u="sng">
                <a:solidFill>
                  <a:srgbClr val="000000"/>
                </a:solidFill>
                <a:uFillTx/>
                <a:latin typeface="Arial"/>
              </a:rPr>
              <a:t>1-  </a:t>
            </a: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</a:rPr>
              <a:t>ETAPAS EN EL PROCESO DE ADOP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Object 3"/>
          <p:cNvGraphicFramePr/>
          <p:nvPr/>
        </p:nvGraphicFramePr>
        <p:xfrm>
          <a:off x="4673520" y="152280"/>
          <a:ext cx="4246560" cy="631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3520" y="152280"/>
                    <a:ext cx="4246560" cy="631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Rectangle 4"/>
          <p:cNvSpPr/>
          <p:nvPr/>
        </p:nvSpPr>
        <p:spPr>
          <a:xfrm>
            <a:off x="228600" y="3049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roposicione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B35B-270F-4487-9597-221E4B76F1B4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roposi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2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Las personas difieren en su tendencia a probar productos nue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inco grup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NOV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OPTADORES TEMPRAN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YORÍA TEMPR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YORÍA TAR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ZAG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2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EAAD-E0D6-4DA8-BED2-E2E91A76E0D5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Line 2"/>
          <p:cNvSpPr/>
          <p:nvPr/>
        </p:nvSpPr>
        <p:spPr>
          <a:xfrm>
            <a:off x="380880" y="41911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Line 3"/>
          <p:cNvSpPr/>
          <p:nvPr/>
        </p:nvSpPr>
        <p:spPr>
          <a:xfrm>
            <a:off x="1371600" y="33526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Line 4"/>
          <p:cNvSpPr/>
          <p:nvPr/>
        </p:nvSpPr>
        <p:spPr>
          <a:xfrm>
            <a:off x="2666880" y="2438280"/>
            <a:ext cx="0" cy="17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5638680" y="2705040"/>
            <a:ext cx="0" cy="148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Line 6"/>
          <p:cNvSpPr/>
          <p:nvPr/>
        </p:nvSpPr>
        <p:spPr>
          <a:xfrm>
            <a:off x="3962520" y="99072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Freeform 7"/>
          <p:cNvSpPr/>
          <p:nvPr/>
        </p:nvSpPr>
        <p:spPr>
          <a:xfrm>
            <a:off x="363600" y="853920"/>
            <a:ext cx="8170920" cy="280368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Line 8"/>
          <p:cNvSpPr/>
          <p:nvPr/>
        </p:nvSpPr>
        <p:spPr>
          <a:xfrm>
            <a:off x="914400" y="3657600"/>
            <a:ext cx="228600" cy="1676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Line 9"/>
          <p:cNvSpPr/>
          <p:nvPr/>
        </p:nvSpPr>
        <p:spPr>
          <a:xfrm>
            <a:off x="1523880" y="2286000"/>
            <a:ext cx="533520" cy="1447920"/>
          </a:xfrm>
          <a:prstGeom prst="line">
            <a:avLst/>
          </a:prstGeom>
          <a:ln w="38160">
            <a:solidFill>
              <a:srgbClr val="ffff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Line 10"/>
          <p:cNvSpPr/>
          <p:nvPr/>
        </p:nvSpPr>
        <p:spPr>
          <a:xfrm>
            <a:off x="3276720" y="3200400"/>
            <a:ext cx="304560" cy="1752480"/>
          </a:xfrm>
          <a:prstGeom prst="line">
            <a:avLst/>
          </a:prstGeom>
          <a:ln w="38160">
            <a:solidFill>
              <a:srgbClr val="2fa3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Line 11"/>
          <p:cNvSpPr/>
          <p:nvPr/>
        </p:nvSpPr>
        <p:spPr>
          <a:xfrm>
            <a:off x="6172200" y="3581280"/>
            <a:ext cx="685800" cy="17528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Line 12"/>
          <p:cNvSpPr/>
          <p:nvPr/>
        </p:nvSpPr>
        <p:spPr>
          <a:xfrm flipH="1">
            <a:off x="4723920" y="1219320"/>
            <a:ext cx="762120" cy="1143000"/>
          </a:xfrm>
          <a:prstGeom prst="line">
            <a:avLst/>
          </a:prstGeom>
          <a:ln w="38160">
            <a:solidFill>
              <a:srgbClr val="9999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-228600" y="533412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2,5%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innovador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2666880" y="5181480"/>
            <a:ext cx="289584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34,5%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mayoria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temprana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15"/>
          <p:cNvSpPr/>
          <p:nvPr/>
        </p:nvSpPr>
        <p:spPr>
          <a:xfrm>
            <a:off x="380880" y="1371600"/>
            <a:ext cx="28958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13,5%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adaptadores tempranero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16"/>
          <p:cNvSpPr/>
          <p:nvPr/>
        </p:nvSpPr>
        <p:spPr>
          <a:xfrm>
            <a:off x="5638680" y="609480"/>
            <a:ext cx="289584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mayoria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tardía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 Box 17"/>
          <p:cNvSpPr/>
          <p:nvPr/>
        </p:nvSpPr>
        <p:spPr>
          <a:xfrm>
            <a:off x="5791320" y="548640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16%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retrasado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E7CC-A74C-44A2-9DE2-740CBDB7A9B4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0920" y="772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76276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LGUNAS CARACTERISTICAS LOS INNOV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RACTERISTICAS SO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ducación, ingreso, nivel de vida están correlacionados positiva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o existe correlación con la e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TU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ctitud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ositiva al camb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spiraciones educacion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otivación por los log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LACIONES SO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ida social activ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lta exposición a los medios de comunic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esviación de las normas soci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articipación en actividades sociales de grup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228600" y="3412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roposicione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F33F-151F-4905-82D3-F62B79C9AAA7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roposi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44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3-Influencia de otras pers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íderes de opinión: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 importantes en la etapa de adop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4-Características del producto que pueden modificar la tasa de velocidad  a la que se desarrolla el proceso de ado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omplej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Ventajas rela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isponi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Beneficios de corto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osibilidad de 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ivi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0798-4E0E-4176-9D90-9755EE4BB18C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ODELOS DE VENTAS DE NUEVOS PRODU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83920" y="2209680"/>
            <a:ext cx="8356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OS DE DIFUSIÓN O DE PRIMERA COMP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OS DE COMPRA REPETI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9C9E-1C2A-4AF4-BF97-89FB9EE6FB19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8732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DELOS DE DIFUSIÓ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MODELO DE B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84280" y="1371240"/>
            <a:ext cx="8254800" cy="80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o de los modelos de difusión más conoc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el de B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3462480" y="2405160"/>
            <a:ext cx="2625480" cy="733320"/>
          </a:xfrm>
          <a:prstGeom prst="rect">
            <a:avLst/>
          </a:prstGeom>
          <a:solidFill>
            <a:srgbClr val="99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6699"/>
                </a:solidFill>
                <a:latin typeface="Times New Roman"/>
              </a:rPr>
              <a:t>ADOPTADOR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6699"/>
                </a:solidFill>
                <a:latin typeface="Times New Roman"/>
              </a:rPr>
              <a:t>POTENCIAL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1125360" y="3490920"/>
            <a:ext cx="2524320" cy="7333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NOVADOR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6019920" y="3505320"/>
            <a:ext cx="2523960" cy="733320"/>
          </a:xfrm>
          <a:prstGeom prst="rect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MITADOR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Oval 7"/>
          <p:cNvSpPr/>
          <p:nvPr/>
        </p:nvSpPr>
        <p:spPr>
          <a:xfrm>
            <a:off x="685800" y="4648320"/>
            <a:ext cx="3438360" cy="1019160"/>
          </a:xfrm>
          <a:prstGeom prst="ellipse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EDIO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UNICACIÓN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INFLUENCIA EXTERNA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AutoShape 8"/>
          <p:cNvSpPr/>
          <p:nvPr/>
        </p:nvSpPr>
        <p:spPr>
          <a:xfrm flipH="1" rot="5520000">
            <a:off x="2180520" y="4219200"/>
            <a:ext cx="447480" cy="390600"/>
          </a:xfrm>
          <a:prstGeom prst="rightArrow">
            <a:avLst>
              <a:gd name="adj1" fmla="val 75000"/>
              <a:gd name="adj2" fmla="val 61763"/>
            </a:avLst>
          </a:prstGeom>
          <a:solidFill>
            <a:srgbClr val="00007d"/>
          </a:solidFill>
          <a:ln w="1260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Oval 9"/>
          <p:cNvSpPr/>
          <p:nvPr/>
        </p:nvSpPr>
        <p:spPr>
          <a:xfrm>
            <a:off x="5502240" y="4648320"/>
            <a:ext cx="3641760" cy="1133280"/>
          </a:xfrm>
          <a:prstGeom prst="ellipse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UNICACIÓN VERBAL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 LOS QUE YA HAN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DOPTADO EL PRODUCTO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INFLUENCIA INTERNA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10"/>
          <p:cNvSpPr/>
          <p:nvPr/>
        </p:nvSpPr>
        <p:spPr>
          <a:xfrm flipH="1" rot="4980000">
            <a:off x="6981480" y="4218840"/>
            <a:ext cx="447480" cy="390600"/>
          </a:xfrm>
          <a:prstGeom prst="rightArrow">
            <a:avLst>
              <a:gd name="adj1" fmla="val 75000"/>
              <a:gd name="adj2" fmla="val 65937"/>
            </a:avLst>
          </a:prstGeom>
          <a:solidFill>
            <a:srgbClr val="00007d"/>
          </a:solidFill>
          <a:ln w="1260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Line 11"/>
          <p:cNvSpPr/>
          <p:nvPr/>
        </p:nvSpPr>
        <p:spPr>
          <a:xfrm flipV="1">
            <a:off x="2235240" y="2795400"/>
            <a:ext cx="0" cy="69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Line 12"/>
          <p:cNvSpPr/>
          <p:nvPr/>
        </p:nvSpPr>
        <p:spPr>
          <a:xfrm>
            <a:off x="2243160" y="2800440"/>
            <a:ext cx="120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Line 13"/>
          <p:cNvSpPr/>
          <p:nvPr/>
        </p:nvSpPr>
        <p:spPr>
          <a:xfrm>
            <a:off x="6103800" y="2800440"/>
            <a:ext cx="110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Line 14"/>
          <p:cNvSpPr/>
          <p:nvPr/>
        </p:nvSpPr>
        <p:spPr>
          <a:xfrm>
            <a:off x="7213680" y="2805120"/>
            <a:ext cx="0" cy="67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AutoShape 15"/>
          <p:cNvSpPr/>
          <p:nvPr/>
        </p:nvSpPr>
        <p:spPr>
          <a:xfrm>
            <a:off x="3665520" y="3719520"/>
            <a:ext cx="2422440" cy="219240"/>
          </a:xfrm>
          <a:prstGeom prst="rightArrow">
            <a:avLst>
              <a:gd name="adj1" fmla="val 75000"/>
              <a:gd name="adj2" fmla="val 552514"/>
            </a:avLst>
          </a:prstGeom>
          <a:solidFill>
            <a:srgbClr val="00007d"/>
          </a:solidFill>
          <a:ln w="1260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16"/>
          <p:cNvSpPr/>
          <p:nvPr/>
        </p:nvSpPr>
        <p:spPr>
          <a:xfrm>
            <a:off x="4192200" y="3429000"/>
            <a:ext cx="106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Influenc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0731-E3EC-4356-AE2C-50F8BEE33DB9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 DE B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76280" y="2060280"/>
            <a:ext cx="812808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suma de efectos de “innovadores” e “imitadores” los expresa Bass con la siguiente ecu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1" lang="es-ES_tradnl" sz="26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=p (M - V</a:t>
            </a:r>
            <a:r>
              <a:rPr b="1" lang="es-ES_tradnl" sz="26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)+ q (V</a:t>
            </a:r>
            <a:r>
              <a:rPr b="1" lang="es-ES_tradnl" sz="2600" spc="-1" strike="noStrike" baseline="-25000">
                <a:solidFill>
                  <a:srgbClr val="000000"/>
                </a:solidFill>
                <a:latin typeface="Bookman Old Style"/>
              </a:rPr>
              <a:t>t</a:t>
            </a: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 /M)(M - V</a:t>
            </a:r>
            <a:r>
              <a:rPr b="1" lang="es-ES_tradnl" sz="26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on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Bookman Old Style"/>
              </a:rPr>
              <a:t>vt</a:t>
            </a:r>
            <a:r>
              <a:rPr b="1" lang="es-ES_tradnl" sz="1500" spc="-1" strike="noStrike">
                <a:solidFill>
                  <a:srgbClr val="666699"/>
                </a:solidFill>
                <a:latin typeface="Bookman Old Style"/>
              </a:rPr>
              <a:t> 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: Ventas del periodo 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ES_tradnl" sz="15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: Ventas acumuladas previas al periodo 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M : Mercado potencia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p : Coeficiente de innovació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q : Coeficiente de imitació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1E2D-E189-409C-ACFD-AD7E8DF4C02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85680" y="545760"/>
            <a:ext cx="762984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entas (t) = p (O - Vt ) + q Vt (O - Vt ) / O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 = 0.04  q = 0.6  O = 5000   O: Mercado Potencial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: Coeficiente de innovación q:  Coeficiente de imi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Object 3"/>
          <p:cNvGraphicFramePr/>
          <p:nvPr/>
        </p:nvGraphicFramePr>
        <p:xfrm>
          <a:off x="136440" y="1492200"/>
          <a:ext cx="8821800" cy="530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440" y="1492200"/>
                    <a:ext cx="8821800" cy="53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Rectangle 4"/>
          <p:cNvSpPr/>
          <p:nvPr/>
        </p:nvSpPr>
        <p:spPr>
          <a:xfrm>
            <a:off x="7958160" y="4613400"/>
            <a:ext cx="93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428040" y="2155680"/>
            <a:ext cx="853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2402-3D68-4B34-B3DC-80CA6509295A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gún Charles Revson , presidente de la empresa de cosmética Revl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666699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LA FÁBRICA HACEMOS COSMÉTICOS; EN LA TIENDA, VENDEMOS ESPERANZA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CONSUMIDORES NO COMPRAN PRODUCTOS; ADQUIEREN LA ESPERANZA DE CONSEGUIR BENEFICI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DA29-3D35-48EB-899C-ABC0EB7F8DC5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DUCTO AUMEN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609480" y="1219320"/>
            <a:ext cx="7891560" cy="43383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049200" y="1371600"/>
            <a:ext cx="2661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7d"/>
                </a:solidFill>
                <a:latin typeface="Times New Roman"/>
              </a:rPr>
              <a:t>ASPECTOS AÑADIDO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7d"/>
                </a:solidFill>
                <a:latin typeface="Times New Roman"/>
              </a:rPr>
              <a:t>Producto “aumentado”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1905120" y="2133720"/>
            <a:ext cx="5572080" cy="2619360"/>
          </a:xfrm>
          <a:prstGeom prst="rect">
            <a:avLst/>
          </a:prstGeom>
          <a:solidFill>
            <a:srgbClr val="9999cc"/>
          </a:solidFill>
          <a:ln w="1260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276720" y="3200400"/>
            <a:ext cx="2590560" cy="73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BENEFICIO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BÁSICO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435120" y="2286000"/>
            <a:ext cx="2662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ASPECTOS FORMAL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Producto “intangible”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          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Calidad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8"/>
          <p:cNvSpPr/>
          <p:nvPr/>
        </p:nvSpPr>
        <p:spPr>
          <a:xfrm rot="5400000">
            <a:off x="2247120" y="3514320"/>
            <a:ext cx="737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Marca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9"/>
          <p:cNvSpPr/>
          <p:nvPr/>
        </p:nvSpPr>
        <p:spPr>
          <a:xfrm rot="16200000">
            <a:off x="5921640" y="3492720"/>
            <a:ext cx="803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nvas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3724920" y="4267080"/>
            <a:ext cx="1325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stilo</a:t>
            </a:r>
            <a:r>
              <a:rPr b="1" lang="es-ES_tradnl" sz="1400" spc="-1" strike="noStrike">
                <a:solidFill>
                  <a:srgbClr val="00007d"/>
                </a:solidFill>
                <a:latin typeface="Times New Roman"/>
              </a:rPr>
              <a:t>/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Diseño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1899720" y="5127480"/>
            <a:ext cx="4655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7d"/>
                </a:solidFill>
                <a:latin typeface="Times New Roman"/>
              </a:rPr>
              <a:t>Servicio posventa                          Financiació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12"/>
          <p:cNvSpPr/>
          <p:nvPr/>
        </p:nvSpPr>
        <p:spPr>
          <a:xfrm rot="5400000">
            <a:off x="-254160" y="3785760"/>
            <a:ext cx="3307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7d"/>
                </a:solidFill>
                <a:latin typeface="Times New Roman"/>
              </a:rPr>
              <a:t>Entrega                         Garantía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13"/>
          <p:cNvSpPr/>
          <p:nvPr/>
        </p:nvSpPr>
        <p:spPr>
          <a:xfrm rot="16200000">
            <a:off x="6226560" y="3001680"/>
            <a:ext cx="3637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7d"/>
                </a:solidFill>
                <a:latin typeface="Times New Roman"/>
              </a:rPr>
              <a:t>Instalación</a:t>
            </a:r>
            <a:r>
              <a:rPr b="1" lang="es-ES_tradnl" sz="1800" spc="-1" strike="noStrike">
                <a:solidFill>
                  <a:srgbClr val="00007d"/>
                </a:solidFill>
                <a:latin typeface="Times New Roman"/>
              </a:rPr>
              <a:t>             Mantenimiento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5167800" y="5772240"/>
            <a:ext cx="2889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Fuente: adaptado Philip Kotler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A48A-45AF-4DC2-997A-5E9F5FDB767C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ESARROLLO DE PRODU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salud de LP de muchas compañías está relacionada con su capacidad de inno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no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or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iesgosa y cos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7155-B9AA-45D3-B5B9-BA3F0536B913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ESARROLLO DE PRODU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ficultad del Desarrollo de Productos nuev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ragmentación mer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tricciones so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tricciones guberna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VP más co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EBC3-757B-470E-9A47-6DDC3C039A9C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9044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&amp;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etidores (Benchmark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presentante de V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rec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tros (consultores, agencias, laboratorios universitari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Fuente de Generación 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Id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2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C7C2-6E6A-43B7-A996-C1992BFDDC91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Object 2"/>
          <p:cNvGraphicFramePr/>
          <p:nvPr/>
        </p:nvGraphicFramePr>
        <p:xfrm>
          <a:off x="76320" y="1278000"/>
          <a:ext cx="8915400" cy="476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78000"/>
                    <a:ext cx="891540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Rectangle 3"/>
          <p:cNvSpPr/>
          <p:nvPr/>
        </p:nvSpPr>
        <p:spPr>
          <a:xfrm>
            <a:off x="497160" y="411120"/>
            <a:ext cx="79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Verdana"/>
              </a:rPr>
              <a:t>Manejo de la cartera de produc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2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3C6E-7F0B-4976-84A5-F41B30C33308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0" y="1066680"/>
            <a:ext cx="91440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07000"/>
                </a:solidFill>
                <a:latin typeface="Arial"/>
                <a:ea typeface="Times New Roman"/>
              </a:rPr>
              <a:t>Estrell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ta participación relativa en el mercad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rcado de alto crecimient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randes cantidades de efectivo para financiar el crecimient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tilidades significativas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07000"/>
                </a:solidFill>
                <a:latin typeface="Arial"/>
                <a:ea typeface="Times New Roman"/>
              </a:rPr>
              <a:t>Signos de Interrogació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aja participación en el mercad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rcados creciendo rápidamente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mandan grandes cantidades de efectivo para financiar su crecimient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dores débiles de efectiv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empresa debe evaluar si sigue invirtiendo en éste negoci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474840" y="380880"/>
            <a:ext cx="7992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Verdana"/>
              </a:rPr>
              <a:t>Manejo de la cartera de produc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2:08Z</dcterms:created>
  <dc:creator>Loreto Arenas</dc:creator>
  <dc:description/>
  <dc:language>en-US</dc:language>
  <cp:lastModifiedBy>William Young</cp:lastModifiedBy>
  <dcterms:modified xsi:type="dcterms:W3CDTF">2009-04-27T19:54:12Z</dcterms:modified>
  <cp:revision>409</cp:revision>
  <dc:subject/>
  <dc:title>77n</dc:title>
</cp:coreProperties>
</file>