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A97B-9B83-44C7-AEB9-8643C9261D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6EBF-511A-484C-B88F-B743935225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736C-DC8C-451D-85D8-332E11DC0A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900C-BE2B-4773-8C45-D5890C6727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5A93-4B03-4F24-A8B1-9914E591A0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7E11-88A7-49F4-923B-E6AB63B52B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5214-6277-4989-B53C-9219EE94BB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D725-789C-4EFF-9933-5B91545AE4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E96C-43A7-4CA2-99F1-FD6A054479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D262-3963-4499-BF8F-8023AC17EE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F24-B32F-4606-9659-8C241BD8BB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D2F0-D2AD-4EF6-BF83-57DDF6940F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EE91-162C-4373-87D2-60A12CD688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4C95-EFF5-4971-87E6-2044A85CA4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65A8-8211-427D-A00C-7EFBCF5737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06BE-665A-4803-A4D6-0572FA14DC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A54-5AEE-4E7F-B052-966589A5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6AF-C937-4935-BD57-C0BAEEDF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B37-F236-4D47-8EDA-CFC3869E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FC6-FFEB-43FB-A9C7-874A6696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28E-265E-4DD4-8BFA-4A034EA1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1A4-88FC-4945-9D15-21250951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D1E-B0F7-4E3F-9FE1-26D5231C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5CA-E8AF-488D-9102-159B4568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DAF-5FCD-4BC0-9EBB-9B36FA94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ADC-4F3C-4E62-9C28-D086864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401-2AA6-4231-ADD3-3684F6E1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A66-94C2-4319-8346-6203666D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872A-C79E-45DB-BCFE-2955DBA544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Line 6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MCj03560210000[1]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9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2391850000[1]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10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Line 9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7" name="Line 5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7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9-10-06T23:49:14Z</dcterms:modified>
  <cp:revision>17</cp:revision>
  <dc:subject/>
  <dc:title>Diapositiva 1</dc:title>
</cp:coreProperties>
</file>