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BA6F-B183-4B0B-AFD8-090C00461B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8531-BAB3-400F-BB82-31166FD355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6FDD-3E5F-4C89-B72C-31BE549DAC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3081-9F56-409E-9233-42DC72EBE0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C17E-9A14-4DC0-ADC6-B4067A0CA8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7548-61D2-4333-85A7-02036F467A4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187E-4787-4D51-A1F0-A53AB6F5638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4C30-7BAA-43DB-AB68-7F871D66B1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798D-D867-4B84-8E5F-3407F237CB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A9C3-EB0A-4A5B-8DD7-423239407D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E5FC-F4B7-45F5-A8B5-4958ED8CAF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1949-C85E-44D3-9EE7-19E0C39679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6CA0-54DB-4ED9-8099-6BFD5172F5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6A01-B6FB-490B-A586-BC3B761185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6577-2972-4B3A-BB22-B776521149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1954-D7BA-4EB2-BAEC-6BF23FD72E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E5D-EA77-4B3F-97E6-1F4B4875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413-1D3C-4783-8335-03409688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3B0-0D35-412F-B321-4D410359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D75-2EA1-4542-8412-52F171C5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16E-C481-495E-9635-1574CEFA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A97-6159-4BB8-B6FF-33A4FD82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049-0102-480E-A8EF-70A83AF0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B72-5C7F-4A3A-B997-99694EC7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11D-3016-4495-865C-D0980263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98A9-8287-4680-B77A-DCF52AD9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8F0-8AC6-44C2-BE7C-BDE2CFD5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B4B-DA95-453D-8A60-DAFF4142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8CF4-5916-4291-9ED5-B2969F8175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Line 6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MCj03560210000[1]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MBA2009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 IND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MCj02391850000[1]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MBA2010.d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7" name="Line 9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7" name="Line 5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877080" y="2924280"/>
            <a:ext cx="20876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Line 7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8" name="Oval 5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William Young</cp:lastModifiedBy>
  <dcterms:modified xsi:type="dcterms:W3CDTF">2009-10-06T23:49:14Z</dcterms:modified>
  <cp:revision>17</cp:revision>
  <dc:subject/>
  <dc:title>Diapositiva 1</dc:title>
</cp:coreProperties>
</file>