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0F67-CBE9-4BE7-9D01-ECDE96B05E1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87742AA-B82E-4796-9371-9226CA187EB3}" type="slidenum">
              <a:rPr b="0" lang="es-ES_tradnl" sz="12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51016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19B869-1EDB-4B5E-B4BB-2376F2DCE62E}" type="slidenum">
              <a:rPr b="0" lang="es-ES_tradnl" sz="12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51016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88B8-4A0D-4D11-8AFC-365691CD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488D-1695-42AA-8B8D-FF427AC6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AB23-2F11-4757-B6D6-364837EA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27AC-6388-408A-AF82-37B11DA1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954D-2BCC-454D-B847-2503C272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35D4-9E67-42FC-8852-50D54217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1308-6998-44D2-AE7A-9F3F5286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8B8E-0CCC-442A-A677-DF9A419F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4CAC-628B-41DB-8948-D67B6D68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23D2-197E-48F0-9742-711F9B31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FFDF-44DA-4D65-84A0-2F24A938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1D67-DC6E-4DE9-ABAF-44917859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C4A6-A6CB-4AF9-94E6-5CC61B37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A8A9-5D4E-4F58-8733-590AB180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ED4F-7E20-4520-B7C5-D74054D2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B754-B9C8-4A45-8AA6-7B55291E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3279-DACC-4BE8-9764-F0B34021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C2E4-4BBE-4D3F-8080-5EDD2B0B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5990-35DA-4124-822B-BDCFDAA2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DF3D-A8BA-4695-9280-CF22BD7E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0E8A-24B7-4334-9EDB-728B1DE1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666E-D112-4DA6-A902-945CCEB8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668C-EB4F-441A-A7C8-91ADDEFF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E5AA-6D92-46F1-9693-AFE3ECBA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4DA6-CB1D-48C3-A46E-AF84081FF75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9751-1F63-44AB-89DF-CA508465DDB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6000" y="3428640"/>
            <a:ext cx="6691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Clase Auxiliar N° 2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692360" y="256500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POBREZA: DIAGNOSTICO, POLITICAS E INSTRUMENT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4000" y="60930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Santiago, 12 de noviembre de 2009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530064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Paula Lizárraga Guerrer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Análisis de las interrogan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Cuerpo central del trabaj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Idealmente el análisis de cada interrogante no debe superar las 2 págin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Cada pregunta debe ser considerada como </a:t>
            </a:r>
            <a:r>
              <a:rPr b="0" lang="es-MX" sz="2400" spc="-1" strike="noStrike">
                <a:solidFill>
                  <a:srgbClr val="33cc33"/>
                </a:solidFill>
                <a:latin typeface="Arial"/>
              </a:rPr>
              <a:t>una minut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Es importante que para cada una planteen una posición del grupo respecto a como responde la pregunta el tema plantead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Se debe vincular el análisis a las materias vistas en clases y al análisis bibliográfico (fijarse en las cit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Conclus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Idealmente no debe superar las 3 págin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Deben integrar las características del programa el análisis en las 3 preguntas realizado y su relación con la </a:t>
            </a:r>
            <a:r>
              <a:rPr b="0" lang="es-MX" sz="2400" spc="-1" strike="noStrike">
                <a:solidFill>
                  <a:srgbClr val="33cc33"/>
                </a:solidFill>
                <a:latin typeface="Arial"/>
              </a:rPr>
              <a:t>superación de la pobreza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Debe incluir análisis propio y planteamientos respecto a </a:t>
            </a:r>
            <a:r>
              <a:rPr b="0" lang="es-MX" sz="2400" spc="-1" strike="noStrike">
                <a:solidFill>
                  <a:srgbClr val="33cc33"/>
                </a:solidFill>
                <a:latin typeface="Arial"/>
              </a:rPr>
              <a:t>como reorientar o la necesidad de mantener la política o programa analiza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050920" y="2852640"/>
            <a:ext cx="360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1197000"/>
            <a:ext cx="79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istema de Protección Soci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2349360"/>
            <a:ext cx="817236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Doble propósito del Sistema de Protección Social: </a:t>
            </a:r>
            <a:r>
              <a:rPr b="1" lang="es-MX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igualar      oportunidades en una sociedad desigual y proveer seguridad a las persona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El Sistema de Protección Social implica la articulación ordenada y coherente de grandes reformas sociales: Reforma a la Salud, Reforma a la Educación y Reforma Previsional, entre las principale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Expresión concreta del Sistema es la Red de Protección Social, con beneficios y prestaciones focalizadas y universale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050920" y="2852640"/>
            <a:ext cx="360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7667640" cy="573408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250920" y="5734080"/>
            <a:ext cx="955440" cy="571320"/>
            <a:chOff x="250920" y="5734080"/>
            <a:chExt cx="955440" cy="571320"/>
          </a:xfrm>
        </p:grpSpPr>
        <p:sp>
          <p:nvSpPr>
            <p:cNvPr id="134" name="desk1"/>
            <p:cNvSpPr/>
            <p:nvPr/>
          </p:nvSpPr>
          <p:spPr>
            <a:xfrm>
              <a:off x="250920" y="5734080"/>
              <a:ext cx="955440" cy="56376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0920" y="5734080"/>
              <a:ext cx="9252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  <a:ea typeface="ＭＳ Ｐゴシック"/>
                </a:rPr>
                <a:t>UNIVERSAL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258920" y="2565360"/>
            <a:ext cx="1368360" cy="571680"/>
            <a:chOff x="1258920" y="2565360"/>
            <a:chExt cx="1368360" cy="571680"/>
          </a:xfrm>
        </p:grpSpPr>
        <p:sp>
          <p:nvSpPr>
            <p:cNvPr id="137" name="desk1"/>
            <p:cNvSpPr/>
            <p:nvPr/>
          </p:nvSpPr>
          <p:spPr>
            <a:xfrm>
              <a:off x="1258920" y="2565360"/>
              <a:ext cx="1368360" cy="56412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58920" y="2565360"/>
              <a:ext cx="1324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3366"/>
                  </a:solidFill>
                  <a:latin typeface="Arial"/>
                  <a:ea typeface="ＭＳ Ｐゴシック"/>
                </a:rPr>
                <a:t>FOCALIZADO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187280" y="18900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Prestaciones Focalizadas y Universa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67280" y="616572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alario mínim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63640" y="260280"/>
            <a:ext cx="68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istema de Protección Social Chile Solid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3645000"/>
            <a:ext cx="68407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</a:t>
            </a:r>
            <a:r>
              <a:rPr b="1" lang="es-MX" sz="16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poyo Psicosocial y Bono de Protección Familia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cceso preferente a la oferta programátic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ubsidios monetarias garantizados (SUF, PASIS, SAP Y Bono pro retención escolar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2997360"/>
            <a:ext cx="38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</a:t>
            </a:r>
            <a:r>
              <a:rPr b="1" lang="es-MX" sz="16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omponentes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5084640"/>
            <a:ext cx="756144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</a:t>
            </a:r>
            <a:r>
              <a:rPr b="1" lang="es-MX" sz="16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odelo de Gestión: articulación de redes institucionales y territoriales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</a:t>
            </a:r>
            <a:r>
              <a:rPr b="1" lang="es-MX" sz="16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ctualización del Programa Puente: adecuación de la estrategia al nuevo perfil de vulnerabilidad identificado con la FPS (hogares monoparentales con una mujer a cargo de niños y familias con integrantes con alguna discapacida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1125360"/>
            <a:ext cx="79218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</a:t>
            </a:r>
            <a:r>
              <a:rPr b="1" lang="es-MX" sz="16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Dirigido a familias y personas en situación de extrema pobreza y/o vulnerabilidad, adultos mayores que viven solos y/o con pareja y personas en situación de calle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</a:t>
            </a:r>
            <a:r>
              <a:rPr b="1" lang="es-MX" sz="16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 fines del 2008: 296.775 familias, 5.331 personas en situación de calle y 20.508 adultos mayores.</a:t>
            </a:r>
            <a:r>
              <a:rPr b="0" lang="es-MX" sz="16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619280" y="26028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istema de Protección Integral a la Primera Infancia, Chile Crece Conti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3068640"/>
            <a:ext cx="7344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125"/>
              </a:spcBef>
              <a:buClr>
                <a:srgbClr val="0033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poyo al desarrollo biosicosocial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1125"/>
              </a:spcBef>
              <a:buClr>
                <a:srgbClr val="0033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Protección a la maternidad y paternidad (Paquete legislativo de Chile Crece Contig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1125"/>
              </a:spcBef>
              <a:buClr>
                <a:srgbClr val="0033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ubsidio Primera Infancia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IV.    Cuidado infantil y educación parvularia, de calidad certifica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23493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</a:t>
            </a:r>
            <a:r>
              <a:rPr b="0" lang="es-MX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omponentes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16000" y="1557360"/>
            <a:ext cx="763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</a:t>
            </a:r>
            <a:r>
              <a:rPr b="0" lang="es-MX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Dirigido a niños y niñas en sus primeros años de vida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</a:t>
            </a:r>
            <a:r>
              <a:rPr b="0" lang="es-MX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obertura nacional a partir del 2008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2920" y="5013360"/>
            <a:ext cx="7777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</a:t>
            </a:r>
            <a:r>
              <a:rPr b="0" lang="es-MX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odelo de Gestión: articulación de redes institucionales y territoriales: redes comunales de infancia. </a:t>
            </a:r>
            <a:r>
              <a:rPr b="0" lang="es-MX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GRUPOS DE TRABAJ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l Trabajo Final se realizará en grupos de tres personas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03280" y="3284640"/>
            <a:ext cx="72723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6666"/>
                </a:solidFill>
                <a:latin typeface="Arial"/>
              </a:rPr>
              <a:t>ELEMENTOS A CONSIDERAR EN LA PRESENTACION DEL TRABAJ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ada grupo deberá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Seleccionar un programa o política social de algún país de América Latina y describirlo brevemente (objetivos, componentes, población objetiv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Realizar tres preguntas relativas a los contenidos del curso, pertinentes para analizar el programa seleccionado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testar dichas preguntas introduciendo elementos de análi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cluir sobre la contribución del programa a la superación de la pobrez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2708280"/>
            <a:ext cx="7704000" cy="2449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IMPORTAN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CRITERIO CENTRAL DE EVALUACIO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LABORACION DE PENSAMIENTO PROP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CRONOGRA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Entrega de propuesta de programa seleccionado: </a:t>
            </a: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Viernes 23 de octubre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 al comienzo de la clas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Evaluació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i) presentación oral de los principales resultados obtenidos de la investigación realizada: </a:t>
            </a: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viernes 27 de noviembr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ii) entrega del trabajo escrito, incorporando los comentarios y observaciones realizados a la presentación oral. Extensión máxima del trabajo: 15 páginas (times new roman 12, 11/2 espacio). </a:t>
            </a: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Fecha de entrega: martes 1 de diciembre.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Indicar la razón de la elección del programa que se va analiz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Indicar los objetivos del trabajo que se realizó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No superior a una pági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Descripción del progra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Arial"/>
              </a:rPr>
              <a:t>1.Objetivos, componentes, población objetivo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Idealmente este punto no debe superar las 3 págin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No debe ser una trascripción literal de documentos o la web, sino que el grupo además debe incorporar </a:t>
            </a:r>
            <a:r>
              <a:rPr b="1" lang="es-MX" sz="2400" spc="-1" strike="noStrike">
                <a:solidFill>
                  <a:srgbClr val="33cc33"/>
                </a:solidFill>
                <a:latin typeface="Arial"/>
              </a:rPr>
              <a:t>su opinión respecto de la relación entre los tres aspec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Debe incorporar información sobre resultados obtenid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Se deben citar claramente las fuentes de información utilizad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Interrogantes de análi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e deben plantear </a:t>
            </a:r>
            <a:r>
              <a:rPr b="0" lang="es-MX" sz="2800" spc="-1" strike="noStrike">
                <a:solidFill>
                  <a:srgbClr val="33cc33"/>
                </a:solidFill>
                <a:latin typeface="Arial"/>
              </a:rPr>
              <a:t>interrogantes 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o dicho de otra manera </a:t>
            </a:r>
            <a:r>
              <a:rPr b="0" lang="es-MX" sz="2800" spc="-1" strike="noStrike">
                <a:solidFill>
                  <a:srgbClr val="33cc33"/>
                </a:solidFill>
                <a:latin typeface="Arial"/>
              </a:rPr>
              <a:t>hipótesis de trabajo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 que a partir del análisis documental puedan analizar y extraer algunas conclusio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Idealmente el planteamiento de las interrogantes y su justificación no debe superar las 2 págin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Interrogantes de análi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jemplos de interrogant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ema de investigación: Red Asistencial Municipal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o en la descentralización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riterios de focalización subyacentes a la obtención de los subsidios y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fectos redistributivos de los subsidios disponibles 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4:23:11Z</dcterms:created>
  <dc:creator>Paula Lizarraga</dc:creator>
  <dc:description/>
  <dc:language>en-US</dc:language>
  <cp:lastModifiedBy>Paula Lizarraga</cp:lastModifiedBy>
  <dcterms:modified xsi:type="dcterms:W3CDTF">2009-11-12T16:10:17Z</dcterms:modified>
  <cp:revision>5</cp:revision>
  <dc:subject/>
  <dc:title>Diapositiva 1</dc:title>
</cp:coreProperties>
</file>