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D5B7-EF9C-4D1F-A86F-5FA2AA308B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8A5-07FD-4CA3-90B4-02FD7A5E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441-C668-40FB-B63B-2B3AC9A1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AF6-1D7A-4982-AC07-717378CB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E7F-5240-402A-A048-09F677C6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1080-0AD8-49BF-A1D7-50961BC7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C6E0-8336-4E8D-87AE-0A862B39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9BD9-703A-4588-AFE6-C081B51E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4D7D-AFFE-431C-9E03-73F5E51E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C0B4-8663-442D-858B-9ED88EFE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C729-60F2-44C1-8889-C878A94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6782-C115-4D00-94CD-DCF6FD1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E1F-12FD-49B9-ABF6-CF54813E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56AC-A99F-468F-92E5-8762980B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9055-3FD3-46D2-A716-8E3F9901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7EFD-50AA-4321-BA4D-E3BA757A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3A7F-3B31-44CD-9D4F-D0C68DF3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916C-C01E-4B32-9BAC-628ABF89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37C-8024-4682-A4A0-A4CBFD84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858-DBCE-4BC9-9A87-9F76A13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572-3089-48F1-8DE2-D397868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A96-0E03-4BD2-B82B-BE50F7EE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09B-66D2-4424-A17D-D4E550F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AE0-D391-4E3C-8D6E-5031328D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AB6-E614-47B7-BD4C-06F25F80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C974-7C62-4CD0-A3CB-6DEB29CF636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CA6B-03F6-4DF0-82FB-B013FC3B1AC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9-10-21T14:58:22Z</dcterms:modified>
  <cp:revision>30</cp:revision>
  <dc:subject/>
  <dc:title>Diapositiva 1</dc:title>
</cp:coreProperties>
</file>