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5631-BDFD-43DE-B770-8D99159D011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icialmente implicó relegitimar al Estado y devolverle credi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Quienes viven en condiciones de pobreza son afectados por barreras culturales, por carecer de información sobre los programas, por manejarse dificultosamente en la maraña burocrática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Bienes Públicos, Ej. Epidem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3B99-6395-4942-A317-C01B7E38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7D3-81FD-439B-AC7D-28203159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B31-B491-48CA-AAF9-6E3C7359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FA67-02DE-4B33-B6DD-0C42A2CC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964B-EC42-4A35-939B-2BA8E4BE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9FE9-5B93-4509-9BF6-510F91C3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8D22-49EB-4C43-AE27-6B8ED8E9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D8EC-4E12-4394-8E24-E5822AE0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FD1A-457A-41AA-BF57-1AE58206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EAC7-D010-4E21-8178-607B67FC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FB39-F8C1-4594-B034-F4ECBB8A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E122-1855-4D53-8D89-CDF9A7A9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20A0-1B95-4DF4-8736-8B35635A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5274-E024-48B7-8055-F76CA4B7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2B48-ABD1-4DFF-BFEC-F74F9851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5BB0-4A38-47DE-9CBA-DD0D0317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0B56-D7BD-4BDE-9C1B-5901A612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C7FA-6095-4A34-BA55-6DC8595D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C73-63F9-48DC-96FF-83954D4E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C80-32DC-4FE2-A397-E872A99D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D3CE-AA0F-4BDA-98CB-2E66B6A3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165-9434-4858-9771-393D0DE6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954-5F5B-4637-89DE-E5437F39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60B-4039-4A7F-A3BA-2E08922F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C9C1-629A-48B8-AE41-1D854DEF263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5875-11FD-437B-A32F-A82AAA661F9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116856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SEGUNDO MÓDULO: EVOLUCIÓN DE LA POLÍTICA SOCIAL EN AMÉRICA LATINA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6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ema 4. Las políticas de ajuste estructur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tubre de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153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Por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7956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puesta a la crisis fiscal: reducir el gasto público a fin de equilibrar el  presupuesto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liar los efectos sociales de la crisis y reducir la pobreza: concentrar el gasto social en la población más pobre, dar credibilidad al combate a l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ir el clientelismo: tecnificación y más transparencia en la asignación de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períodos de cris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Limitación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o de necesidades insatisfec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forma perma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mejorar diseño de los progra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su eficac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el impacto en la población destinat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excluir a quienes no afecta la necesidad prevista en el programa  e incluir sólo a los directamente afec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uánd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es posibl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empre que no se vulneren disposiciones legales de prestación de servicios gener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Defensa de bienes públicos (situaciones de epidemia y cuando existe un problema que no es visualizado como tal por la población con capacidad de pa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convien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Bajo crisis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n prosperidad también ya     que asegura impacto en la solución de problemas y libera recur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Magnitud del problema o riesg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uando existe información suficiente para hacerlo con un costo 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37960"/>
            <a:ext cx="84358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. Mecanismos de focalización (selección de beneficiario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33992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demanda (individuos o grupo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potenciales beneficiarios directos (hogares, personas, unidades productivas) ,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ofer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entidades que ofrecen prestaciones, servicios o subsi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Hogares de localidad que califica de pobre, reciben el servicio o subsi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utoselección, programas que solo interesan al grupo al cual se quiere benefic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307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 </a:t>
            </a:r>
            <a:br>
              <a:rPr sz="3800"/>
            </a:b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Instrumentos de selec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34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dividual o famili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rificación situación de ingreso o situación económica: ficha CAS u otra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opio del progra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eño autofocalizante: autoselección o a quienes entregan servicios y atienden a la población mas pobre. Precisa diagnósticos de las instituciones o serv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quiere identificar territorios en los que haya fuerte incidencia de pobr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pas de pobreza, áreas con fuerte concentración de pobreza o necesidades insatisfech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Costos de focaliz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Administra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Tareas de elaboración, aplicación, actualización y control de los instrumentos (varía entre 0.4% y 29% del costo total del progr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psicoso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tigmatización social y dependencia de la población de los programas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fectos secundarios o no esper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parar a los pobres de los no pobres, polarización o d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poyo político y continuidad de los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Errores de focalización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In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l beneficio se filtra hacia segmentos sociales excluidos del grupo destina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Ex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Brecha entre el universo de los destinatarios y los sujetos acogidos por el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981000"/>
            <a:ext cx="8512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No hay una sola manera de focalizar. Ficha socioeconómica de hogares es fal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 es aplicada en forma exclusiva, deja de lado el entorno comunitario en el cual se desenvuelve la vida de las personas, éste es tan importante como las intervenciones a nivel individ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ntajas y desventajas de la focalización dependen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tuación específica y momentos en los cuales se ap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aracterísticas de la pobreza y vulnerabilidades específicas que afectan a la población y los procesos que la determi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Objetivos de la política o program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rticularidades de las instituciones a cargo de la ejecución de los programas y de los sistemas de información que mane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ceptos básicos sobre descentralización del Esta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3588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Proceso de traspaso de atribuciones, competencias y responsabilidades desde el nivel central del Estado a los niveles subnacion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Administrativ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competencias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Financiera o fiscal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influencia en materia de presupuesto (generación de ingresos propios o atribuciones en materia de gast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Democrátic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atribuciones resolutivas para la toma de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341360"/>
          <a:ext cx="8424720" cy="444204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oncen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minución del aparato est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ernización del Estad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oper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iplina financi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librio macroeconómico y disciplina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uen gobier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484280"/>
          <a:ext cx="8424720" cy="328608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mocr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rticipa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trol ciudad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ccountability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gubernamen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stabilidad polí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obern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ranspa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fundización de la democra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juste estructural de los ‘80 – ‘90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texto: gobiernos autoritarios, ajuste macroeconómico y liberalización comercial, crisis de la deu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hile pio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senso de Washingt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formas económicas que impactan en lo social: disminuye el gasto público social, se descentralizan y privatizan los mecanismos de provisión de salud y educación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Modelo asistencial de políticas compensator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líticas de excepción” que van en alivio de población en situación mas difíci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gramas de compens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774440"/>
            <a:ext cx="75247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ceso de regionalizació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2371680"/>
            <a:ext cx="807552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Reordenamiento espacial que busca la articulación económico-social-geopolítica y administrativa en ámbitos territoriales determinados, todo ello con la finalidad de alcanzar el desarrollo autosostenido de grandes unidades territoriales” (CONARA,197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89000"/>
            <a:ext cx="8351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Reorganización administrativa del Estado (1974 – 1976) y conformación del nivel local (1976 – 198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267080" y="6172200"/>
            <a:ext cx="763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8960" y="4067280"/>
            <a:ext cx="79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icio de la desconcentración de la adminis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ior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retarías Regionales Minis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ubsecretaría de Desarrollo Reg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NDR (fondo de compensación territorial) (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6920" y="260280"/>
            <a:ext cx="684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Énfasis en lo l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160640"/>
            <a:ext cx="75614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creto de Ley 1.289 (Año 1975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Orgánica de Municipalidades y Administración Comu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unicipios: órganos funcionalmente descentralizados, se les otorga responsabilidades ejecutivas y de gestión de servicios y se les confiere el rol de “agentes del desarrollo económico y social de las comunas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386064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tablece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unciones privativa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mparti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3500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corpora el Plan regulador comu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473720"/>
            <a:ext cx="784836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..son corporaciones autónomas de derecho público, con personalidad jurídica y patrimonio propio, cuya finalidad es satisfacer las necesidades de la comunidad local y asegurar su participación en el progreso económico, social y cultural de las respectivas comunas”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LOCM, 198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71640" y="765000"/>
            <a:ext cx="69134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Década de los ‘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spaso de los establecimientos educacionales públicos y de los consultorios de salud prim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stema de financiamiento: subvenciones por prestaciones otorg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ndo Común Municipal (1979): fondo de compensación entre los municip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1442880"/>
            <a:ext cx="79218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aramond"/>
              <a:buAutoNum type="arabicPlain" startAt="199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- Ley Orgánica Constitucional sobre Gobierno y Administración Region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stalación de Gobiernos Regionales en las 13 regi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61640" y="119160"/>
            <a:ext cx="72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de la Concertació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Reg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296532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GOR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-&gt; órganos descentralizados, establecidos para la administración superior de cada región, con el objeto de promover el desarrollo económico, social y cultural. Dotados de personalidad jurídica de derecho público, con autonomía relativa y patrimonio prop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898880"/>
            <a:ext cx="74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unciones: generales, ordenamiento territorial y fomento de las actividades productiv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260280"/>
            <a:ext cx="813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Nuevos fondos de inversión de decisión reg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70640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Sectorial de Asignación Regional (ISAR, 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13372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onvenios de Programación (199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565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Regional de Asignación Local (IRAL, 199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50028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 reestructura el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NDR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: ítem provisiones (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4302000"/>
            <a:ext cx="73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gunda mitad de los ’90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fuerzos se concentraron en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nsolidar la institucionalidad regional y fortalecer la capacidad de gestión técnica y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1557360"/>
            <a:ext cx="8136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uev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cepción FND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-&gt; programa de inversiones públicas cuyo fin es el desarrollo regional integ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dificació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structura y funciones de los gobiernos regional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ara una gestión más transparente y eficiente: ARI y PROP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ité interministerial par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zonas extrema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CIDEZ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ación d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 nuevas region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433080"/>
            <a:ext cx="76960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Período 2000 – 2006</a:t>
            </a:r>
            <a:r>
              <a:rPr b="0" lang="en-US" sz="3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1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ás atribuciones y recursos para la gestión muni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708200"/>
            <a:ext cx="817236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mocratización de las municipalidad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2 - Elección indirecta de alcaldes y directa de concej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6 - Elección directa de alcald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1 - Elección separada de alcaldes y concej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71628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Modificación Ley de Rentas Municip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-  Se modifica el Impuesto territorial a los bienes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aíces lo que aumenta la recaudación de los municipios por concepto de recursos propios y por aportes del Fondo Común Municip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osteriores modificaciones años 2000 y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6920" y="18900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0 - 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de Rentas Municipales I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odifica la composición del FCM. Aumenta los aportes al fondo por la vía de: elevar de 4 mil a 8 mil UTM el tope por el pago de patentes comerciales, elevar de 50 a 62,5% el aporte por concepto de permisos de circulación y reajustar de 60 a 65% la contribución de los cuatro municipios de más altos ingre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2492280"/>
            <a:ext cx="7921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005 -  </a:t>
            </a: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Ley de Rentas Municipales II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Nuevos recursos para los municipios provenientes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. Reavalúo de bienes raíces agrícolas y no agr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. Reavalúo anual sitios no edif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3. Eliminación de exenciones priv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4. Contribuciones de inmuebles fisc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5. Patentes de Sociedades de Profes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6. Patentes acu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7. 18% multas juzgados de policía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8. Aporte fiscal directo a los municipios (218.000 UT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9. Patentes mine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260280"/>
            <a:ext cx="7921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odificación de criterios para el traspaso de recursos en educación y sal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418608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4 - Se sustituyen las subvenciones por tipo de prestación entregada (Fapem) por el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per-cápit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permite elegir el consultorio donde inscribi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70028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7–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ueva ley de subvención escol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istema tarifario que reconoce diferencias de costo de acuerdo a la localización geográfica de los establecimientos y otorg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asignación de zon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subvención por ruralidad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tipo y nivel educacional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565200"/>
            <a:ext cx="81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1773360"/>
            <a:ext cx="813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1 – Estatuto Docente (mejora las remuneraciones, bonificaciones por perfeccionamiento, experiencia profesional y trabajo en condiciones difíciles, pero instituye la inamovilidad en el puesto de trabajo: rigidez en la gestión municip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86064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– Estatuto del Personal de la Salud Municipalizada (normas sobre concursos, reglas de promoción funcionaria y remuneraciones, capacitación permanente y reconocimiento de anteceden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60280"/>
            <a:ext cx="8137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edidas que restaron autonomía municipal en la gestión del personal de salud y educ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nsenso de Washington (1989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981000"/>
            <a:ext cx="849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stado de políticas económicas consideradas durante los años ‘90 por los organismos financieros internacionales y centros económicos con sede en Washington, como el mejor programa económico que los países latinoamericanos debían aplicar para impulsar el cre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912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Énfasis de las reformas es netamente económico, pero impacta directamente en las polític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ye el gasto público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 descentralizan y privatizan los mecanismos de provisión de salud y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s recomendaciones emanadas de las instituciones financieras multilaterales se traducen en la adopción de un modelo asis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olíticas compensatorias para la atención focalizada de los sectores sociales en extrem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2565360"/>
            <a:ext cx="79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8 - Reforma constitucional: autonomía a las municipalidades en la fijación de plantas y remuneraciones (artículo 1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2602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Avances en el área de la gestión municip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981000"/>
            <a:ext cx="7775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5 - Programa de Fortalecimiento Municipal (PROFIM): apoya técnicamente a las municipalidades con mayores dificultades de gestión para elaborar planes de desarrollo, diseñar estrategias de planificación organizacional y presupuestaria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3840" y="3354480"/>
            <a:ext cx="8426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999 – Reforma LO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s capacidades de asociativismo municip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la obligatoriedad de coordinación de los servicios públicos en el territorio comu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torga mayor capacidad de fiscalización del Concejo Muni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 competencia municipal en las áreas de asistencia jurídica, fomento productivo, prevención y atención de catástrofes, seguridad ciudadana y promoción de igualdad de oportunidades entre hombres y muj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mecanismos de planificación municipal (PLADECO y Presupuesto).</a:t>
            </a: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rolario del ajuste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270080"/>
            <a:ext cx="8435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 política social en América Latina se debate ent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determinados por el mercado: privados, individualistas e inequitativos (Argentina, Chi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correctores del mercado: públicos, solidarios e igualitarios: (Brasil y Costa Ric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005360"/>
            <a:ext cx="822960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¿Cómo generar una reorganización del Estado que entregue más recursos y mayores responsabilidades a los entes subnacionales, capaz de reconocer y responder a la diversidad de situaciones locales, que promueva la participación social y busque soluciones a los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senso de Washingt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ciplina fiscal, de modo tal de garantizar excedentes presupues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ío de las prioridades del gasto público a las áreas más productivas (salud, educación e infraestruc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forma fiscal: bajar las tasas de i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mercad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ntención tipos de cambio estandarizados y compet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del comercio, supresión de las contingencias y baja de aranceles aduan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gual tratamiento a las inversiones extranjeras directas que a las inte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vat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regulación - también de los sectores con fines so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Garantía de los derechos de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ivat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05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 sentido estricto significa el término de responsabilidades gubernament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s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tica de concesiones (en infraestruc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a parte de los servicios sociales no son privatizados en su forma "tradicional", sino que pasan a ser provistos por el sector privado, aun cuando su financiamiento permanece a cargo del Estado: modalidad de ejecución de políticas públicas a través de medios privad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 justifica por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iciencia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carga tributaria en América Latina pone límite a la provisión de servicios públicos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do no tiene capacidad de dar respuesta a problemas complejos y dive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69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Externalización o subcontrat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Estado busca aunar recursos para fines sociales y/o aumentar la eficiencia de lo que hace, para lo cual se vincula con distintos segmentos del sector privado, las empresas lucrativas, organismos sin fines de lucro, la comunidad y las famil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onopoly franchis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designa a una empresa privada para que bajo estándares y tarifas prefijadas convenidas entregue el servicio en cuestión; la empresa es dueña del servicio y realiza las inversiones que sean neces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anagment contra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es dueño y mantiene la propiedad y responsabilidad por un servicio, pero entrega su administración a manos priv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Vouchers” o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ciudadano obtiene bienes y servicios de modo gratuito o subsidiado por el gobierno (con co-pago) y tiene libertad de elección respecto a donde adquirir el bien o serv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</a:t>
            </a: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ocalizadas</a:t>
            </a:r>
            <a:r>
              <a:rPr b="1" i="1" lang="es-ES_tradnl" sz="38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proponen beneficiar únicamente a sectores poblacionales ubicados por debajo de cierto umbral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focalización es una opción e instrumento de las políticas sociales, al servicio de los objetivos de dichas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i es conveniente / pertinente focalizar depende de los objetivos de la política así como de la magnitud del tema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Mientras menor la magnitud o extensión de la pobreza mayor la necesidad de focaliz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n situaciones de pobreza generalizada es mas difícil y conflictivo foc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 Focalizad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formulan pensando en un grupo destinatario específic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CATEG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l grupo se delimita por alguna vulnerabilidad específica asociada a una situación sociodemográfica, de ciclo vital o de inserción produ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limita el grupo destinatario según una variable que refleja  pobreza o riesgo social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subdere</cp:lastModifiedBy>
  <dcterms:modified xsi:type="dcterms:W3CDTF">2009-10-21T14:58:22Z</dcterms:modified>
  <cp:revision>30</cp:revision>
  <dc:subject/>
  <dc:title>Diapositiva 1</dc:title>
</cp:coreProperties>
</file>