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064D-1252-43C1-808C-7C7C633851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E3B-278F-4F56-938C-67F0D66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3B3-AC4A-4848-BC20-C97F3CF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390-805D-48AA-ABC0-7F6B1A35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D6D-0283-4277-B85C-274D30B5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F36-6AD2-4DCC-BFFD-583E5F3F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25AC-CE26-49B4-A4D3-18468833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25C-C245-4C0E-9108-56728095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22A-2382-41FB-86E0-9245BB0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ACA7-88AD-4815-A3C1-7735040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588-15B3-4360-80B0-F4B73EC7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AA0B-808F-42F2-9447-BC33851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295-6D40-4C4A-8BD9-A01AFBA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4A5-7470-4908-96D2-22EA6B5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CE83-4D08-4FEA-8F70-4C7E6A8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7EAA-9EAB-455C-99D2-CBB23EB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5ED-64A3-4A42-82D9-C8C5BAF3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7DB2-0053-4366-B4D6-8F175443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948-59A5-42C8-B6D5-7C505E4C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81C-1BB3-4E07-8479-AF804158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567-4780-41F2-9C0D-BE30083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A58-0E61-4A80-AAEF-BA11349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C2B-55C6-4CD6-98DE-8AF39A8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D42-2005-4E4E-87B8-776ECB24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004-BE11-49CB-BC4A-AA6DB88E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5C5-41BF-4C76-80F2-82566D05854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9EC-ED24-421B-989D-AD4230CB723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9-10-21T14:58:22Z</dcterms:modified>
  <cp:revision>30</cp:revision>
  <dc:subject/>
  <dc:title>Diapositiva 1</dc:title>
</cp:coreProperties>
</file>