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7DDE-846B-4F8F-95E5-9764C778E7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63F-EEF1-4CC7-8D92-65E4D761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ED2-C4B3-48E1-86EF-DE2DE7B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907-0E9B-45E7-B380-60302DD3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CF3-1FB6-4EAC-9792-89CF8463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3E8-A902-4DC1-AC0E-3B88F703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4A53-DB1A-4C8C-A280-4572D41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A71B-61A8-4B94-9851-89FE159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B4F6-685C-480F-ACBE-9BD1E17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F3DB-7887-4ABD-9338-929F788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5AFE-C8BE-4E27-9755-94E2FE3A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FE4C-6786-4801-B010-5B24D40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483-FAB1-4678-933D-6CE3BBB2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469-92AF-4D70-8D2D-59B6A62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147-89D4-421D-9EF6-5D7D795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AB44-A148-4EF6-A569-FC8E16A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F948-795F-496E-AF92-DEA1FA94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72C-98D7-4E95-AB2C-4AFAD8A9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5AA-CB6A-4199-982C-BCA2A1ED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6B2-4B33-4F41-9545-17CEA1C5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AC3-8BEA-4063-A7D7-DCA9F296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577-A444-412F-AE20-75E1361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C91-EDF5-47A2-98E4-EE5F878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248-25E8-4D35-B737-8BB4A13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B59-E936-4BFE-9005-F5413DF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3D3-8369-452F-B454-02DC1164A5D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1EF4-D773-4FA3-A7F5-DBCE832DE17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9-10-21T14:58:22Z</dcterms:modified>
  <cp:revision>30</cp:revision>
  <dc:subject/>
  <dc:title>Diapositiva 1</dc:title>
</cp:coreProperties>
</file>