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4D5-B421-447F-9F42-3E782436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267C-D15C-43EE-A0E6-EAB2FCCE4CF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E0DF-50BD-4171-952A-E6A8650E1BF0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1CF6-D18D-4709-A32A-913BB8517EE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A613-0ACA-4068-8D4B-C911A47D438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B4BE-EEE9-4F01-8E63-21EA884703A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474A-009D-45ED-AFC5-D0BAB226F9E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6EFB-C7A8-4681-9159-221E9BB71DF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354F-CDD9-40B5-9587-B8AB33A49BB4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185B-4560-40CD-8716-9D18A9CD36D7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9129-A8F8-4EDD-B233-17FBF1D5FC2D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40E9-E4E1-49F9-8EC9-FCD05797DE4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554A-6D34-44E8-82F5-CF77D0C9337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97D-C0BB-4D20-8C83-FEEA2A6DB278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598D-FC8D-450F-864B-1272E683ED2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7C6-653D-4223-B9D0-13D75562D0CA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A9B-78ED-4ABD-95D2-DD37FEFD81B9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0BE3-15B6-41F8-93DC-4A28ED64B00F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6AFA-CDBB-4E21-B547-1FC3A6FE1F11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8C1B-297B-464E-A79B-09F669FB9ABB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6F7B-A061-424C-8226-9CDEACD54F3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4CD4-E07F-4F05-8F93-841543FF0ECE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7177-08CC-47D7-A110-259EECABFDFC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B633-03A5-4539-B69B-90A83BEF28A6}" type="slidenum">
              <a:rPr b="0" lang="en-US" sz="12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B4B-CA0B-4319-B2B0-6FE718CC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1A2-5869-4039-8E94-809A8276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153-1F18-44B9-AA89-2890DD56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1B6-7203-4648-8D7C-F5EC672A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858F-F8C6-4E93-B3E2-3C60527A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E41C-BFE2-46BC-A2FB-D86879BE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E5E8-6EA2-49D4-AAD1-6E802C7C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6DDF-F0A3-4253-A81D-07C262CF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B2CC-094D-4194-8D14-52C5D66E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C926-3B18-4F50-B167-C1A5F88A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9EB7-8D52-4A2B-8061-26C2439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270-A1DB-47E4-8043-BAF386AF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475D-7740-450E-8FC4-99BE4549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5BB6-B3CA-4F0A-A83D-AFED089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C84C-742F-42EF-8F28-59D56166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9C52-C269-4A69-851B-87F36D32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4222-4EE4-4F4B-A0ED-3A033DA0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40B-D5F2-4EB1-8973-4B57FF33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2CD-5E1D-46B6-BBEB-4BAF0067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401-8482-4AF3-89F8-24A5003B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FBD-EC07-4235-8C48-AB3C5AF2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9EA-8714-4DEC-9329-9ACA47DB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396-E88F-42F7-8A30-075ED7EC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0BF-9D10-4796-91AF-7749558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AD09-6706-4C3C-BC90-BBC3D4670619}" type="slidenum">
              <a:rPr b="0" lang="en-US" sz="1000" spc="-1" strike="noStrike">
                <a:solidFill>
                  <a:srgbClr val="fbfff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1DE5-9ED4-4996-83D8-66AD4471DA5F}" type="slidenum">
              <a:rPr b="0" lang="en-US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Y REGULACIÓN DEL SISTEMA DE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9 de noviembre 2009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12" name="Rectangle 3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13" name="Rectangle 4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1" name="Line 42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2" name="Line 43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3" name="Line 44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4" name="Line 45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5" name="Line 46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59" name="Line 50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0" name="Line 51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1" name="Line 52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  <p:sp>
          <p:nvSpPr>
            <p:cNvPr id="165" name="Line 56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Tahoma"/>
              </a:endParaRPr>
            </a:p>
          </p:txBody>
        </p:sp>
      </p:grpSp>
      <p:sp>
        <p:nvSpPr>
          <p:cNvPr id="166" name="Text Box 57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Gráfico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279000" cy="6089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304920" y="4572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asa de graduación de educación secundar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29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4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609480"/>
          <a:ext cx="9258480" cy="577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2584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cxnSp>
        <p:nvCxnSpPr>
          <p:cNvPr id="181" name="6 Conector recto de flecha"/>
          <p:cNvCxnSpPr/>
          <p:nvPr/>
        </p:nvCxnSpPr>
        <p:spPr>
          <a:xfrm flipH="1">
            <a:off x="3962160" y="3429000"/>
            <a:ext cx="838800" cy="457920"/>
          </a:xfrm>
          <a:prstGeom prst="straightConnector1">
            <a:avLst/>
          </a:prstGeom>
          <a:ln cap="sq" w="1260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4" name="3 Conector recto de flecha"/>
          <p:cNvCxnSpPr/>
          <p:nvPr/>
        </p:nvCxnSpPr>
        <p:spPr>
          <a:xfrm flipH="1">
            <a:off x="1980360" y="1599120"/>
            <a:ext cx="762840" cy="68652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hart 3" descr=""/>
          <p:cNvPicPr/>
          <p:nvPr/>
        </p:nvPicPr>
        <p:blipFill>
          <a:blip r:embed="rId1"/>
          <a:stretch/>
        </p:blipFill>
        <p:spPr>
          <a:xfrm>
            <a:off x="225360" y="1316160"/>
            <a:ext cx="8925120" cy="5316480"/>
          </a:xfrm>
          <a:prstGeom prst="rect">
            <a:avLst/>
          </a:prstGeom>
          <a:ln w="0">
            <a:noFill/>
          </a:ln>
        </p:spPr>
      </p:pic>
      <p:sp>
        <p:nvSpPr>
          <p:cNvPr id="186" name="2 CuadroTexto"/>
          <p:cNvSpPr/>
          <p:nvPr/>
        </p:nvSpPr>
        <p:spPr>
          <a:xfrm>
            <a:off x="68580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ASTO POR ESTUDIANTE EN EDUCACIÓN TERCIARIA RESPECTO A PIB PER CAPITA EN PPC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hart 2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8547120" cy="5724720"/>
          </a:xfrm>
          <a:prstGeom prst="rect">
            <a:avLst/>
          </a:prstGeom>
          <a:ln w="0">
            <a:noFill/>
          </a:ln>
        </p:spPr>
      </p:pic>
      <p:sp>
        <p:nvSpPr>
          <p:cNvPr id="188" name="2 Rectángulo"/>
          <p:cNvSpPr/>
          <p:nvPr/>
        </p:nvSpPr>
        <p:spPr>
          <a:xfrm>
            <a:off x="5335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GASTO POR ESTUDIANTE EN EDUCACIÓN SECUNDARIA RESPECTO A PIB PER CAPITA EN PPC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PRESENTA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volución reciente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Temas centr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docencia pregrad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Un sistema caro e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roducción de bienes públicos y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8380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190" name="Oval 7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ado alto costo requieren apoy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obre educando en años y baja eficiencia y cal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OL DEL ESTAD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coordinación e incentiv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ineación incentivos de actor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ercado de capitales y liquidez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uración, calidad y contenido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Investigación y extens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Fallas de información respecto a instituciones, carreras y mercado labor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quidad, igualdad de oportunidades, integración soci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LO PÚBLICO Y LO PRIVADO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niversidades estat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rtes públicos a universidades privadas relacionados con investigación y desarroll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Tahoma"/>
              </a:rPr>
              <a:t>POLÍTICA DE LAS POLÍTICA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xistencia de poderosos grupos de interé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studiantes, académicos, Iglesias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ntrada de actores causada por políticas crea “path dependence” y modifica posibilidades de acció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jemplos: privados, ban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Respaldo para discus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ecesidad de integrar sistemas de inform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término y mejorar distribución calidad educación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+ recursos en los más pobres (ej. subvención diferenciada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Otros programas pro-reten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EQUIDAD EN ACCESO Y RETENCIÓN EN EDUCACIÓN SUPERIO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Acción afirmativa en acces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Garantizar créditos y extensión a carreras cort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c6600"/>
                </a:solidFill>
                <a:latin typeface="Tahoma"/>
              </a:rPr>
              <a:t>Incluir costo mantención en ayudas o favorecer horarios que permitan trabajo part-time, ej. Brasil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RÉDITO CONTINGENTE A INGRES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s alternativa más eficiente (dependiendo del costo de administración) y just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Reduce “sobre educación” y demora en terminar carrera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Además, mejora el ajuste de la oferta de graduados a necesidades del mercado laboral, especialmente si acompañado por sistemas de información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Los subsidios a educación superior benefician a los grupos de mayores ingresos (ex-ante y ex-post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“</a:t>
            </a: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Sobre-educación”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universidades sin arancel diferenciad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Desesperanza aprendida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1 Gráfico" descr=""/>
          <p:cNvPicPr/>
          <p:nvPr/>
        </p:nvPicPr>
        <p:blipFill>
          <a:blip r:embed="rId1"/>
          <a:stretch/>
        </p:blipFill>
        <p:spPr>
          <a:xfrm>
            <a:off x="-55440" y="1365120"/>
            <a:ext cx="9254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Tahoma"/>
              </a:rPr>
              <a:t>TASAS DE ENTRADA A EDUCACIÓN SUPERIOR TIPO B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1 Gráfico" descr=""/>
          <p:cNvPicPr/>
          <p:nvPr/>
        </p:nvPicPr>
        <p:blipFill>
          <a:blip r:embed="rId1"/>
          <a:stretch/>
        </p:blipFill>
        <p:spPr>
          <a:xfrm>
            <a:off x="-60480" y="1365120"/>
            <a:ext cx="92649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Tahoma"/>
              </a:rPr>
              <a:t>Matrícula bruta educación superior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8077320" cy="512424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0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5,3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8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0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4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6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3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má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7,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48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2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9,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5,8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enezuela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9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1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34,4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Sala Auditorio</cp:lastModifiedBy>
  <dcterms:modified xsi:type="dcterms:W3CDTF">2009-11-09T16:34:05Z</dcterms:modified>
  <cp:revision>61</cp:revision>
  <dc:subject/>
  <dc:title>ANÁLISIS ECONÓMICO DE LA EDUCACIÓN SUPERIOR</dc:title>
</cp:coreProperties>
</file>