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0A84-A7FF-42FF-8B7D-F12039BEA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8B14-6D9B-46CD-AA81-89442A20914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88E7-C363-4833-8A99-89FAB73C5C9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EB07-FDE3-4CD0-8D1C-78E77D979B5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4011-7E29-42C1-8FD3-59117961C9F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87E6-6BE6-431F-B914-A46CCF44E98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C6F1-C0A8-43BA-859D-94971DC473A2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403C-914B-4A9A-A477-62C56EE4F485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3CE7-DFFE-43E9-9AF7-5BE55032ACE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45C8-DE22-443D-9964-17092CA157F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56AE-FA6C-41AA-BBA9-30353A01F21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25B1-F6CA-4209-B314-45CD11C942B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1B85-6A1B-462F-AB34-49CF903DD35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BB11-9241-4C7E-80A1-C2719112C95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1D18-09A6-479F-817B-92CA5B45D57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9D17-90BD-4F76-AE48-1AA91EBB4A4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51FB-6378-4791-A5D3-B86E57B78A1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9F32-AD33-47A5-A27A-547ED06C03C3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F6B2-C99A-45B1-8A3D-F94F1CB0A83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1815-FC9C-457F-8F15-7294B138FE2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B101-312A-4CBD-8033-20C633A59FB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61DE-9566-4AB7-8522-3DCCF30D70F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A042-B710-4739-BC48-7345308DB97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A8F0-D6B4-4B74-99D7-73B9E1B1728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D09-4885-45F3-BE4A-4A57B61A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03A-DED7-4F72-ABB6-18D7FC47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F69-139D-4C68-98BF-AF285AD4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C8B-93BB-4866-9B9E-A14B25D4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B450-E185-4DA5-9F79-5D77AE32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196-82F8-4E22-B6A0-4FD1E0C6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3EC3-A11E-438B-BC4E-5EFDF5C0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28A5-F1D9-4157-82C0-297E0F5B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DB44-6A87-4918-8C43-03B276FE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7DDA-87A3-47AA-9E38-E4E27A2F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D3D7-12BE-4371-A586-320C40CE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869-F3FC-48EA-AB03-1D616F30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63DF-5B1E-4565-BA13-E373FFF4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8E5D-029D-445C-BA8F-5A536805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1450-9DD0-4D3A-9BDB-75BC696D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3939-AE37-465A-A0F8-AD2AF7EB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1E12-33C0-49BC-9745-A3686773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26E-5F57-4E03-BDBD-FD2ADA43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261-4D2D-4AB0-9D80-6AB4DB9D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A73-FFF5-4CEC-8DB3-E093D29B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08F-556C-45A5-B9D4-05F8C89C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981-9477-477B-ACBC-CC9B6A1C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461-4291-4573-B68C-6097AEF2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CAD-1844-45D6-A251-C1827FC2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05C7-C70E-4C4C-9D27-5E57789AE9D7}" type="slidenum">
              <a:rPr b="0" lang="en-US" sz="1000" spc="-1" strike="noStrike">
                <a:solidFill>
                  <a:srgbClr val="fbfff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C5C9-E394-4A3B-B5C6-0B5492092690}" type="slidenum">
              <a:rPr b="0" lang="en-US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Y REGULACIÓN DEL SISTEMA DE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9 de noviembre 2009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12" name="Rectangle 3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13" name="Rectangle 4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2" name="Line 43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3" name="Line 44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9" name="Line 50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0" name="Line 51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1" name="Line 52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3" name="Line 54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4" name="Line 55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5" name="Line 56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</p:grpSp>
      <p:sp>
        <p:nvSpPr>
          <p:cNvPr id="166" name="Text Box 57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Gráfico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279000" cy="6089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304920" y="4572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asa de graduación de educación secundar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9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4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609480"/>
          <a:ext cx="9258480" cy="57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2584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cxnSp>
        <p:nvCxnSpPr>
          <p:cNvPr id="181" name="6 Conector recto de flecha"/>
          <p:cNvCxnSpPr/>
          <p:nvPr/>
        </p:nvCxnSpPr>
        <p:spPr>
          <a:xfrm flipH="1">
            <a:off x="3962160" y="3429000"/>
            <a:ext cx="838800" cy="457920"/>
          </a:xfrm>
          <a:prstGeom prst="straightConnector1">
            <a:avLst/>
          </a:prstGeom>
          <a:ln cap="sq" w="1260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4" name="3 Conector recto de flecha"/>
          <p:cNvCxnSpPr/>
          <p:nvPr/>
        </p:nvCxnSpPr>
        <p:spPr>
          <a:xfrm flipH="1">
            <a:off x="1980360" y="1599120"/>
            <a:ext cx="762840" cy="68652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3" descr=""/>
          <p:cNvPicPr/>
          <p:nvPr/>
        </p:nvPicPr>
        <p:blipFill>
          <a:blip r:embed="rId1"/>
          <a:stretch/>
        </p:blipFill>
        <p:spPr>
          <a:xfrm>
            <a:off x="225360" y="1316160"/>
            <a:ext cx="8925120" cy="5316480"/>
          </a:xfrm>
          <a:prstGeom prst="rect">
            <a:avLst/>
          </a:prstGeom>
          <a:ln w="0">
            <a:noFill/>
          </a:ln>
        </p:spPr>
      </p:pic>
      <p:sp>
        <p:nvSpPr>
          <p:cNvPr id="186" name="2 CuadroTexto"/>
          <p:cNvSpPr/>
          <p:nvPr/>
        </p:nvSpPr>
        <p:spPr>
          <a:xfrm>
            <a:off x="68580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ASTO POR ESTUDIANTE EN EDUCACIÓN TERCIARIA RESPECTO A PIB PER CAPITA EN PPC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hart 2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8547120" cy="5724720"/>
          </a:xfrm>
          <a:prstGeom prst="rect">
            <a:avLst/>
          </a:prstGeom>
          <a:ln w="0">
            <a:noFill/>
          </a:ln>
        </p:spPr>
      </p:pic>
      <p:sp>
        <p:nvSpPr>
          <p:cNvPr id="188" name="2 Rectángulo"/>
          <p:cNvSpPr/>
          <p:nvPr/>
        </p:nvSpPr>
        <p:spPr>
          <a:xfrm>
            <a:off x="5335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GASTO POR ESTUDIANTE EN EDUCACIÓN SECUNDARIA RESPECTO A PIB PER CAPITA EN PPC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PRESENTA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volución reciente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emas centr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docencia pregrad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Un sistema caro e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roducción de bienes públicos y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190" name="Oval 7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ado alto costo requieren apoy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obre educando en años y baja eficiencia y cal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OL DEL ESTAD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coordinación e incentiv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ineación incentivos de actor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ercado de capitales y liquid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uración, calidad y contenido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vestigación y extens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información respecto a instituciones, carreras y mercado labor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quidad, igualdad de oportunidades, integración soci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LO PÚBLICO Y LO PRIVADO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niversidades estat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rtes públicos a universidades privadas relacionados con investigación y desarroll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Tahoma"/>
              </a:rPr>
              <a:t>POLÍTICA DE LAS POLÍTICA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xistencia de poderosos grupos de interé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studiantes, académicos, Iglesias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ntrada de actores causada por políticas crea “path dependence” y modifica posibilidades de acció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jemplos: privados, ban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Respaldo para discus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ecesidad de integrar sistemas de inform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término y mejorar distribución calidad educación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+ recursos en los más pobres (ej. subvención diferenciada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Otros programas pro-reten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EQUIDAD EN ACCESO Y RETENCIÓN EN EDUCACIÓN SUPERIO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Acción afirmativa en acces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Garantizar créditos y extensión a carreras cort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Incluir costo mantención en ayudas o favorecer horarios que permitan trabajo part-time, ej. Brasil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RÉDITO CONTINGENTE A INGRES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s alternativa más eficiente (dependiendo del costo de administración) y just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Reduce “sobre educación” y demora en terminar carrera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Además, mejora el ajuste de la oferta de graduados a necesidades del mercado laboral, especialmente si acompañado por sistemas de información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Los subsidios a educación superior benefician a los grupos de mayores ingresos (ex-ante y ex-post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“</a:t>
            </a: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Sobre-educación”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universidades sin arancel diferenciad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Desesperanza aprendida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1 Gráfico" descr=""/>
          <p:cNvPicPr/>
          <p:nvPr/>
        </p:nvPicPr>
        <p:blipFill>
          <a:blip r:embed="rId1"/>
          <a:stretch/>
        </p:blipFill>
        <p:spPr>
          <a:xfrm>
            <a:off x="-55440" y="1365120"/>
            <a:ext cx="9254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B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1 Gráfico" descr=""/>
          <p:cNvPicPr/>
          <p:nvPr/>
        </p:nvPicPr>
        <p:blipFill>
          <a:blip r:embed="rId1"/>
          <a:stretch/>
        </p:blipFill>
        <p:spPr>
          <a:xfrm>
            <a:off x="-60480" y="1365120"/>
            <a:ext cx="92649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Tahoma"/>
              </a:rPr>
              <a:t>Matrícula bruta educación superior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8077320" cy="512424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0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5,3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8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0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4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6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3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má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7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9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5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ezuel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4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Sala Auditorio</cp:lastModifiedBy>
  <dcterms:modified xsi:type="dcterms:W3CDTF">2009-11-09T16:34:05Z</dcterms:modified>
  <cp:revision>61</cp:revision>
  <dc:subject/>
  <dc:title>ANÁLISIS ECONÓMICO DE LA EDUCACIÓN SUPERIOR</dc:title>
</cp:coreProperties>
</file>