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8.png" ContentType="image/png"/>
  <Override PartName="/ppt/media/image16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DA8B-1B9B-473E-8C6B-454FC68DE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673B-D681-47D4-8BE9-ABEC17394C87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FC05-CF94-46A6-BDAA-D8392862F50A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02D3-FBD4-4DF3-971C-33A63A2A59E5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1608-C589-4576-92C6-81FD32C870E6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F247-C9EF-4E37-A452-6E9079BE1D08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0DA1-E56F-4A54-9B66-6CF5932CA7DA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rigor indicador beneficios/matrícula es una aproximación muy gruesa a la cobertura de las ayudas estudiantiles, puesto que hay estudiantes con más de un beneficio y hay beneficios de becas que son otorgados a alumnos matriculados en otras instituciones de educación supe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DFD5-7BE4-4759-9349-309CB74C26E3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5462-2638-47BA-AED5-3664A8D36F62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4ECC-9E72-42B1-A0C4-F7EB641B6A2A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1DB4-9F5D-47AC-B790-11386E3D39D7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D8F8-2D01-42FC-BBCC-B1F83043B37B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6BEE-F211-498D-8718-8144933F3A30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83D1-E2BA-4ECF-9FB8-CEEB3FE1BA71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4886-B840-4CEE-94D9-515C4295EF49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50C6-BEDD-41B0-97E7-058C0F656412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6DA5-B737-4CE7-8975-A38E0AB0C071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B1C2-A268-4BBF-9703-3F5C8D56B1CE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98DB-E1F2-463A-BBEA-00DC75D3DC0F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132A-75F0-4D44-B84B-2A18B04E50DC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2DCC-D1BB-4014-8297-91A2328D3B0E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C7CD-1D54-4BA0-B707-F0CBB431EB5E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6A8B-0A8A-49E9-89FD-898428FCD4A5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05B0-64CB-4526-AC39-C3AAE302B054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3857-BF03-47B9-9766-287075D2D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70F8-8278-430E-B57E-76B11FA5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5268-4773-4C90-9C51-969B6EAF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DF57-456C-4D65-B7C0-127ECD32B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F354-68CE-49AB-AD10-BD561676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7F37-260A-4314-8A3B-E6F91CC6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2D93-39A0-4918-8E13-733D4B70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9B8F-F1F8-4B9E-A088-ADDD6F16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49BB-0EAB-4FC9-8624-D3BAC619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A8B2-CE49-4279-992E-5F89B56E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2A6F-8972-4DD2-960E-60C26E3C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C75D-0305-43C7-AFC8-889DAF08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7BA8-87C2-448F-BE9B-84A41768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35A8-F5A0-4A0B-97B5-FAB65799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7E67-7A0F-445B-A076-E18E9982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D7AB-22AA-4D94-B12F-FDEBA852C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6897-E73C-451A-891B-4304E49A8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11C5-A0B2-4E57-AA2C-595CC209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A784-4103-4036-9F5C-2DBE8474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7EBD-080B-462A-BB0F-DB96A017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1F88-34DD-47AE-B77B-250BCDAA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9A30-2742-443D-A398-48B25306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8285-530C-4F3D-BCCB-62C1821E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0A0C-A4FC-4752-B630-8A62E1D0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E9CB-9D4B-4419-AE9C-A755424836A3}" type="slidenum">
              <a:rPr b="0" lang="en-US" sz="1000" spc="-1" strike="noStrike">
                <a:solidFill>
                  <a:srgbClr val="fbfff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DE60-9616-47F0-BBD0-E9FD992282AC}" type="slidenum">
              <a:rPr b="0" lang="en-US" sz="10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8288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FINANCIAMIENTO Y REGULACIÓN DEL SISTEMA DE </a:t>
            </a:r>
            <a:r>
              <a:rPr b="0" lang="es-ES_tradnl" sz="3600" spc="-1" strike="noStrike">
                <a:solidFill>
                  <a:srgbClr val="cc9900"/>
                </a:solidFill>
                <a:latin typeface="Arial Black"/>
              </a:rPr>
              <a:t>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240" y="3962520"/>
            <a:ext cx="7162920" cy="100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Pablo González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Santiago, 9 de noviembre 2009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Verdana"/>
              </a:rPr>
              <a:t>DISTRIBUCIÓN DE LA MATRÍCULA DE EDUCACIÓN SUPERIOR POR QUINTIL DE INGRESO AUTONÓMO, 2003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grpSp>
        <p:nvGrpSpPr>
          <p:cNvPr id="112" name="Rectangle 3"/>
          <p:cNvGrpSpPr/>
          <p:nvPr/>
        </p:nvGrpSpPr>
        <p:grpSpPr>
          <a:xfrm>
            <a:off x="457200" y="1905120"/>
            <a:ext cx="8229600" cy="4143240"/>
            <a:chOff x="457200" y="1905120"/>
            <a:chExt cx="8229600" cy="4143240"/>
          </a:xfrm>
        </p:grpSpPr>
        <p:sp>
          <p:nvSpPr>
            <p:cNvPr id="113" name="Rectangle 4"/>
            <p:cNvSpPr/>
            <p:nvPr/>
          </p:nvSpPr>
          <p:spPr>
            <a:xfrm>
              <a:off x="771192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673560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2,9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5761080" y="5362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478476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1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>
              <a:off x="380988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>
              <a:off x="3124080" y="5362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6,4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>
              <a:off x="457200" y="5362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>
              <a:off x="771192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673560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1,8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2" name="Rectangle 13"/>
            <p:cNvSpPr/>
            <p:nvPr/>
          </p:nvSpPr>
          <p:spPr>
            <a:xfrm>
              <a:off x="5761080" y="4662360"/>
              <a:ext cx="9745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3" name="Rectangle 14"/>
            <p:cNvSpPr/>
            <p:nvPr/>
          </p:nvSpPr>
          <p:spPr>
            <a:xfrm>
              <a:off x="478476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6,5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4" name="Rectangle 15"/>
            <p:cNvSpPr/>
            <p:nvPr/>
          </p:nvSpPr>
          <p:spPr>
            <a:xfrm>
              <a:off x="380988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8,2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5" name="Rectangle 16"/>
            <p:cNvSpPr/>
            <p:nvPr/>
          </p:nvSpPr>
          <p:spPr>
            <a:xfrm>
              <a:off x="3124080" y="4662360"/>
              <a:ext cx="68580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,8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457200" y="4662360"/>
              <a:ext cx="2666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Educación Universitaria 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771192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673560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9,1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5761080" y="3976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1,6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0" name="Rectangle 21"/>
            <p:cNvSpPr/>
            <p:nvPr/>
          </p:nvSpPr>
          <p:spPr>
            <a:xfrm>
              <a:off x="478476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3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1" name="Rectangle 22"/>
            <p:cNvSpPr/>
            <p:nvPr/>
          </p:nvSpPr>
          <p:spPr>
            <a:xfrm>
              <a:off x="380988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6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2" name="Rectangle 23"/>
            <p:cNvSpPr/>
            <p:nvPr/>
          </p:nvSpPr>
          <p:spPr>
            <a:xfrm>
              <a:off x="3124080" y="3976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5,5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3" name="Rectangle 24"/>
            <p:cNvSpPr/>
            <p:nvPr/>
          </p:nvSpPr>
          <p:spPr>
            <a:xfrm>
              <a:off x="457200" y="3976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nstituto Profesional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4" name="Rectangle 25"/>
            <p:cNvSpPr/>
            <p:nvPr/>
          </p:nvSpPr>
          <p:spPr>
            <a:xfrm>
              <a:off x="771192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5" name="Rectangle 26"/>
            <p:cNvSpPr/>
            <p:nvPr/>
          </p:nvSpPr>
          <p:spPr>
            <a:xfrm>
              <a:off x="673560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1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5761080" y="3276720"/>
              <a:ext cx="9745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7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478476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5,7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380988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3124080" y="3276720"/>
              <a:ext cx="68580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5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457200" y="3276720"/>
              <a:ext cx="2666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Centro de Formación Técnica 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771192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673560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V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5761080" y="259092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V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478476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I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380988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6" name="Rectangle 37"/>
            <p:cNvSpPr/>
            <p:nvPr/>
          </p:nvSpPr>
          <p:spPr>
            <a:xfrm>
              <a:off x="3124080" y="259092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7" name="Rectangle 38"/>
            <p:cNvSpPr/>
            <p:nvPr/>
          </p:nvSpPr>
          <p:spPr>
            <a:xfrm>
              <a:off x="457200" y="25909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8" name="Rectangle 39"/>
            <p:cNvSpPr/>
            <p:nvPr/>
          </p:nvSpPr>
          <p:spPr>
            <a:xfrm>
              <a:off x="7711920" y="19051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3124080" y="1905120"/>
              <a:ext cx="458784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Quintil de ingreso autónomo percapita 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0" name="Rectangle 41"/>
            <p:cNvSpPr/>
            <p:nvPr/>
          </p:nvSpPr>
          <p:spPr>
            <a:xfrm>
              <a:off x="457200" y="19051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1" name="Line 42"/>
            <p:cNvSpPr/>
            <p:nvPr/>
          </p:nvSpPr>
          <p:spPr>
            <a:xfrm>
              <a:off x="457200" y="25909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2" name="Line 43"/>
            <p:cNvSpPr/>
            <p:nvPr/>
          </p:nvSpPr>
          <p:spPr>
            <a:xfrm>
              <a:off x="312408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3" name="Line 44"/>
            <p:cNvSpPr/>
            <p:nvPr/>
          </p:nvSpPr>
          <p:spPr>
            <a:xfrm>
              <a:off x="771192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4" name="Line 45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5" name="Line 46"/>
            <p:cNvSpPr/>
            <p:nvPr/>
          </p:nvSpPr>
          <p:spPr>
            <a:xfrm>
              <a:off x="38098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6" name="Line 47"/>
            <p:cNvSpPr/>
            <p:nvPr/>
          </p:nvSpPr>
          <p:spPr>
            <a:xfrm>
              <a:off x="478476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7" name="Line 48"/>
            <p:cNvSpPr/>
            <p:nvPr/>
          </p:nvSpPr>
          <p:spPr>
            <a:xfrm>
              <a:off x="57610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8" name="Line 49"/>
            <p:cNvSpPr/>
            <p:nvPr/>
          </p:nvSpPr>
          <p:spPr>
            <a:xfrm>
              <a:off x="673560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9" name="Line 50"/>
            <p:cNvSpPr/>
            <p:nvPr/>
          </p:nvSpPr>
          <p:spPr>
            <a:xfrm>
              <a:off x="457200" y="3976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0" name="Line 51"/>
            <p:cNvSpPr/>
            <p:nvPr/>
          </p:nvSpPr>
          <p:spPr>
            <a:xfrm>
              <a:off x="457200" y="46623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1" name="Line 52"/>
            <p:cNvSpPr/>
            <p:nvPr/>
          </p:nvSpPr>
          <p:spPr>
            <a:xfrm>
              <a:off x="457200" y="5362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2" name="Line 53"/>
            <p:cNvSpPr/>
            <p:nvPr/>
          </p:nvSpPr>
          <p:spPr>
            <a:xfrm>
              <a:off x="457200" y="190512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3" name="Line 54"/>
            <p:cNvSpPr/>
            <p:nvPr/>
          </p:nvSpPr>
          <p:spPr>
            <a:xfrm>
              <a:off x="4572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4" name="Line 55"/>
            <p:cNvSpPr/>
            <p:nvPr/>
          </p:nvSpPr>
          <p:spPr>
            <a:xfrm>
              <a:off x="86868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5" name="Line 56"/>
            <p:cNvSpPr/>
            <p:nvPr/>
          </p:nvSpPr>
          <p:spPr>
            <a:xfrm>
              <a:off x="457200" y="604836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</p:grpSp>
      <p:sp>
        <p:nvSpPr>
          <p:cNvPr id="166" name="Text Box 57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años respectivos</a:t>
            </a:r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9900"/>
                </a:solidFill>
                <a:latin typeface="Arial Black"/>
              </a:rPr>
              <a:t>Población 20-24 años con al menos educación media completa según deciles de ingreso de los hogares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1 Gráfico" descr=""/>
          <p:cNvPicPr/>
          <p:nvPr/>
        </p:nvPicPr>
        <p:blipFill>
          <a:blip r:embed="rId1"/>
          <a:stretch/>
        </p:blipFill>
        <p:spPr>
          <a:xfrm>
            <a:off x="-6480" y="774720"/>
            <a:ext cx="9279000" cy="6089760"/>
          </a:xfrm>
          <a:prstGeom prst="rect">
            <a:avLst/>
          </a:prstGeom>
          <a:ln w="0">
            <a:noFill/>
          </a:ln>
        </p:spPr>
      </p:pic>
      <p:sp>
        <p:nvSpPr>
          <p:cNvPr id="170" name="3 CuadroTexto"/>
          <p:cNvSpPr/>
          <p:nvPr/>
        </p:nvSpPr>
        <p:spPr>
          <a:xfrm>
            <a:off x="304920" y="45720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Tasa de graduación de educación secundaria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Ingresos según años de escolaridad         </a:t>
            </a:r>
            <a:r>
              <a:rPr b="0" lang="es-CL" sz="1800" spc="-1" strike="noStrike">
                <a:solidFill>
                  <a:srgbClr val="cc9900"/>
                </a:solidFill>
                <a:latin typeface="Arial Black"/>
              </a:rPr>
              <a:t>($ Nov 2006)</a:t>
            </a:r>
            <a:endParaRPr b="0" lang="en-US" sz="18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8607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Sólo el 20% de los hogares puede pagar arancel promedi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1886040"/>
          <a:ext cx="8178840" cy="4421160"/>
        </p:xfrm>
        <a:graphic>
          <a:graphicData uri="http://schemas.openxmlformats.org/drawingml/2006/table">
            <a:tbl>
              <a:tblPr/>
              <a:tblGrid>
                <a:gridCol w="4089240"/>
                <a:gridCol w="4089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Quintil de ingreso autónomo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Mensualidad respecto a ingreso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4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87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4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 Box 29"/>
          <p:cNvSpPr/>
          <p:nvPr/>
        </p:nvSpPr>
        <p:spPr>
          <a:xfrm>
            <a:off x="609480" y="62485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 desarrollo humano sustentable 10, PNUD, sobre la base de Aranda y Salas (2004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4"/>
          <p:cNvGraphicFramePr/>
          <p:nvPr/>
        </p:nvGraphicFramePr>
        <p:xfrm>
          <a:off x="0" y="0"/>
          <a:ext cx="8844120" cy="563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4412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Object 2"/>
          <p:cNvGraphicFramePr/>
          <p:nvPr/>
        </p:nvGraphicFramePr>
        <p:xfrm>
          <a:off x="0" y="609480"/>
          <a:ext cx="9258480" cy="577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925848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9900"/>
                </a:solidFill>
                <a:latin typeface="Arial Black"/>
              </a:rPr>
              <a:t>GASTO PÚBLICO Y PRIVADO EN EDUCACIÓN COMO % DEL PGB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cxnSp>
        <p:nvCxnSpPr>
          <p:cNvPr id="181" name="6 Conector recto de flecha"/>
          <p:cNvCxnSpPr/>
          <p:nvPr/>
        </p:nvCxnSpPr>
        <p:spPr>
          <a:xfrm flipH="1">
            <a:off x="3962160" y="3429000"/>
            <a:ext cx="838800" cy="457920"/>
          </a:xfrm>
          <a:prstGeom prst="straightConnector1">
            <a:avLst/>
          </a:prstGeom>
          <a:ln cap="sq" w="12600">
            <a:solidFill>
              <a:srgbClr val="cc66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84" name="3 Conector recto de flecha"/>
          <p:cNvCxnSpPr/>
          <p:nvPr/>
        </p:nvCxnSpPr>
        <p:spPr>
          <a:xfrm flipH="1">
            <a:off x="1980360" y="1599120"/>
            <a:ext cx="762840" cy="686520"/>
          </a:xfrm>
          <a:prstGeom prst="straightConnector1">
            <a:avLst/>
          </a:prstGeom>
          <a:ln cap="sq" w="126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Chart 3" descr=""/>
          <p:cNvPicPr/>
          <p:nvPr/>
        </p:nvPicPr>
        <p:blipFill>
          <a:blip r:embed="rId1"/>
          <a:stretch/>
        </p:blipFill>
        <p:spPr>
          <a:xfrm>
            <a:off x="225360" y="1316160"/>
            <a:ext cx="8925120" cy="5316480"/>
          </a:xfrm>
          <a:prstGeom prst="rect">
            <a:avLst/>
          </a:prstGeom>
          <a:ln w="0">
            <a:noFill/>
          </a:ln>
        </p:spPr>
      </p:pic>
      <p:sp>
        <p:nvSpPr>
          <p:cNvPr id="186" name="2 CuadroTexto"/>
          <p:cNvSpPr/>
          <p:nvPr/>
        </p:nvSpPr>
        <p:spPr>
          <a:xfrm>
            <a:off x="685800" y="380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ASTO POR ESTUDIANTE EN EDUCACIÓN TERCIARIA RESPECTO A PIB PER CAPITA EN PPC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Chart 2" descr=""/>
          <p:cNvPicPr/>
          <p:nvPr/>
        </p:nvPicPr>
        <p:blipFill>
          <a:blip r:embed="rId1"/>
          <a:stretch/>
        </p:blipFill>
        <p:spPr>
          <a:xfrm>
            <a:off x="298440" y="1139760"/>
            <a:ext cx="8547120" cy="5724720"/>
          </a:xfrm>
          <a:prstGeom prst="rect">
            <a:avLst/>
          </a:prstGeom>
          <a:ln w="0">
            <a:noFill/>
          </a:ln>
        </p:spPr>
      </p:pic>
      <p:sp>
        <p:nvSpPr>
          <p:cNvPr id="188" name="2 Rectángulo"/>
          <p:cNvSpPr/>
          <p:nvPr/>
        </p:nvSpPr>
        <p:spPr>
          <a:xfrm>
            <a:off x="533520" y="22860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GASTO POR ESTUDIANTE EN EDUCACIÓN SECUNDARIA RESPECTO A PIB PER CAPITA EN PPC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PRESENTACIÓN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volución reciente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Temas central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docencia pregrad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Un sistema caro e inefici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Informa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Producción de bienes públicos y propiedad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0" y="838080"/>
            <a:ext cx="8915400" cy="5410440"/>
          </a:xfrm>
          <a:prstGeom prst="rect">
            <a:avLst/>
          </a:prstGeom>
          <a:ln w="0">
            <a:noFill/>
          </a:ln>
        </p:spPr>
      </p:pic>
      <p:sp>
        <p:nvSpPr>
          <p:cNvPr id="190" name="Oval 7"/>
          <p:cNvSpPr/>
          <p:nvPr/>
        </p:nvSpPr>
        <p:spPr>
          <a:xfrm>
            <a:off x="228600" y="3962520"/>
            <a:ext cx="2590920" cy="990360"/>
          </a:xfrm>
          <a:prstGeom prst="ellipse">
            <a:avLst/>
          </a:prstGeom>
          <a:noFill/>
          <a:ln cap="sq"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92" name="Object 12"/>
          <p:cNvGraphicFramePr/>
          <p:nvPr/>
        </p:nvGraphicFramePr>
        <p:xfrm>
          <a:off x="0" y="228600"/>
          <a:ext cx="914400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91440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ELEMENTOS CENTRAL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Masificación acces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cceso desigu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raduación secundaria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Calidad educación escolar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lto gasto total y aporte privad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Dado alto costo requieren apoyo el 80% de los hogar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Sobre educando en años y baja eficiencia y calidad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ROL DEL ESTADO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Fallas de coordinación e incentivo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Alineación incentivos de actor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Mercado de capitales y liquidez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uración, calidad y contenidos carrer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Investigación y extens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Fallas de información respecto a instituciones, carreras y mercado labor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quidad, igualdad de oportunidades, integración soci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LO PÚBLICO Y LO PRIVADO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anchor="ctr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ección, crédito e información aseguran cumplimiento de objetivos privados, no objetivos públi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ero </a:t>
            </a:r>
            <a:r>
              <a:rPr b="0" lang="es-ES_tradnl" sz="2800" spc="-1" strike="noStrike">
                <a:solidFill>
                  <a:srgbClr val="996633"/>
                </a:solidFill>
                <a:latin typeface="Verdana"/>
              </a:rPr>
              <a:t>que la institución sea pública tampoco asegura la producción de los “objetivos públicos”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l valor de la universidad pública: ¿pluralismo, independencia académica (autonomía o impunidad: importancia de accountability), cohesión social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cluso en EEUU más de dos tercios de los estudiantes asisten a universidades estatal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portes públicos a universidades privadas relacionados con investigación y desarroll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Tahoma"/>
              </a:rPr>
              <a:t>POLÍTICA DE LAS POLÍTICA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xistencia de poderosos grupos de interé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Estudiantes, académicos, Iglesias, etc.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ntrada de actores causada por políticas crea “path dependence” y modifica posibilidades de acción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Ejemplos: privados, ban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3623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Arial Black"/>
              </a:rPr>
              <a:t>Respaldo para discusión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89120" y="259920"/>
            <a:ext cx="7821360" cy="110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ROL DEL ESTADO RESPECTO A INFORMA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anchor="ctr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formación incorrecta lleva a asignación de recursos ineficient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dquirir información tiene costo (tiempo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quidad: capacidad de obtener y procesar información inversamente relacionadas con nivel educacional y socioeconómic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ficiencia: economías de escala en producción de información y características de bien público (no rival y no excluible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Homogeneidad información para poder comparar (caso planes Isapres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Necesidad de integrar sistemas de informa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9900"/>
                </a:solidFill>
                <a:latin typeface="Arial Black"/>
              </a:rPr>
              <a:t>ROL DEL ESTADO RESPECTO A EQUIDAD E IGUALDAD DE OPORTUNIDADES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Mejorar oportunidades de término y mejorar distribución calidad educación escolar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+ recursos en los más pobres (ej. subvención diferenciada)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Otros programas pro-retención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EQUIDAD EN ACCESO Y RETENCIÓN EN EDUCACIÓN SUPERIOR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Acción afirmativa en acces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Necesidad de cursos de nivelación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Garantizar créditos y extensión a carreras cort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Incluir costo mantención en ayudas o favorecer horarios que permitan trabajo part-time, ej. Brasil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Arial Black"/>
              </a:rPr>
              <a:t>CRÉDITO CONTINGENTE A INGRESOS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Es alternativa más eficiente (dependiendo del costo de administración) y just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Estudiantes tienen financiamiento para una actividad que se espera sea privadamente rentable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Futuros profesionales devuelven en función de su capacidad de pago (si les va mal no devuelven)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Reduce “sobre educación” y demora en terminar carreras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6600"/>
                </a:solidFill>
                <a:latin typeface="Tahoma"/>
              </a:rPr>
              <a:t>Además, mejora el ajuste de la oferta de graduados a necesidades del mercado laboral, especialmente si acompañado por sistemas de información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Los subsidios a educación superior benefician a los grupos de mayores ingresos (ex-ante y ex-post)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Problem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Financiamiento incierto: ¿me atrevo a arriesgarme si no tengo certeza que voy a contar con el 100% de los recursos que necesito?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Patrones culturales: más probable aspirar a educación superior si padres profesionales, aspiraciones del entorno, resistencia a endeudamiento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VOLUCIÓN MATRÍCULA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96" name="Object 4"/>
          <p:cNvGraphicFramePr/>
          <p:nvPr/>
        </p:nvGraphicFramePr>
        <p:xfrm>
          <a:off x="1008000" y="1601640"/>
          <a:ext cx="8301240" cy="539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601640"/>
                    <a:ext cx="8301240" cy="539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6"/>
          <p:cNvSpPr/>
          <p:nvPr/>
        </p:nvSpPr>
        <p:spPr>
          <a:xfrm>
            <a:off x="5867280" y="1219320"/>
            <a:ext cx="2971800" cy="64260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+ de 70% es primera generación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Arancel diferenciad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ás difícil controlar ingreso actual que ingreso futur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enos recursos a educación 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Recursos públicos: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Costo de oportunidad: esquema actual permite mejorar razón Gpub sup/ Gpub escolar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Inequitativo ex-post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“</a:t>
            </a: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Sobre-educación”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¿Cómo se financia? No se puede cobrar x sobre el costo a los más ricos porque se irían a universidades sin arancel diferenciad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uesto a graduados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No se discrimina diferencias de costo de las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Menos recursos a educación (se requieren ahora y el costo de oportunidad de recursos públicos es alto):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Recaudación probablemente entraría a rentas generales, no incrementaría disponibilidad recursos en instituciones más exitos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OS MALESTARES SOCIAL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Sociedad chilena no es meritocrátic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Pretende serlo con prueba de selección universitaria pero desigual calidad educación escolar, familia origen pesa y pre-Universitari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En el mercado laboral no hay igualdad de tra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sigual calidad educación escola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Desesperanza aprendida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Fracaso del sistema escolar para responder a las expectativa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Mala calidad de la educación entregada por algunas instituciones y falta de información adecuad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Tahoma"/>
              </a:rPr>
              <a:t>TASAS DE ENTRADA A EDUCACIÓN SUPERIOR TIPO A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0" name="1 Gráfico" descr=""/>
          <p:cNvPicPr/>
          <p:nvPr/>
        </p:nvPicPr>
        <p:blipFill>
          <a:blip r:embed="rId1"/>
          <a:stretch/>
        </p:blipFill>
        <p:spPr>
          <a:xfrm>
            <a:off x="-55440" y="1365120"/>
            <a:ext cx="92548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Tahoma"/>
              </a:rPr>
              <a:t>TASAS DE ENTRADA A EDUCACIÓN SUPERIOR TIPO B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2" name="1 Gráfico" descr=""/>
          <p:cNvPicPr/>
          <p:nvPr/>
        </p:nvPicPr>
        <p:blipFill>
          <a:blip r:embed="rId1"/>
          <a:stretch/>
        </p:blipFill>
        <p:spPr>
          <a:xfrm>
            <a:off x="-60480" y="1365120"/>
            <a:ext cx="926496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Tahoma"/>
              </a:rPr>
              <a:t>Matrícula bruta educación superior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447920"/>
          <a:ext cx="8077320" cy="5124240"/>
        </p:xfrm>
        <a:graphic>
          <a:graphicData uri="http://schemas.openxmlformats.org/drawingml/2006/table">
            <a:tbl>
              <a:tblPr/>
              <a:tblGrid>
                <a:gridCol w="1616040"/>
                <a:gridCol w="1614600"/>
                <a:gridCol w="1616040"/>
                <a:gridCol w="1614600"/>
                <a:gridCol w="161604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5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7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0-0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Argentina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5,3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38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Brasil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1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1,4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0,4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Chile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4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6,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48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México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3,8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2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Panamá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9,8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7,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48,8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Uruguay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2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9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35,8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Venezuela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9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31,4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34,4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ne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6" name="Picture 14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bru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8" name="Picture 13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ímites quintiles de ingreso autónomo de los hogares 2006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886040"/>
          <a:ext cx="8305920" cy="4209840"/>
        </p:xfrm>
        <a:graphic>
          <a:graphicData uri="http://schemas.openxmlformats.org/drawingml/2006/table">
            <a:tbl>
              <a:tblPr/>
              <a:tblGrid>
                <a:gridCol w="1255680"/>
                <a:gridCol w="1687680"/>
                <a:gridCol w="1611000"/>
                <a:gridCol w="1327320"/>
                <a:gridCol w="1211400"/>
                <a:gridCol w="1212840"/>
              </a:tblGrid>
              <a:tr h="670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Quintil Autónomo Regional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Promedio de personas en el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Promedio Ingreso Autónomo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ngreso autónomo per-cápita del hogar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Promedi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Mín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Máx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14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4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127.66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29.12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9.40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4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268.693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65.85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9.40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83.658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3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387.722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104.44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83.66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30.656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3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607.34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173.74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30.66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36.50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3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1.674.721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593.10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36.52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2:48:43Z</dcterms:created>
  <dc:creator>Pablo Gonzalez</dc:creator>
  <dc:description/>
  <dc:language>en-US</dc:language>
  <cp:lastModifiedBy>Sala Auditorio</cp:lastModifiedBy>
  <dcterms:modified xsi:type="dcterms:W3CDTF">2009-11-09T16:34:05Z</dcterms:modified>
  <cp:revision>61</cp:revision>
  <dc:subject/>
  <dc:title>ANÁLISIS ECONÓMICO DE LA EDUCACIÓN SUPERIOR</dc:title>
</cp:coreProperties>
</file>