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4DD1-5575-4A72-85E2-94EF57CFB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B11D-4A2D-4913-B286-5175662FCC3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81C6-260E-40F8-8804-B0047F7408D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55B5-DE73-4499-8115-4A8D9416E28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B755-AF8A-4BBC-8A06-262CFE0D4B8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5C90-A137-4378-9078-66254442502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DB31-8E41-4B42-9D9F-E4DDDDC32AE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A0FC-DDB9-4DFD-8CBA-1E1E53D0276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62AB-FF4B-48EA-AEC5-0864585F785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B973-BDCC-47E5-A0EB-1D49FA46A06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0B9C-7047-498A-BD4E-DCF2A7025EA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4738-D883-4613-8D53-754936D776E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EFA2-A2F3-43C9-B94B-ABEF8CA31F1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F7B6-359B-4602-942D-92D8DA35FEB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B198-E81E-431E-BA95-2BECA0F98CD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E2E9-FC50-4526-A166-57328F522D9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127A-BFCE-4F6F-BBD2-7B9E6E271A6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D03D-C472-45AB-8DBC-E604DEC9804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79E8-3141-41BF-A539-8ECD75FEF68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827B-EE93-4F6F-B369-092CF9570CF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671A-4791-4584-BED8-5D713E3281E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10D9-06D3-4C92-B9F3-1C257F5E77F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8555-93C5-4A01-9829-CA9B8D0EEF5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1962-D0CB-432F-BCD9-F2E9D1DC45A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EF7-A9A8-4885-BB59-F3A7127B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4F8-40BD-4867-8448-DFE8A397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A61-B1D2-49C8-93EB-14DD1BF5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911-D876-4BB8-ACBB-928EE6F5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B5B4-C60F-4759-B62A-53FBAE55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C230-B01D-4D0B-B922-BFD19ADB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FA98-33E0-4AA2-9D00-2E107D99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545D-F993-4759-BA2F-A1AB3361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1BEB-29A4-4F22-BC4E-F47DAFD3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5AA2-61DE-4B4B-A012-FE62B61F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91F9-F955-4AFF-9DD7-F9EA9248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2A8-17C4-402A-9CB6-B2F12806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7D83-060D-4BFC-873A-8EBF8BA5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036D-63A8-46B5-B10D-E5C5069F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EBC6-3FF2-428D-9746-156CD591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4FF1-D5AA-4037-8657-E472461A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ADFC-6874-4663-8C21-61B5110B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DBF-D81E-49B5-993C-36A413F0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161-28F2-49FA-81FF-A90DBB6F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27D-2A30-4002-8FCA-9EAE9C88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12A-437B-4899-AD3F-8325F546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02F-27E0-40B5-8E7C-D1C3FBD6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A4C-AA9B-4922-A692-4C56F9F2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BD7-0018-43B7-A51D-41D62E1B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1B91-2648-44A7-8F89-9A24B4DC2842}" type="slidenum">
              <a:rPr b="0" lang="en-US" sz="1000" spc="-1" strike="noStrike">
                <a:solidFill>
                  <a:srgbClr val="fbfff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DFDB-170D-4B9D-A421-5D29CB1BEA12}" type="slidenum">
              <a:rPr b="0" lang="en-US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Y REGULACIÓN DEL SISTEMA DE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9 de noviembre 2009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12" name="Rectangle 3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13" name="Rectangle 4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2" name="Line 43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3" name="Line 44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9" name="Line 50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0" name="Line 51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1" name="Line 52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3" name="Line 54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4" name="Line 55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5" name="Line 56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</p:grpSp>
      <p:sp>
        <p:nvSpPr>
          <p:cNvPr id="166" name="Text Box 57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Gráfico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279000" cy="6089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304920" y="4572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asa de graduación de educación secundar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9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4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609480"/>
          <a:ext cx="9258480" cy="57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2584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cxnSp>
        <p:nvCxnSpPr>
          <p:cNvPr id="181" name="6 Conector recto de flecha"/>
          <p:cNvCxnSpPr/>
          <p:nvPr/>
        </p:nvCxnSpPr>
        <p:spPr>
          <a:xfrm flipH="1">
            <a:off x="3962160" y="3429000"/>
            <a:ext cx="838800" cy="457920"/>
          </a:xfrm>
          <a:prstGeom prst="straightConnector1">
            <a:avLst/>
          </a:prstGeom>
          <a:ln cap="sq" w="1260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4" name="3 Conector recto de flecha"/>
          <p:cNvCxnSpPr/>
          <p:nvPr/>
        </p:nvCxnSpPr>
        <p:spPr>
          <a:xfrm flipH="1">
            <a:off x="1980360" y="1599120"/>
            <a:ext cx="762840" cy="68652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3" descr=""/>
          <p:cNvPicPr/>
          <p:nvPr/>
        </p:nvPicPr>
        <p:blipFill>
          <a:blip r:embed="rId1"/>
          <a:stretch/>
        </p:blipFill>
        <p:spPr>
          <a:xfrm>
            <a:off x="225360" y="1316160"/>
            <a:ext cx="8925120" cy="5316480"/>
          </a:xfrm>
          <a:prstGeom prst="rect">
            <a:avLst/>
          </a:prstGeom>
          <a:ln w="0">
            <a:noFill/>
          </a:ln>
        </p:spPr>
      </p:pic>
      <p:sp>
        <p:nvSpPr>
          <p:cNvPr id="186" name="2 CuadroTexto"/>
          <p:cNvSpPr/>
          <p:nvPr/>
        </p:nvSpPr>
        <p:spPr>
          <a:xfrm>
            <a:off x="68580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ASTO POR ESTUDIANTE EN EDUCACIÓN TERCIARIA RESPECTO A PIB PER CAPITA EN PPC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hart 2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8547120" cy="5724720"/>
          </a:xfrm>
          <a:prstGeom prst="rect">
            <a:avLst/>
          </a:prstGeom>
          <a:ln w="0">
            <a:noFill/>
          </a:ln>
        </p:spPr>
      </p:pic>
      <p:sp>
        <p:nvSpPr>
          <p:cNvPr id="188" name="2 Rectángulo"/>
          <p:cNvSpPr/>
          <p:nvPr/>
        </p:nvSpPr>
        <p:spPr>
          <a:xfrm>
            <a:off x="5335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GASTO POR ESTUDIANTE EN EDUCACIÓN SECUNDARIA RESPECTO A PIB PER CAPITA EN PPC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PRESENTA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volución reciente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emas centr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docencia pregrad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Un sistema caro e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roducción de bienes públicos y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190" name="Oval 7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ado alto costo requieren apoy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obre educando en años y baja eficiencia y cal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OL DEL ESTAD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coordinación e incentiv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ineación incentivos de actor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ercado de capitales y liquid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uración, calidad y contenido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vestigación y extens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información respecto a instituciones, carreras y mercado labor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quidad, igualdad de oportunidades, integración soci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LO PÚBLICO Y LO PRIVADO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niversidades estat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rtes públicos a universidades privadas relacionados con investigación y desarroll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Tahoma"/>
              </a:rPr>
              <a:t>POLÍTICA DE LAS POLÍTICA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xistencia de poderosos grupos de interé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studiantes, académicos, Iglesias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ntrada de actores causada por políticas crea “path dependence” y modifica posibilidades de acció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jemplos: privados, ban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Respaldo para discus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ecesidad de integrar sistemas de inform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término y mejorar distribución calidad educación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+ recursos en los más pobres (ej. subvención diferenciada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Otros programas pro-reten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EQUIDAD EN ACCESO Y RETENCIÓN EN EDUCACIÓN SUPERIO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Acción afirmativa en acces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Garantizar créditos y extensión a carreras cort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Incluir costo mantención en ayudas o favorecer horarios que permitan trabajo part-time, ej. Brasil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RÉDITO CONTINGENTE A INGRES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s alternativa más eficiente (dependiendo del costo de administración) y just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Reduce “sobre educación” y demora en terminar carrera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Además, mejora el ajuste de la oferta de graduados a necesidades del mercado laboral, especialmente si acompañado por sistemas de información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Los subsidios a educación superior benefician a los grupos de mayores ingresos (ex-ante y ex-post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“</a:t>
            </a: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Sobre-educación”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universidades sin arancel diferenciad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Desesperanza aprendida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1 Gráfico" descr=""/>
          <p:cNvPicPr/>
          <p:nvPr/>
        </p:nvPicPr>
        <p:blipFill>
          <a:blip r:embed="rId1"/>
          <a:stretch/>
        </p:blipFill>
        <p:spPr>
          <a:xfrm>
            <a:off x="-55440" y="1365120"/>
            <a:ext cx="9254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B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1 Gráfico" descr=""/>
          <p:cNvPicPr/>
          <p:nvPr/>
        </p:nvPicPr>
        <p:blipFill>
          <a:blip r:embed="rId1"/>
          <a:stretch/>
        </p:blipFill>
        <p:spPr>
          <a:xfrm>
            <a:off x="-60480" y="1365120"/>
            <a:ext cx="92649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Tahoma"/>
              </a:rPr>
              <a:t>Matrícula bruta educación superior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8077320" cy="512424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0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5,3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8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0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4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6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3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má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7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9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5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ezuel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4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Sala Auditorio</cp:lastModifiedBy>
  <dcterms:modified xsi:type="dcterms:W3CDTF">2009-11-09T16:34:05Z</dcterms:modified>
  <cp:revision>61</cp:revision>
  <dc:subject/>
  <dc:title>ANÁLISIS ECONÓMICO DE LA EDUCACIÓN SUPERIOR</dc:title>
</cp:coreProperties>
</file>