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0D57-1479-4930-8D57-3769463A77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F3BB-AB30-4C91-9EB1-DBD1C3A188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810A-5156-4418-88DE-788A6F6BC9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8439-79D7-4262-BDBB-8463EFF9CC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50F-6F27-4A19-A5EE-1F4360DA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ADA-BFE2-4E5E-808E-7AF314DF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B48-08E2-4A4C-8523-B612D235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BAB-84F2-498C-B571-041045F2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F4E-E788-47CE-84A6-D221AED9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DE4-164E-47F1-9477-8A50A2FF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762-3AAA-408F-9935-8558645B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F65-DBB2-430B-B7BE-B7AC6207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C29-85E7-4058-93BF-574FAE2D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50C-7014-4984-8070-D794192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329-49C2-4E3E-8813-7296F943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0A6-6D5C-4D4C-A50D-CAB61275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86EC-E967-4A20-80C4-A8D7627D1A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0AD7-6B90-4952-90B9-52D1E233FD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50800"/>
            <a:ext cx="842472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lan de Acción se estructura en torno a tres grandes á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. Sistema Político, derechos e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1. Sistema político y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2.  Institucional y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2. Desarrollo Integral de los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1. Tierras y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2. Desarrollo económico y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3. Educación, salud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4. Especificidad de los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3. Multiculturalidad y di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1. 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2. Multiculturalidad en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3. Gestión del desarrollo integrado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0867-7DFC-41BD-831A-ECF8E89B1E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una narrativa sobre la política aprob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tactos sistemáticos con actores relevantes para difundir la polít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sociedad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gles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lamen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tid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adé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smo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os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r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res de gobierno ministeriales, de servicios,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5EB6-1469-4D7E-A754-B0CDCEC5CD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lan de trabajo para aplicar la política definida: identificar acciones, responsables, productos a generar, plazos, condiciones de satisfacción a alcanza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equipo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stitucional a diversos nive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ADI, Programa Orí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terminis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BC14-B1E8-4234-AF14-08BA102B78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esquema de trabajo de gobernabil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tores, intereses, iniciativas a desarrollar con cada uno, preparación de programas de acción, puesta en marcha de los mis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recursos presupuestarios para equipo de coordinación y para programas que entregarán soluciones a problemas u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B681-CD1B-4DC5-96C6-E7FFC79FEE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2987640" y="652464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TORN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7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8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iagram 2"/>
          <p:cNvGrpSpPr/>
          <p:nvPr/>
        </p:nvGrpSpPr>
        <p:grpSpPr>
          <a:xfrm>
            <a:off x="1187280" y="-162000"/>
            <a:ext cx="7305840" cy="6681960"/>
            <a:chOff x="1187280" y="-162000"/>
            <a:chExt cx="7305840" cy="6681960"/>
          </a:xfrm>
        </p:grpSpPr>
        <p:sp>
          <p:nvSpPr>
            <p:cNvPr id="92" name="_s1028"/>
            <p:cNvSpPr/>
            <p:nvPr/>
          </p:nvSpPr>
          <p:spPr>
            <a:xfrm>
              <a:off x="1187280" y="693720"/>
              <a:ext cx="5999400" cy="5826240"/>
            </a:xfrm>
            <a:prstGeom prst="donut">
              <a:avLst>
                <a:gd name="adj" fmla="val 12500"/>
              </a:avLst>
            </a:prstGeom>
            <a:solidFill>
              <a:srgbClr val="ff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7392960" y="2766960"/>
              <a:ext cx="1100160" cy="180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-47880" bIns="-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>
              <a:off x="2536920" y="1859040"/>
              <a:ext cx="3154320" cy="3025800"/>
            </a:xfrm>
            <a:prstGeom prst="donut">
              <a:avLst>
                <a:gd name="adj" fmla="val 2500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7392960" y="569880"/>
              <a:ext cx="1100160" cy="733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3287520" y="2532240"/>
              <a:ext cx="1643040" cy="166500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7392960" y="-162000"/>
              <a:ext cx="1100160" cy="73188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1765080" y="3503520"/>
              <a:ext cx="17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Organizaciones y dirigente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3060720" y="5111640"/>
              <a:ext cx="23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REG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3265560" y="5904000"/>
              <a:ext cx="209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NTORNO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3"/>
            <p:cNvSpPr/>
            <p:nvPr/>
          </p:nvSpPr>
          <p:spPr>
            <a:xfrm>
              <a:off x="3357360" y="4348080"/>
              <a:ext cx="157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1765080" y="1741680"/>
              <a:ext cx="172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EMPRES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5"/>
            <p:cNvSpPr/>
            <p:nvPr/>
          </p:nvSpPr>
          <p:spPr>
            <a:xfrm>
              <a:off x="1333440" y="4633920"/>
              <a:ext cx="15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ARL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5449680" y="422280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1338120" y="2160720"/>
              <a:ext cx="240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INSTITUCIONES PRIVA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8"/>
            <p:cNvSpPr/>
            <p:nvPr/>
          </p:nvSpPr>
          <p:spPr>
            <a:xfrm>
              <a:off x="2255760" y="4118040"/>
              <a:ext cx="18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la CONA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3968640" y="136836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DE COMUN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0"/>
            <p:cNvSpPr/>
            <p:nvPr/>
          </p:nvSpPr>
          <p:spPr>
            <a:xfrm>
              <a:off x="3492360" y="2951280"/>
              <a:ext cx="129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Comisionado Presidencial para Asunto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1"/>
            <p:cNvSpPr/>
            <p:nvPr/>
          </p:nvSpPr>
          <p:spPr>
            <a:xfrm>
              <a:off x="1692360" y="273528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vers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2"/>
            <p:cNvSpPr/>
            <p:nvPr/>
          </p:nvSpPr>
          <p:spPr>
            <a:xfrm>
              <a:off x="1346040" y="23511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entros de pens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2209680" y="246060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NG Indigen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4"/>
            <p:cNvSpPr/>
            <p:nvPr/>
          </p:nvSpPr>
          <p:spPr>
            <a:xfrm>
              <a:off x="2282760" y="295128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Igles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5"/>
            <p:cNvSpPr/>
            <p:nvPr/>
          </p:nvSpPr>
          <p:spPr>
            <a:xfrm>
              <a:off x="5510160" y="45496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>
              <a:off x="4932360" y="3181320"/>
              <a:ext cx="21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Bell MT"/>
                </a:rPr>
                <a:t>GOBI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7"/>
            <p:cNvSpPr/>
            <p:nvPr/>
          </p:nvSpPr>
          <p:spPr>
            <a:xfrm>
              <a:off x="1622520" y="5067360"/>
              <a:ext cx="17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concer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8"/>
            <p:cNvSpPr/>
            <p:nvPr/>
          </p:nvSpPr>
          <p:spPr>
            <a:xfrm>
              <a:off x="1549440" y="484992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Alian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9"/>
            <p:cNvSpPr/>
            <p:nvPr/>
          </p:nvSpPr>
          <p:spPr>
            <a:xfrm>
              <a:off x="1765080" y="52689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certación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0"/>
            <p:cNvSpPr/>
            <p:nvPr/>
          </p:nvSpPr>
          <p:spPr>
            <a:xfrm>
              <a:off x="2916360" y="949320"/>
              <a:ext cx="17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 Interag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1"/>
            <p:cNvSpPr/>
            <p:nvPr/>
          </p:nvSpPr>
          <p:spPr>
            <a:xfrm>
              <a:off x="3924360" y="115236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2"/>
            <p:cNvSpPr/>
            <p:nvPr/>
          </p:nvSpPr>
          <p:spPr>
            <a:xfrm>
              <a:off x="2484360" y="792000"/>
              <a:ext cx="171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Grupo de trabaj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3"/>
            <p:cNvSpPr/>
            <p:nvPr/>
          </p:nvSpPr>
          <p:spPr>
            <a:xfrm>
              <a:off x="1981080" y="64764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operación Inter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4"/>
            <p:cNvSpPr/>
            <p:nvPr/>
          </p:nvSpPr>
          <p:spPr>
            <a:xfrm>
              <a:off x="5221080" y="15843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5"/>
            <p:cNvSpPr/>
            <p:nvPr/>
          </p:nvSpPr>
          <p:spPr>
            <a:xfrm>
              <a:off x="4573440" y="172728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6"/>
            <p:cNvSpPr/>
            <p:nvPr/>
          </p:nvSpPr>
          <p:spPr>
            <a:xfrm>
              <a:off x="3938400" y="187164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Lo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7"/>
            <p:cNvSpPr/>
            <p:nvPr/>
          </p:nvSpPr>
          <p:spPr>
            <a:xfrm>
              <a:off x="2844720" y="266400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ASESORÍA ESTRATÉ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8"/>
            <p:cNvSpPr/>
            <p:nvPr/>
          </p:nvSpPr>
          <p:spPr>
            <a:xfrm>
              <a:off x="5724360" y="282096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Minis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9"/>
            <p:cNvSpPr/>
            <p:nvPr/>
          </p:nvSpPr>
          <p:spPr>
            <a:xfrm>
              <a:off x="5508720" y="2664000"/>
              <a:ext cx="180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dades minister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0"/>
            <p:cNvSpPr/>
            <p:nvPr/>
          </p:nvSpPr>
          <p:spPr>
            <a:xfrm>
              <a:off x="5076720" y="338472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s indígena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1"/>
            <p:cNvSpPr/>
            <p:nvPr/>
          </p:nvSpPr>
          <p:spPr>
            <a:xfrm>
              <a:off x="4645080" y="47512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4860720" y="3168720"/>
              <a:ext cx="2303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3"/>
            <p:cNvSpPr/>
            <p:nvPr/>
          </p:nvSpPr>
          <p:spPr>
            <a:xfrm>
              <a:off x="1908000" y="3902040"/>
              <a:ext cx="164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4"/>
            <p:cNvSpPr/>
            <p:nvPr/>
          </p:nvSpPr>
          <p:spPr>
            <a:xfrm>
              <a:off x="3852720" y="503280"/>
              <a:ext cx="201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RELACIONES INTER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49"/>
          <p:cNvSpPr/>
          <p:nvPr/>
        </p:nvSpPr>
        <p:spPr>
          <a:xfrm>
            <a:off x="5832360" y="0"/>
            <a:ext cx="331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quema de gobernabilidad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7740-081A-41FD-9B2A-9592554953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re-establecimiento del diálogo con las organiz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organizaciones y diri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 demandas y establecer mecanismo de res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r mecanismo institucionalizados de 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paración de los primeros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imiento de alianzas cla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con Agencias de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07C4-BCC2-4E77-9FE8-889B3D908C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ácticas recurrentes de coord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ciones que respondan a problemas críticos y los soluc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primeros productos en cada área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político – instituci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venio 1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 de ley de Subsecreta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ejo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ctivo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845C-3E49-4FD3-AB78-38F8A0D58B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desarrollo integral de los pueb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 : 115 comunidades prior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s de infraestructura vial, agua, electrificación, vivi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 económicos – productivos. Coordinación con diversos servicios de Minagri, Econo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esión en programa de salud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educacional : Becas y educación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mandas específicas de cada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1591-3E03-4763-86EA-4B76A22A63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multiculturalidad y d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inversiones en tierra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mensión regional del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de trabajo con diversos 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Marco con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resupuesto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legislativa para agend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22BA-D2FF-4CF0-9CC5-9C411A324E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y promulgación del Convenio 16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difusión del convenio y de su forma de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indígena sobre proyecto de participación política y consejo de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sobre el proceso de consulta y par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isita del Relator Especial de Naciones Unidas para Pueblos Indíge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tecedentes a la vis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e preliminar pos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4ED4-8572-466C-A84F-53624B0E58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700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isis política por demandas no resuel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remento de la confli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uelga de hambre de deten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estudiante  en predio recla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crítica de avances gubernamen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rgencia de enfrentar situación con enfoque de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C4B8-CC1B-44DA-A3C7-72182E9F39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negociación de 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vances en compras para las 1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sos especiales y comunidades en confli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proyectos de inversión en tierr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 de Código de Conducta Respon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pública; decisión de bajar la pro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 de re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en general en el Se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consult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1A28-DC4A-4756-88C0-A9FBD1FCC8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vilizaciones de comunidades porque no hay solución inmediata a sus deman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ursiones en predios deman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s violentos contra camiones y bus de pasaj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as específicos de conflictos parciales: aeropuerto de Temuco, subsidios 20b declarados ilegales, problemas del trigo, lentitud de programa Orígenes, construcción de nuevos hogares universi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ón gubernamental ante tales manifes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Jaime Mendoza Collio durante la ocupación de un pr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0C28-E0BF-4E17-BE8B-758C9398F3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entorno político de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pro-activo en implementación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plitud de agenda que permite discusión pública de divers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as expectativas generadas en comunidades producto de promesas de cumplimiento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cial lentitud en implementación de diversas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as puntuales que sumados permiten articulación de grupos des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levancia de los temas de seguridad en la política pública. El conflicto mapuche se debe controlar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091F-AC36-49AF-BDF7-93C9D89C0D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entorno político de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confianza creciente de dirigencia indígena frente a la posibilidad de concretar propuestas que enfrentan tres problemas bás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frente a 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íodo preelectoral, con poca claridad programática frente a la forma en que se encararán las demandas indíge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obligado a reaccionar de forma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en responsable y en contenidos de enfoque y de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C2AA-75FD-4F45-B2CC-91363EEE09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lgunas 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truir políticas públicas es una tarea compl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basta con definir los contenidos; la política se juega en su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rea central para el éxito es construirle gober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novar en políticas es más complejo que iniciar una política nue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íticas que requieren rediseños institucionales enfrentan dificultades adi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derazgos son fundamen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iabilidad de política depende de relevancia que tenga para el máximo nivel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blemas transversales requieren acciones especiales para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25AB-5849-4567-ADAE-9CDD6157D3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iseño de bases para la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os avances en los programas vi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 institucionalidad responsable: MIDEPLAN, CONADI, otros ministe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su relevanci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64F4-6898-4780-A6AA-D3DDDD8BB0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edidas ini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titución de Comité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gociación de temas coyunturales urgentes ( huelga de hamb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amiento de una autoridad política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cargo político en fase de transi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lticultur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nocimiento de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5582-0E67-4813-A545-5A7EDAB57B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ensaje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calizar el sentido de la interven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eño del plan de trabajo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instituciones y procesos a 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lección de 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, escuchar, escu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48F8-9AC5-4C38-BD83-2567B97680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problemas de urgente s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denar actores gubernamentales de nivel ministerial y reg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r proceso para establecer bases de gobernabilidad d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r propuesta de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3626-D38B-4CB9-9866-C97F0A56F8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Fase de diseño de la política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r pertinencia, relevancia, eficacia de la política en diseñ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steo preliminar con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y aprob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puesta en escena pública de l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ent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2EC5-32E1-40B9-9293-B370B4A936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política</a:t>
            </a:r>
            <a:br>
              <a:rPr sz="3200"/>
            </a:b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conocer: Pacto social por la multiculturalidad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logros alcan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valuación de la sit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desafíos a enfr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objetivos a alcan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opuesta de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quema de gobern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6148-9FE0-4FC8-85F0-AFE39DC509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ambios de enf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840" y="155556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ideraba el tema indígena como una cuestión de pobreza y marginalidad; el cambio de enfoque debe llevar a considerarlo un asunto referido a derechos de los pueblos indígen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mucho tiempo se consideró a los indígenas como un asunto exclusivamente concerniente al gobierno; es un tema de toda la soc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se intentaba centralizar en una repartición del gobierno los temas indígenas; actualmente se busca transversalizarlos e institucionalizarlo en toda la estructura esta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lantea la construcción de espacios de diálogo con visiones consensuadas, acuerdos y compromisos para la implementación de la participación de los pueblos indígenas y la adecuación plena de nuestra organización para la aplicación del Convenio 1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usca construir la multiculturalidad entendida como respeto a la diferencia con igualdad de derechos, en el marco de una sociedad democrática en la que varias culturas se dan cita en un espacio físico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5:08:21Z</dcterms:created>
  <dc:creator>regana</dc:creator>
  <dc:description/>
  <dc:language>en-US</dc:language>
  <cp:lastModifiedBy>Auditorio</cp:lastModifiedBy>
  <dcterms:modified xsi:type="dcterms:W3CDTF">2009-10-05T17:38:12Z</dcterms:modified>
  <cp:revision>58</cp:revision>
  <dc:subject/>
  <dc:title>Diapositiva 1</dc:title>
</cp:coreProperties>
</file>