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7A7-224D-4924-AF3C-5027ECE6C8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A509-C241-4CDC-BA30-AA2BC25E27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7EB-6720-4279-B212-F764DD8BE8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D88-B096-4C8B-92A3-A7E45E7C5C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EC9-713D-4BD4-A939-E677D312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53F-ECB3-4CA0-8597-521650D9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117-A34D-4B15-B07F-3170DA5F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8E6-DA54-4655-9136-DABC08C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8D1-7EB7-48B0-9495-5B74EB2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919-6F81-4439-B974-B84B0C25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088-6A0C-45EA-8809-2F6B1B4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C8D-86A2-4234-8B6A-CCB751F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BBE-5319-4E0F-AA77-CDE8CEB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039-0E10-4429-BC72-DE1F32A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C8E-F700-4F89-97E7-DC1F56D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2A1-2891-42CF-92A5-71B7024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36C-BB36-4E9B-A52C-DFAC6F09A3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8A3-4287-45DE-9AE7-C82CA63D03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43D-785D-4FEC-BA64-5686CC1594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DBD-7D94-49E5-87C2-35E29EAE02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F49-375B-40A5-BD0D-7B83D9C355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864-797C-4636-9560-F10A804688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iagram 2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92" name="_s1028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3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5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6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7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8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9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0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9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6FC0-3257-4FCA-8AB0-95FDBFE185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B4C4-A422-4307-B71C-9660013F08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4E9-EC94-48B9-843F-70BBA5BEDC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FE23-E8F1-460A-923D-0CABDB205C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C07-5680-4F3A-86C1-12A2B63ABC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26B-F013-44DC-B483-C3B57AEE46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2D56-4F67-4894-9666-6E9E2F8C48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2779-3AFA-4341-AC3C-12EA31F0AB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E94-BBF4-405B-899C-6CCF130F56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EBE-A9C0-49A9-BBD7-921F1CCA18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483-C318-4700-94F3-7822D02CB9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C62-9217-4091-9148-3170A4E3FA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675-2FDC-497F-8497-4904E0A988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867C-43A9-4931-9457-1D3BBA4319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FD9B-5ED6-4386-BA85-F83F5F772E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759-D278-49A8-810D-5D4A78EFAF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CF5A-3711-4D30-85CA-E6F62AB59C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538-88EF-40AB-AD52-84265FBA8B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Auditorio</cp:lastModifiedBy>
  <dcterms:modified xsi:type="dcterms:W3CDTF">2009-10-05T17:38:12Z</dcterms:modified>
  <cp:revision>58</cp:revision>
  <dc:subject/>
  <dc:title>Diapositiva 1</dc:title>
</cp:coreProperties>
</file>