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6AA-CA00-4010-AFAC-A4909B1F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769-12E2-4506-B872-A1F32510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8D4-D33F-466F-A06D-5C1723F4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88F-85B5-4286-ABD3-E46E4948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F947-283F-4C73-B773-7216512C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80C5-0B79-48ED-82E3-D77BF94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DC3C-A936-4B18-9231-E01E94A3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45B1-23A9-40CD-93FB-B5C82C2A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FB1-3B26-4A8E-BF96-D64CD8C5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E99A-E43F-4B34-8A82-59D81165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2C76-104A-48F5-9098-8CFFDA94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391-F425-441A-9DD2-627063A1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5003-E918-4C78-825F-EF7CE8DD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04BA-F524-4A07-B1A4-C436C83D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4EB7-8D25-4AE7-9774-20F3CB4F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20BB-4560-46F6-B724-F2D47583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25B7-9CA6-424E-A70E-4B7F4DC5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86DD-4664-4A1A-A5BD-4193EA52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E865-AA06-40BD-970D-13EF0677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204D8-DE43-4677-B09B-197C139F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A5FE-135E-468B-AB47-DB27FC92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57E4F-4F24-42E4-95DF-9BB68044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D8D-569B-4281-8939-D6F908BF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990E-F343-4C9B-9437-CF9917E6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C7E5-4425-4A1E-A1DA-D9EC792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2E63-E2A3-46AE-B4B0-C83F10F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8F7D-342E-4360-B2C7-B65D5572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368C6-B23C-495F-9DCB-35F165B1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5840-96CA-4291-B2EC-6A469ADA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0844-4AA5-423C-B9DC-4B6CAA23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2D91-C103-442C-93AA-150576CF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53B0-5853-47A9-B8AF-94B73C1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5BEF3-1CD5-4C5B-B52C-2756F99B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314B-F21B-4825-BB38-DB1AFB36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3386-38D6-4907-AA96-B9F3B8E5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D3EC1-3024-40F1-B1F5-42170960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F9EE-3D83-484C-A510-5C11F637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F374-6D5B-4A90-9679-CAAC411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B9D1-5435-4504-824A-A7A5C62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84B77-E673-4858-AAC0-EF1A959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806D-BD49-45A1-8DDE-7A30409A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17EFE-BFB2-4251-83BA-C074C8EA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3FAF-432D-4C57-82D7-E0D6959B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AA2EB-6A3E-482E-9E92-4A2A2BD3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D8F-4982-4332-92BF-E0788793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AE4C-7FC6-4E3C-8BA5-411E4192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D009-4A23-4CC0-93C3-F8E389D7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0781-AE4B-47AB-A1AA-FF220ADB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0AF81-C54C-4E50-B00C-141E0E62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677D-F913-48C8-A357-95D7F485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104CC-1688-4A71-845C-3A30C50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03863-B799-48EC-8BAE-F654295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AE181-7A49-4090-BB7B-2AF97D99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1A9AA-FD36-4E47-951E-8449EC4C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5CCF-C1CC-4F0D-9E84-82B704F4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EBC-71F1-4A96-8851-D1739357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91D00-C4DA-4DC3-9AA5-275E58C4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9F0-76F9-407B-A83D-32A1F631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5AE-35C8-4463-80F3-349C5F83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B56-369D-488A-9711-B14A93F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6CF1-DC2F-46DC-B2EF-B0C139A7A9EA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168D-3833-4933-829B-DCC45B9B48DB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DBC1-7352-4B3E-9CE9-C982FC853ADD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68F3-F954-4603-BE43-152953139084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832A-60F2-47EA-A4B9-D55789639BD3}" type="slidenum">
              <a:rPr b="0" lang="es-CL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ledad.arellano@uai.cl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14040" y="48769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M. Soledad Arellan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Escuela de Gobierno, UA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Perpetua"/>
                <a:hlinkClick r:id="rId1"/>
              </a:rPr>
              <a:t>soledad.arellano@uai.c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4000" spc="-1" strike="noStrike">
                <a:solidFill>
                  <a:srgbClr val="ffffff"/>
                </a:solidFill>
                <a:latin typeface="Franklin Gothic Book"/>
              </a:rPr>
              <a:t>Por que existe la Regulación?</a:t>
            </a:r>
            <a:br>
              <a:rPr sz="48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Por qué existe la regulación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del Interés Publico (NP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de la Captur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Económica de la Regul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Teoría del Interés Públ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66280" y="17521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R existe porque hay ocasiones en las que la competencia sin restricciones no funciona bi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es el resultado de la demanda pública por corregir una falla de mercado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debiera entonces </a:t>
            </a:r>
            <a:r>
              <a:rPr b="1" i="1" lang="es-CL" sz="2400" spc="-1" strike="noStrike">
                <a:solidFill>
                  <a:srgbClr val="000000"/>
                </a:solidFill>
                <a:latin typeface="Perpetua"/>
              </a:rPr>
              <a:t>aumentar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1. Teoría del Interés Públic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75212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R existe porque hay ocasiones en las que la competencia sin restricciones no funciona bie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es el resultado de la demanda pública por corregir una falla de mercado.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egulación debiera entonces </a:t>
            </a:r>
            <a:r>
              <a:rPr b="1" i="1" lang="es-CL" sz="2400" spc="-1" strike="noStrike">
                <a:solidFill>
                  <a:srgbClr val="000000"/>
                </a:solidFill>
                <a:latin typeface="Perpetua"/>
              </a:rPr>
              <a:t>aumentar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3520" y="4495680"/>
            <a:ext cx="3504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ando se debiera regular (cuando hay falla de mercad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álisis Norm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638680" y="4572000"/>
            <a:ext cx="243864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ando se reg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nálisis Posi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4495680" y="45720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8"/>
          <p:cNvSpPr/>
          <p:nvPr/>
        </p:nvSpPr>
        <p:spPr>
          <a:xfrm rot="5400000">
            <a:off x="1942560" y="430524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9"/>
          <p:cNvSpPr/>
          <p:nvPr/>
        </p:nvSpPr>
        <p:spPr>
          <a:xfrm rot="5400000">
            <a:off x="6743160" y="4000320"/>
            <a:ext cx="457200" cy="281916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l Interés Público: Comentarios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Teoría Incomple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ómo pide la sociedad que se regul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ómo y por que la potencial ganancia social motiva a los legisladores a tomar la decisión correct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No genera una predicción, la asu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ocurre para corregir una falla de mercado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Perpetua"/>
              </a:rPr>
              <a:t>La evidencia no la apoy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rrelación entre R y fallas de mercado es débil e inestable en el tiempo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l Interés Público: Reform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742217"/>
                </a:solidFill>
                <a:latin typeface="Perpetua"/>
              </a:rPr>
              <a:t>“</a:t>
            </a:r>
            <a:r>
              <a:rPr b="1" lang="es-CL" sz="2600" spc="-1" strike="noStrike">
                <a:solidFill>
                  <a:srgbClr val="742217"/>
                </a:solidFill>
                <a:latin typeface="Perpetua"/>
              </a:rPr>
              <a:t>La R ocurre para corregir fallas de mercado pero es posteriormente mal administrada o mal aplicada por el regulador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Sin embarg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sume hipótesis en vez de generarla: por que es mal administrada por el regulador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un es inconsistente con evidencia de R en mercados sin fallas de merca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2. Teoría de la Captur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ocurre en respuesta a una solicitud de la industria como resultado de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industria 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captura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al </a:t>
            </a:r>
            <a:r>
              <a:rPr b="0" i="1" lang="es-CL" sz="2400" spc="-1" strike="noStrike">
                <a:solidFill>
                  <a:srgbClr val="000000"/>
                </a:solidFill>
                <a:latin typeface="Perpetua"/>
              </a:rPr>
              <a:t>legislad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industria 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captura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al </a:t>
            </a:r>
            <a:r>
              <a:rPr b="0" i="1" lang="es-CL" sz="2400" spc="-1" strike="noStrike">
                <a:solidFill>
                  <a:srgbClr val="000000"/>
                </a:solidFill>
                <a:latin typeface="Perpetua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“algún” motivo, la autoridad es capturada por la industri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mplicanci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aumenta utilidades de la industri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no promueve el bienestar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de la Captura: Comentarios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Incompleta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mo se produce la captura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r que captura la industria y no los consumidor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sume el resultado (R pro-productor), no lo gener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evidencia no la apoy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 a veces pro-productor, a veces pro-consumid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3. 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 básica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curso básico del Estado: Poder coercitiv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de interés pueden convencer al Estado de usar su poder coercitivo de modo que los favorezc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gentes son racionale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eligen acciones que maximizan su utilida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Esto aplica tanto a nivel de regulador como de regulado (c/u tiene su propia función objetivo que maximiza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3. 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Enfoqu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Stigler / Peltzman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egislador quiere maximizar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Becker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mpetencia entre grupos de interés determina el resultado de la 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Perpetua"/>
              </a:rPr>
              <a:t>Posn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2" marL="1239840" indent="-49536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obierno quiere redistribuir riquez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696464"/>
                </a:solidFill>
                <a:latin typeface="Franklin Gothic Book"/>
              </a:rPr>
              <a:t>Enfoque 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R se provee en respuesta 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demandas de grupos de interés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que actúan con el objetivo de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742217"/>
                </a:solidFill>
                <a:latin typeface="Perpetua"/>
              </a:rPr>
              <a:t>mejorar sus condiciones económica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Motiv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cusión actual en torno a competencia / regulació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gramas presidencia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emandas de grupos de interés de más / menos regul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Medio ambientalistas, profesores, sindicatos, empresarios, agricultores, grupos indígenas, 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52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 redistribuye riquez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(tb otras cosas, pero esto es lo relevante para 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s legisladores quieren </a:t>
            </a:r>
            <a:r>
              <a:rPr b="0" i="1" lang="es-CL" sz="2400" spc="-1" strike="noStrike">
                <a:solidFill>
                  <a:srgbClr val="742217"/>
                </a:solidFill>
                <a:latin typeface="Perpetua"/>
              </a:rPr>
              <a:t>mantenerse en el pode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 buscan max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66960" indent="-4953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s grupos de interés compiten entre si en busca de legislación favorable, a cambio de apoyo polític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Legisl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638680" y="335268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Grupos de inte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2819520" y="2286000"/>
            <a:ext cx="2286000" cy="12952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8"/>
          <p:cNvSpPr/>
          <p:nvPr/>
        </p:nvSpPr>
        <p:spPr>
          <a:xfrm rot="10800000">
            <a:off x="3048120" y="4114800"/>
            <a:ext cx="2286000" cy="12952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3048120" y="1828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R favor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30481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Vo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11"/>
          <p:cNvSpPr/>
          <p:nvPr/>
        </p:nvSpPr>
        <p:spPr>
          <a:xfrm>
            <a:off x="7620120" y="2971800"/>
            <a:ext cx="838080" cy="1981080"/>
          </a:xfrm>
          <a:custGeom>
            <a:avLst/>
            <a:gdLst>
              <a:gd name="textAreaLeft" fmla="*/ 112320 w 838080"/>
              <a:gd name="textAreaRight" fmla="*/ 725760 w 83808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Grupos de interés más activos en pedir R son aquell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uyos integrantes ganan más en términos individua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Beneficio per cápita es el que induce a participar e invertir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A mayor beneficio, más dispuestos a invertir en conseguir apoyo político (votos y $); menos free rid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de i mejor organi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Más efectivos en organizar apoyo polític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lebiscito Vitacura / Elecciones parlamentari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Regulación estará sesgada en beneficio de grupos de interé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Cuyos integrantes ganan más en términos individual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Perpetua"/>
              </a:rPr>
              <a:t>Grupos de i mejor organizado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48080" indent="-20772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La R tiende a beneficiar a grupos </a:t>
            </a:r>
            <a:r>
              <a:rPr b="1" lang="es-CL" sz="2400" spc="-1" strike="noStrike">
                <a:solidFill>
                  <a:srgbClr val="742217"/>
                </a:solidFill>
                <a:latin typeface="Perpetua"/>
              </a:rPr>
              <a:t>pequeños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 con </a:t>
            </a:r>
            <a:r>
              <a:rPr b="1" lang="es-CL" sz="2400" spc="-1" strike="noStrike">
                <a:solidFill>
                  <a:srgbClr val="742217"/>
                </a:solidFill>
                <a:latin typeface="Perpetua"/>
              </a:rPr>
              <a:t>fuertes preferencias</a:t>
            </a:r>
            <a:r>
              <a:rPr b="0" lang="es-CL" sz="2400" spc="-1" strike="noStrike">
                <a:solidFill>
                  <a:srgbClr val="742217"/>
                </a:solidFill>
                <a:latin typeface="Perpetua"/>
              </a:rPr>
              <a:t> (sobre el resultado de la R) a costa de grandes grupos con preferencias mas débil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ntendemos por que usualmente R favorece al productor, pero permite que también proteja al consumid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20 CuadroTexto"/>
          <p:cNvSpPr/>
          <p:nvPr/>
        </p:nvSpPr>
        <p:spPr>
          <a:xfrm>
            <a:off x="6095880" y="259092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tar qu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S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~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es poco probable que se reg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Stigler / Peltzma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4 Conector recto"/>
          <p:cNvSpPr/>
          <p:nvPr/>
        </p:nvSpPr>
        <p:spPr>
          <a:xfrm flipH="1">
            <a:off x="1523520" y="1828800"/>
            <a:ext cx="1800" cy="251460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6 Conector recto"/>
          <p:cNvSpPr/>
          <p:nvPr/>
        </p:nvSpPr>
        <p:spPr>
          <a:xfrm>
            <a:off x="1523880" y="4343400"/>
            <a:ext cx="4114800" cy="144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7 Arco"/>
          <p:cNvSpPr/>
          <p:nvPr/>
        </p:nvSpPr>
        <p:spPr>
          <a:xfrm>
            <a:off x="1905120" y="2590920"/>
            <a:ext cx="3200400" cy="3657600"/>
          </a:xfrm>
          <a:custGeom>
            <a:avLst/>
            <a:gdLst>
              <a:gd name="textAreaLeft" fmla="*/ 360 w 3200400"/>
              <a:gd name="textAreaRight" fmla="*/ 3199680 w 3200400"/>
              <a:gd name="textAreaTop" fmla="*/ 0 h 3657600"/>
              <a:gd name="textAreaBottom" fmla="*/ 1777680 h 3657600"/>
            </a:gdLst>
            <a:ahLst/>
            <a:rect l="textAreaLeft" t="textAreaTop" r="textAreaRight" b="textAreaBottom"/>
            <a:pathLst>
              <a:path stroke="0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  <a:lnTo>
                  <a:pt x="1600200" y="1828800"/>
                </a:lnTo>
                <a:close/>
              </a:path>
              <a:path fill="none" w="3200400" h="3657600">
                <a:moveTo>
                  <a:pt x="624" y="1777747"/>
                </a:moveTo>
                <a:lnTo>
                  <a:pt x="624" y="1777747"/>
                </a:lnTo>
                <a:arcTo wR="1600200" hR="1828800" stAng="-10690316" swAng="10547445"/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9 CuadroTexto"/>
          <p:cNvSpPr/>
          <p:nvPr/>
        </p:nvSpPr>
        <p:spPr>
          <a:xfrm>
            <a:off x="1676520" y="4419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14 Arco"/>
          <p:cNvSpPr/>
          <p:nvPr/>
        </p:nvSpPr>
        <p:spPr>
          <a:xfrm rot="6783600">
            <a:off x="1558800" y="1590480"/>
            <a:ext cx="1911600" cy="1670400"/>
          </a:xfrm>
          <a:custGeom>
            <a:avLst/>
            <a:gdLst>
              <a:gd name="textAreaLeft" fmla="*/ 470880 w 1911600"/>
              <a:gd name="textAreaRight" fmla="*/ 1911960 w 1911600"/>
              <a:gd name="textAreaTop" fmla="*/ 0 h 1670400"/>
              <a:gd name="textAreaBottom" fmla="*/ 1290960 h 167040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15 Arco"/>
          <p:cNvSpPr/>
          <p:nvPr/>
        </p:nvSpPr>
        <p:spPr>
          <a:xfrm rot="6783600">
            <a:off x="1405800" y="1209240"/>
            <a:ext cx="1911240" cy="1670040"/>
          </a:xfrm>
          <a:custGeom>
            <a:avLst/>
            <a:gdLst>
              <a:gd name="textAreaLeft" fmla="*/ 470520 w 1911240"/>
              <a:gd name="textAreaRight" fmla="*/ 1911600 w 1911240"/>
              <a:gd name="textAreaTop" fmla="*/ 0 h 1670040"/>
              <a:gd name="textAreaBottom" fmla="*/ 1290960 h 1670040"/>
            </a:gdLst>
            <a:ahLst/>
            <a:rect l="textAreaLeft" t="textAreaTop" r="textAreaRight" b="textAreaBottom"/>
            <a:pathLst>
              <a:path stroke="0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  <a:lnTo>
                  <a:pt x="955675" y="835025"/>
                </a:lnTo>
                <a:close/>
              </a:path>
              <a:path fill="none" w="1911350" h="1670050">
                <a:moveTo>
                  <a:pt x="470732" y="115492"/>
                </a:moveTo>
                <a:lnTo>
                  <a:pt x="470732" y="115492"/>
                </a:lnTo>
                <a:arcTo wR="955675" hR="835025" stAng="-7438725" swAng="9217205"/>
              </a:path>
            </a:pathLst>
          </a:custGeom>
          <a:noFill/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17 Conector recto"/>
          <p:cNvSpPr/>
          <p:nvPr/>
        </p:nvSpPr>
        <p:spPr>
          <a:xfrm flipH="1">
            <a:off x="2743200" y="2819520"/>
            <a:ext cx="1440" cy="1523880"/>
          </a:xfrm>
          <a:prstGeom prst="line">
            <a:avLst/>
          </a:prstGeom>
          <a:ln w="936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18 CuadroTexto"/>
          <p:cNvSpPr/>
          <p:nvPr/>
        </p:nvSpPr>
        <p:spPr>
          <a:xfrm>
            <a:off x="685800" y="1523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∏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19 CuadroTexto"/>
          <p:cNvSpPr/>
          <p:nvPr/>
        </p:nvSpPr>
        <p:spPr>
          <a:xfrm>
            <a:off x="6019920" y="1523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= M( P, ∏(P)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    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20 CuadroTexto"/>
          <p:cNvSpPr/>
          <p:nvPr/>
        </p:nvSpPr>
        <p:spPr>
          <a:xfrm>
            <a:off x="6095880" y="2590920"/>
            <a:ext cx="26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otar qu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≤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i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S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~ 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erpetu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es poco probable que se reg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21 CuadroTexto"/>
          <p:cNvSpPr/>
          <p:nvPr/>
        </p:nvSpPr>
        <p:spPr>
          <a:xfrm>
            <a:off x="990720" y="502920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Industrias que mas ganan con R s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- Relativamente competitivas (gana produc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- Relativamente monopólicas (gana consumid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Otros Enfoques: Becker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mpetencia entre grupos de interés es lo que determina el resultado de la 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o relevante es la presión relativa que ejercen los grup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Transferencia de Riqueza = Influencia (Presión 1, Presión 2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ión ejercida depende de P-i , costo de ejercer y beneficio esperad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resión ejercida: Juego con Complementos estratégico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No considera función objetivo del regulad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91400" indent="-4914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sultado importante: Políticas que aumentan bienestar tienen mayor probabilidad de ser implementad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Da justificación teórica a NPT (pero Becker NO plantea que R solo responde a fallas de mercado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26120" indent="-49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Otros Enfoques: Posner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emisa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obierno quiere redistribuir riquez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La R permite al gobierno lograr objetivos redistributiv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119240" indent="-5716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ubsidios cruzado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119240" indent="-57168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Consistente con Becker (subsidios cruzados pueden ser explicados como el resultado de la competencia entre grupos de inter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incipales Resultad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ndencia a regular a favor de grupos pequeños con fuertes preferenci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consumidores de algún modo restringen a la autoridad (P &lt; P</a:t>
            </a:r>
            <a:r>
              <a:rPr b="0" lang="es-CL" sz="26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mas frecuente en industrias muy competitivas o con muchos problemas de poder de merca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alla de mercad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R mas proba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Motiv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Discusión actual en torno a competencia / regulació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Programas presidenciale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demandas de grupos de interés de más / menos regul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Medio ambientalistas, profesores, sindicatos, empresarios, agricultores, grupos indígenas, et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Qué sectores esperar que se regule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 </a:t>
            </a: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A qué peticiones acceder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42217"/>
                </a:solidFill>
                <a:latin typeface="Perpetua"/>
              </a:rPr>
              <a:t>A quién favorecerá la regulació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696464"/>
                </a:solidFill>
                <a:latin typeface="Franklin Gothic Book"/>
              </a:rPr>
              <a:t>Teoría Económica de la Regulación</a:t>
            </a:r>
            <a:endParaRPr b="0" lang="en-US" sz="3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rincipales Resultad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ndencia a regular a favor de grupos pequeños con fuertes preferenci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os consumidores de algún modo restringen a la autoridad (P &lt; P</a:t>
            </a:r>
            <a:r>
              <a:rPr b="0" lang="es-CL" sz="2600" spc="-1" strike="noStrike" baseline="30000">
                <a:solidFill>
                  <a:srgbClr val="000000"/>
                </a:solidFill>
                <a:latin typeface="Perpetua"/>
              </a:rPr>
              <a:t>m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 mas frecuente en industrias muy competitivas o con muchos problemas de poder de mercad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falla de mercad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R mas probabl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71680" indent="-57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3 CuadroTexto"/>
          <p:cNvSpPr/>
          <p:nvPr/>
        </p:nvSpPr>
        <p:spPr>
          <a:xfrm>
            <a:off x="1066680" y="51055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b2d1f"/>
                </a:solidFill>
                <a:latin typeface="Perpetua"/>
              </a:rPr>
              <a:t>TER es una contribución importante a la comprensión de la intervención del Gobierno pero aun existe evidencia empírica inconsistente con 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5 CuadroTexto"/>
          <p:cNvSpPr/>
          <p:nvPr/>
        </p:nvSpPr>
        <p:spPr>
          <a:xfrm>
            <a:off x="6248520" y="3809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gulador hace lo que dice la 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8 Flecha arriba"/>
          <p:cNvSpPr/>
          <p:nvPr/>
        </p:nvSpPr>
        <p:spPr>
          <a:xfrm>
            <a:off x="701028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696464"/>
                </a:solidFill>
                <a:latin typeface="Franklin Gothic Book"/>
              </a:rPr>
              <a:t>Teoría Económica de la Regulación: Comentarios</a:t>
            </a:r>
            <a:endParaRPr b="0" lang="en-US" sz="31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1447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Teoría requiere que proceso político funcione así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20200" indent="-520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lección 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egislador en parlamento </a:t>
            </a:r>
            <a:r>
              <a:rPr b="0" lang="es-C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    Regulador </a:t>
            </a: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3 CuadroTexto"/>
          <p:cNvSpPr/>
          <p:nvPr/>
        </p:nvSpPr>
        <p:spPr>
          <a:xfrm>
            <a:off x="685800" y="3581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upo de i puede influir en el resul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4 CuadroTexto"/>
          <p:cNvSpPr/>
          <p:nvPr/>
        </p:nvSpPr>
        <p:spPr>
          <a:xfrm>
            <a:off x="32767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gislador hace lo que quiere el grupo de int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5 CuadroTexto"/>
          <p:cNvSpPr/>
          <p:nvPr/>
        </p:nvSpPr>
        <p:spPr>
          <a:xfrm>
            <a:off x="6248520" y="3809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gulador hace lo que dice la l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6 Flecha arriba"/>
          <p:cNvSpPr/>
          <p:nvPr/>
        </p:nvSpPr>
        <p:spPr>
          <a:xfrm>
            <a:off x="1371600" y="281952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7 Flecha arriba"/>
          <p:cNvSpPr/>
          <p:nvPr/>
        </p:nvSpPr>
        <p:spPr>
          <a:xfrm>
            <a:off x="434340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8 Flecha arriba"/>
          <p:cNvSpPr/>
          <p:nvPr/>
        </p:nvSpPr>
        <p:spPr>
          <a:xfrm>
            <a:off x="7010280" y="2971800"/>
            <a:ext cx="304920" cy="457200"/>
          </a:xfrm>
          <a:prstGeom prst="upArrow">
            <a:avLst>
              <a:gd name="adj1" fmla="val 50000"/>
              <a:gd name="adj2" fmla="val 4998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9 CuadroTexto"/>
          <p:cNvSpPr/>
          <p:nvPr/>
        </p:nvSpPr>
        <p:spPr>
          <a:xfrm>
            <a:off x="762120" y="5029200"/>
            <a:ext cx="777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in embarg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egislador tiene multiples objetivos (ideologi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nitoreo imperfecto de lo que hace el legisl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mplementacion de la R a veces difiere de lo que dice la 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Grupos de interes no controlan totalmente al regulador / legisl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Comentarios Final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 estas elecciones, a quienes deberían beneficiar las propuestas electoral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ducación: Estudiantes / Profesores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edio ambientalistas</a:t>
            </a: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Grupos indígen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Que propuestas presidenciales son mas “importantes”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s este un buen momento para hacer reforma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Franklin Gothic Book"/>
              </a:rPr>
              <a:t>Agend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n que consiste la Regulación?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ridades empíricas en Regulació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Por que existe la regulació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Que le pedimos  a la teoría de la regulación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Posibles explicacion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del Interés Public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de la Captur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Teoría Económica de la Regulació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Que esperamos que pase con la regulación entonce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es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844560" indent="-571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es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ción es mucho más que fijar precio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Incluye definición de estándares y en general definición de “reglas del juego” que deben cumplir las empres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AFP: reglas de inversión, estándares de entrega de informació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léctrico: definición de estándares de calidad (tensión, voltaj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Bancos: requisitos de capital mínim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Educación: Estatuto docen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08680" indent="-508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Regulación económica / Regulación Soci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751320" indent="-5086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Evidencia Empírica de Regul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orrelación entre R y fallas de mercado es débil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R no es estable en el tiempo; “Olas Regulatorias”. Ejempl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EEUU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Ferrocarriles R 1887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DR en 1980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Aerolíneas: R 1938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DR 1978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erpetua"/>
              </a:rPr>
              <a:t>Chi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Transmisión eléctrica: DR 1982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 R 2004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Telecomunicaciones (larga distancia / telefonía fija)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Perpetua"/>
              </a:rPr>
              <a:t>Sector financiero!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Evidencia Empírica de Regulació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Hay grupos de interés que se benefician de la 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A veces pro-productor ; a veces pro-consumidor ; a veces pequeño productor / gran product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istencia de subsidios cruzado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Perpetua"/>
              </a:rPr>
              <a:t>Cambios en el énfasis de la regulació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Perpetua"/>
              </a:rPr>
              <a:t>- Regulación económica / + Regulación Soci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96464"/>
                </a:solidFill>
                <a:latin typeface="Franklin Gothic Book"/>
              </a:rPr>
              <a:t>Que le pedimos a la Teoría de la Regulación?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Perpetua"/>
              </a:rPr>
              <a:t>La Teoría de la Regulación debe cumplir al menos los siguientes requisito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Consistencia con evidencia empíric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Perpetua"/>
              </a:rPr>
              <a:t>Método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Supuestos de comportamiento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Hipótesis testeables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Perpetua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4:00:20Z</dcterms:created>
  <dc:creator>Maria-Soledad Arellano</dc:creator>
  <dc:description/>
  <dc:language>en-US</dc:language>
  <cp:lastModifiedBy>Auditorio</cp:lastModifiedBy>
  <dcterms:modified xsi:type="dcterms:W3CDTF">2009-09-21T17:30:45Z</dcterms:modified>
  <cp:revision>75</cp:revision>
  <dc:subject/>
  <dc:title>FUNDAMENTOS DE ORGANIZACION INDUSTRIAL</dc:title>
</cp:coreProperties>
</file>