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23A-71F2-42DC-8090-66519403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9B3-7DF6-495B-B4B3-FA1350F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8F7-3C98-4132-9D1F-60DE19FF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95D-467D-4DAF-8928-F68A7818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C8F8-B47C-4CFE-B51C-C7F28C03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196-086D-4E99-B94D-4EE9A24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34D6-72E3-4C81-B6A9-AE3BD36A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858B-A1E6-4B24-A2E1-96237741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649E-692F-447E-8AA8-9B528F4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4817-7CC4-46B9-A96C-4DF5961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574-2278-488B-81BF-0BDA520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06A-2711-4A1C-AE03-500A68F6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186-7233-4080-9567-7790B8D9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961-D46F-4990-B9DC-46A7A304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CA3-7ECF-43A3-B375-25F3778C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112B-5025-489D-9A17-4D500CB6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C7AD-6EAC-4CC2-818E-BA99984C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4F44-5882-4530-BFD2-F6FF9DE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974C-EC4C-44B7-BB57-D0CAEE4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4A23-82FC-4747-BC07-0F345118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12A2-75F1-4948-9F2E-4E2A19F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1EE6-553C-446E-BC21-EBD1C2D7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B9D-4FF1-4D0B-A201-9667A870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EDE7-BAF5-474F-8C1F-A9DD8A2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05DF-21F3-41D0-BBAF-942ABF7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DB99-08E4-4B21-8947-5F012CA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6872-D23E-47BE-BB1E-E44F397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2B92-15D1-48F1-8CC0-B8F4F760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9A9D-D73C-4674-8807-DF4AE413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864E-4121-4E38-AD4D-0F686B0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BE50-BD05-4598-B535-5992FC9D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F44B-D7EC-4895-A23E-0EF5FBB5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BCDF-5126-4956-BDF4-6DD88064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EC8-7A1A-41A2-BC06-CADF148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2E70-B811-4EE8-8BB1-70DA87B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4B1D-CFE7-4CA8-8239-41EF316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B55A-19C5-4860-8170-77305F8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D56B-A1DD-4BDA-9CB4-C1FB6B9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B9C3-61E6-46DE-9436-5EA6F3A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F2EB-02AB-487A-A616-D6612189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D2D8-36B8-4161-897B-A576600A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4BAF-27C2-493A-8F29-61B05C48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9877-5207-41F4-B6BC-23976ABB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7844-ACC3-4160-A675-8296F9B0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351-6EA1-4EAA-890E-B4AA7C3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61FC-BD2E-46B8-85CA-E86D13A1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FAE6-00AF-40E7-9861-CA13662C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39214-546C-43DF-9F52-AAE8065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A3BB-9D4A-415F-B288-228E9FB0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81C6-2E84-4060-9438-8C4D3D3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ADBC-304D-440D-86D3-A4666BD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B044-3E49-410C-8D02-230278D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ABFD-C52F-4DBB-A33D-4AD1791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6DCBD-DE61-4568-BA58-ED0A2530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C7134-AE3D-4967-B837-3082B4ED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59D-A47A-4D47-AF7B-7FD3E24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F6BB-BE40-4CDB-AFE7-C700EC78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279-022A-40CA-8D14-9BB7F07F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424-8EAB-4512-97E1-6AB82CF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F73-419E-4D73-9F4F-DF61D753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57FC-7C26-425E-AC5A-2CA3E9B8F053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2E01-5AEA-494C-82A4-8C4B5E04E552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84F-A2A1-4BD5-915E-DD7DED3153C4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84BA-E072-47EA-B99A-B77AFD2163F2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005-6B5F-4E8E-89AF-F166742760EB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ledad.arellano@uai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M. Soledad Arell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scuela de Gobierno, U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soledad.arellano@uai.c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4000" spc="-1" strike="noStrike">
                <a:solidFill>
                  <a:srgbClr val="ffffff"/>
                </a:solidFill>
                <a:latin typeface="Franklin Gothic Book"/>
              </a:rPr>
              <a:t>Por que existe la Regulación?</a:t>
            </a:r>
            <a:br>
              <a:rPr sz="48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Por qué existe la regulació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l Interés Publico (NP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1. 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3520" y="449568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debiera regular (cuando hay falla de mer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Norm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638680" y="4572000"/>
            <a:ext cx="24386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reg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Pos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495680" y="45720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8"/>
          <p:cNvSpPr/>
          <p:nvPr/>
        </p:nvSpPr>
        <p:spPr>
          <a:xfrm rot="5400000">
            <a:off x="1942560" y="430524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9"/>
          <p:cNvSpPr/>
          <p:nvPr/>
        </p:nvSpPr>
        <p:spPr>
          <a:xfrm rot="5400000">
            <a:off x="6743160" y="40003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Teoría Incomple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pide la sociedad que se regu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y por que la potencial ganancia social motiva a los legisladores a tomar la decisión correct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No genera una predicción, la a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ocurre para corregir una falla de mercado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rrelación entre R y fallas de mercado es débil e inestable en el tiemp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Reform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“</a:t>
            </a: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La R ocurre para corregir fallas de mercado pero es posteriormente mal administrada o mal aplicada por el regulador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hipótesis en vez de generarla: por que es mal administrada por el regulad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un es inconsistente con evidencia de R en mercados sin fallas de merc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2. Teoría de la Captur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ocurre en respuesta a una solicitud de la industria como resultado d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legis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“algún” motivo, la autoridad es capturada por la industr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mplicanc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umenta utilidades de la industr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no promueve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 la Captura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Incompleta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o se produce la captu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que captura la industria y no los consumidor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el resultado (R pro-productor), no lo gener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 veces pro-productor, a veces pro-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 básic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curso básico del Estado: Poder coerci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nterés pueden convencer al Estado de usar su poder coercitivo de modo que los favorez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gentes son racional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igen acciones que maximizan su utilid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to aplica tanto a nivel de regulador como de regulado (c/u tiene su propia función objetivo que maximiza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nfoqu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Stigler / Peltzma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gislador quiere maximizar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Becke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petencia entre grupos de interés determina el resultado de la 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osn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696464"/>
                </a:solidFill>
                <a:latin typeface="Franklin Gothic Book"/>
              </a:rPr>
              <a:t>Enfoque 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R se provee en respuesta 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demandas de grupos de interé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que actúan con el objetivo d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mejorar sus condiciones económic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redistribuye riquez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(tb otras cosas, pero esto es lo relevante para 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legisladores quieren </a:t>
            </a:r>
            <a:r>
              <a:rPr b="0" i="1" lang="es-CL" sz="2400" spc="-1" strike="noStrike">
                <a:solidFill>
                  <a:srgbClr val="742217"/>
                </a:solidFill>
                <a:latin typeface="Perpetua"/>
              </a:rPr>
              <a:t>mantenerse en el pode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buscan max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grupos de interés compiten entre si en busca de legislación favorable, a cambio de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egisl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638680" y="3352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rupos de inte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2819520" y="22860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3048120" y="41148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048120" y="1828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 favor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0481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7620120" y="2971800"/>
            <a:ext cx="838080" cy="198108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upos de interés más activos en pedir R son aquel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Beneficio per cápita es el que induce a participar e inverti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beneficio, más dispuestos a invertir en conseguir apoyo político (votos y $); menos free rid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ás efectivos en organizar apoyo polític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lebiscito Vitacura / Elecciones parlamentar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gulación estará sesgada en beneficio de grupos de interé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8080" indent="-20772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La R tiende a beneficiar a grupos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pequeño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con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fuertes preferencia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(sobre el resultado de la R) a costa de grandes grupos con preferencias mas débi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endemos por que usualmente R favorece al productor, pero permite que también proteja al 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21 CuadroTexto"/>
          <p:cNvSpPr/>
          <p:nvPr/>
        </p:nvSpPr>
        <p:spPr>
          <a:xfrm>
            <a:off x="990720" y="50292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Industrias que mas ganan con R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competitivas (gana produ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monopólicas (gana consumid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Beck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mpetencia entre grupos de interés es lo que determina el resultado de la 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 relevante es la presión relativa que ejercen los grup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ransferencia de Riqueza = Influencia (Presión 1, Presión 2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 depende de P-i , costo de ejercer y beneficio esper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: Juego con Complementos estratégic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considera función objetivo del regulad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ultado importante: Políticas que aumentan bienestar tienen mayor probabilidad de ser implementad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a justificación teórica a NPT (pero Becker NO plantea que R solo responde a fallas de mercad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Posn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permite al gobierno lograr objetivos redistributiv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bsidios cruzad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sistente con Becker (subsidios cruzados pueden ser explicados como el resultado de la competencia entre grupos de inter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Qué sectores esperar que se regule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 </a:t>
            </a: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é peticiones acceder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ién favorecerá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1066680" y="51055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b2d1f"/>
                </a:solidFill>
                <a:latin typeface="Perpetua"/>
              </a:rPr>
              <a:t>TER es una contribución importante a la comprensión de la intervención del Gobierno pero aun existe evidencia empírica inconsistente con 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9 CuadroTexto"/>
          <p:cNvSpPr/>
          <p:nvPr/>
        </p:nvSpPr>
        <p:spPr>
          <a:xfrm>
            <a:off x="762120" y="50292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gislador tiene multiples objetivos (ideologi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nitoreo imperfecto de lo que hace el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lementacion de la R a veces difiere de lo que dice la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upos de interes no controlan totalmente al regulador /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Comentarios Fina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estas elecciones, a quienes deberían beneficiar las propuestas electoral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udiantes / Profesore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edio ambientalista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indígen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propuestas presidenciales son mas “importantes”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 este un buen momento para hacer reform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Agend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que consiste la Regulación?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ridades empíricas en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que existe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e le pedimos  a la teoría de la regulació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sibles explicacion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l Interés Publ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esperamos que pase con la regulación enton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s mucho más que fijar preci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cluye definición de estándares y en general definición de “reglas del juego” que deben cumplir las empres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FP: reglas de inversión, estándares de entrega de inform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léctrico: definición de estándares de calidad (tensión, voltaj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Bancos: requisitos de capital mínim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atuto do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conómica / Regulación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orrelación entre R y fallas de mercado es débi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 no es estable en el tiempo; “Olas Regulatorias”. Ejemp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EUU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Ferrocarriles R 1887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en 198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Aerolíneas: R 1938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197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ransmisión eléctrica: DR 198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R 200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elecomunicaciones (larga distancia / telefonía fija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Sector financiero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Hay grupos de interés que se benefician de la 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A veces pro-productor ; a veces pro-consumidor ; a veces pequeño productor / gran product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istencia de subsidios cru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ambios en el énfasis de la regulació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- Regulación económica / + Regulación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le pedimos a la Teoría de la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Teoría de la Regulación debe cumplir al menos los siguientes requisit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sistencia con evidencia empír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puestos de comportamiento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Hipótesis testeable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0:20Z</dcterms:created>
  <dc:creator>Maria-Soledad Arellano</dc:creator>
  <dc:description/>
  <dc:language>en-US</dc:language>
  <cp:lastModifiedBy>Auditorio</cp:lastModifiedBy>
  <dcterms:modified xsi:type="dcterms:W3CDTF">2009-09-21T17:30:45Z</dcterms:modified>
  <cp:revision>75</cp:revision>
  <dc:subject/>
  <dc:title>FUNDAMENTOS DE ORGANIZACION INDUSTRIAL</dc:title>
</cp:coreProperties>
</file>