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A4B-5FE2-4AC3-916C-DE541A78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668-220D-4BED-AFA9-457715FD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5FC-B86E-49EB-99FF-D53635B1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A77-EBB5-4CA6-A30C-924CCE52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9A93-F427-4C69-AF81-A11E789B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CBA7-1062-4A6E-AFEB-575CEEB2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FE3D-21D1-401E-8D04-7F8D3F7E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7870-D470-488E-9259-87E62BE1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C65D-BDCE-43B1-8BE7-C9A50BF6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3F8D-83A3-4D23-82B8-0018722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4182-B533-4928-89A3-E6FF3809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C58-0114-4C71-9BA1-51AD1A90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EADE-0734-491C-BBE2-FB3168DE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2254-426E-4E15-946E-105AB879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1EB2-89D7-4427-8A13-D50A34B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1CD3-956E-4DD2-8ABD-96B83D2D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1F62-2123-4620-9094-FEB0455B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7629-31D0-47F7-811F-16BA10EE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AACB-B075-4516-B5FB-E2A65E5F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8414-9227-4175-BF81-19A3A011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8114A-DB58-4A9C-BE1B-94334442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7775-5563-4E45-A726-D37E3633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7A6-D968-404F-ADFB-6875A7AF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F582-C99E-46A5-888A-F9D30A16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5E53-9840-4627-B5FA-986FABE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3E63-9744-4AB1-B0ED-6C8691CE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A852-EE40-4B3C-A30E-0D53E2AA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CC48-5392-4D46-AB96-34DDE844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006E-0D6A-4D17-BFC0-DD1B5D38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FD56-E8C4-4361-8C5C-3904C5C7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CE7D-3545-417D-9898-B64D7840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2883-0FC7-4C49-AE8D-99E3F68C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000C5-E21B-41EC-B27D-D9888013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7DB-9979-4AD5-AB93-173E2D4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4A819-4750-47D8-992B-E76CC081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D78B-B171-4CC8-BAFE-46F9E35E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D4D52-0C91-456C-8DCF-AC201D39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D2B9-41B7-4F18-B701-5A7702A5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45D8B-5224-4AC3-BFF0-37F97BA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53BEE-158E-4B51-907A-29002E3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922B-C4DC-4C2A-9213-F276545F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18CE9-FEB3-477E-A4B2-7B97038D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ECC9-385E-47CF-90D9-6B2E5F91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89C6-B7B1-4B8F-AD80-87BB7E23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E36-6326-4D56-81DA-61BE3CC5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C4EE-8410-4B16-8FCB-F2F0A040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FC708-1610-44E9-A893-B950DF8E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67C4C-F060-4C06-9F8C-1566EAEA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635FA-6207-4DD6-89A9-0A9ACEA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356CB-6F59-401A-BE76-2C4AD5B9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3A447-4985-47E1-BB9E-D506F351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DF3EF-9C21-490C-BEE3-5E82ED9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3465-C027-4451-9D03-1537C4E9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A1984-0CE7-4C17-83D6-58AD2B3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05FE-2DC3-4A82-8183-9BA37DD0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EC6-747B-4F2C-B403-B95AA0A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129C-E6B6-4EE3-9309-F372777E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B2A-A7CC-4554-B0B3-AF6A4FE7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C55-586F-4D40-923D-00A9DE3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D9B-A24E-4F90-B358-B86713A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2901-5FDA-4631-8A61-534AF917F9DA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7BEE-391D-452A-BBA1-E72F714444F4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6FC2-2107-49F4-A4E1-811A54A7A8D8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B6CC-6940-41E1-AF75-F8025E7FF9AE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24B2-7C3D-4DF2-81CF-F2C82E6A6EAE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ledad.arellano@uai.c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14040" y="4876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M. Soledad Arellan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scuela de Gobierno, UA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soledad.arellano@uai.c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4000" spc="-1" strike="noStrike">
                <a:solidFill>
                  <a:srgbClr val="ffffff"/>
                </a:solidFill>
                <a:latin typeface="Franklin Gothic Book"/>
              </a:rPr>
              <a:t>Por que existe la Regulación?</a:t>
            </a:r>
            <a:br>
              <a:rPr sz="48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Por qué existe la regulació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del Interés Publico (NP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de la Captur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Económica de la Regul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Teoría del Interés Públ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66280" y="17521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R existe porque hay ocasiones en las que la competencia sin restricciones no funciona bi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es el resultado de la demanda pública por corregir una falla de mercado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debiera entonces </a:t>
            </a:r>
            <a:r>
              <a:rPr b="1" i="1" lang="es-CL" sz="2400" spc="-1" strike="noStrike">
                <a:solidFill>
                  <a:srgbClr val="000000"/>
                </a:solidFill>
                <a:latin typeface="Perpetua"/>
              </a:rPr>
              <a:t>aumentar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1. Teoría del Interés Públ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7521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R existe porque hay ocasiones en las que la competencia sin restricciones no funciona bi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es el resultado de la demanda pública por corregir una falla de mercado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debiera entonces </a:t>
            </a:r>
            <a:r>
              <a:rPr b="1" i="1" lang="es-CL" sz="2400" spc="-1" strike="noStrike">
                <a:solidFill>
                  <a:srgbClr val="000000"/>
                </a:solidFill>
                <a:latin typeface="Perpetua"/>
              </a:rPr>
              <a:t>aumentar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3520" y="4495680"/>
            <a:ext cx="3504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ando se debiera regular (cuando hay falla de mercad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álisis Norm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638680" y="4572000"/>
            <a:ext cx="243864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ando se reg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álisis Posi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4495680" y="45720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8"/>
          <p:cNvSpPr/>
          <p:nvPr/>
        </p:nvSpPr>
        <p:spPr>
          <a:xfrm rot="5400000">
            <a:off x="1942560" y="430524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9"/>
          <p:cNvSpPr/>
          <p:nvPr/>
        </p:nvSpPr>
        <p:spPr>
          <a:xfrm rot="5400000">
            <a:off x="6743160" y="400032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l Interés Público: Comentarios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Teoría Incomple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ómo pide la sociedad que se regul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ómo y por que la potencial ganancia social motiva a los legisladores a tomar la decisión correct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No genera una predicción, la asu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ocurre para corregir una falla de mercado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La evidencia no la apoy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rrelación entre R y fallas de mercado es débil e inestable en el tiemp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l Interés Público: Reform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742217"/>
                </a:solidFill>
                <a:latin typeface="Perpetua"/>
              </a:rPr>
              <a:t>“</a:t>
            </a:r>
            <a:r>
              <a:rPr b="1" lang="es-CL" sz="2600" spc="-1" strike="noStrike">
                <a:solidFill>
                  <a:srgbClr val="742217"/>
                </a:solidFill>
                <a:latin typeface="Perpetua"/>
              </a:rPr>
              <a:t>La R ocurre para corregir fallas de mercado pero es posteriormente mal administrada o mal aplicada por el regulador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in embarg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sume hipótesis en vez de generarla: por que es mal administrada por el regulador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un es inconsistente con evidencia de R en mercados sin fallas de merca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2. Teoría de la Captur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ocurre en respuesta a una solicitud de la industria como resultado d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industria 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captura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al </a:t>
            </a:r>
            <a:r>
              <a:rPr b="0" i="1" lang="es-CL" sz="2400" spc="-1" strike="noStrike">
                <a:solidFill>
                  <a:srgbClr val="000000"/>
                </a:solidFill>
                <a:latin typeface="Perpetua"/>
              </a:rPr>
              <a:t>legislad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industria 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captura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al </a:t>
            </a:r>
            <a:r>
              <a:rPr b="0" i="1" lang="es-CL" sz="2400" spc="-1" strike="noStrike">
                <a:solidFill>
                  <a:srgbClr val="000000"/>
                </a:solidFill>
                <a:latin typeface="Perpetua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“algún” motivo, la autoridad es capturada por la industri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mplicanci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aumenta utilidades de la industr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no promueve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 la Captura: Comentarios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Incompleta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mo se produce la captu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r que captura la industria y no los consumidor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sume el resultado (R pro-productor), no lo gener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evidencia no la apoy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a veces pro-productor, a veces pro-consumid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3. 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 básica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curso básico del Estado: Poder coercitiv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de interés pueden convencer al Estado de usar su poder coercitivo de modo que los favorez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gentes son racionale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igen acciones que maximizan su utilida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to aplica tanto a nivel de regulador como de regulado (c/u tiene su propia función objetivo que maximiza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3. 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Enfoqu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Stigler / Peltzma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egislador quiere maximizar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Becker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mpetencia entre grupos de interés determina el resultado de la 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osn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obierno quiere redistribuir riquez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696464"/>
                </a:solidFill>
                <a:latin typeface="Franklin Gothic Book"/>
              </a:rPr>
              <a:t>Enfoque 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R se provee en respuesta 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demandas de grupos de interés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que actúan con el objetivo de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mejorar sus condiciones económica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Motiv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cusión actual en torno a competencia / regulació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gramas presidencia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emandas de grupos de interés de más / menos regul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Medio ambientalistas, profesores, sindicatos, empresarios, agricultores, grupos indígenas, 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 redistribuye riquez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(tb otras cosas, pero esto es lo relevante para 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s legisladores quieren </a:t>
            </a:r>
            <a:r>
              <a:rPr b="0" i="1" lang="es-CL" sz="2400" spc="-1" strike="noStrike">
                <a:solidFill>
                  <a:srgbClr val="742217"/>
                </a:solidFill>
                <a:latin typeface="Perpetua"/>
              </a:rPr>
              <a:t>mantenerse en el pode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buscan max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s grupos de interés compiten entre si en busca de legislación favorable, a cambio de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Legisl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638680" y="3352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Grupos de inte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2819520" y="2286000"/>
            <a:ext cx="2286000" cy="12952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8"/>
          <p:cNvSpPr/>
          <p:nvPr/>
        </p:nvSpPr>
        <p:spPr>
          <a:xfrm rot="10800000">
            <a:off x="3048120" y="4114800"/>
            <a:ext cx="2286000" cy="12952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3048120" y="1828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R favor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0481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Vo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11"/>
          <p:cNvSpPr/>
          <p:nvPr/>
        </p:nvSpPr>
        <p:spPr>
          <a:xfrm>
            <a:off x="7620120" y="2971800"/>
            <a:ext cx="838080" cy="1981080"/>
          </a:xfrm>
          <a:custGeom>
            <a:avLst/>
            <a:gdLst>
              <a:gd name="textAreaLeft" fmla="*/ 112320 w 838080"/>
              <a:gd name="textAreaRight" fmla="*/ 725760 w 83808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Grupos de interés más activos en pedir R son aquell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yos integrantes ganan más en términos individua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Beneficio per cápita es el que induce a participar e invertir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 mayor beneficio, más dispuestos a invertir en conseguir apoyo político (votos y $); menos free rid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de i mejor organi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ás efectivos en organizar apoyo polític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lebiscito Vitacura / Elecciones parlamentari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gulación estará sesgada en beneficio de grupos de interé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uyos integrantes ganan más en términos individual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Grupos de i mejor organizado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8080" indent="-20772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La R tiende a beneficiar a grupos </a:t>
            </a:r>
            <a:r>
              <a:rPr b="1" lang="es-CL" sz="2400" spc="-1" strike="noStrike">
                <a:solidFill>
                  <a:srgbClr val="742217"/>
                </a:solidFill>
                <a:latin typeface="Perpetua"/>
              </a:rPr>
              <a:t>pequeños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 con </a:t>
            </a:r>
            <a:r>
              <a:rPr b="1" lang="es-CL" sz="2400" spc="-1" strike="noStrike">
                <a:solidFill>
                  <a:srgbClr val="742217"/>
                </a:solidFill>
                <a:latin typeface="Perpetua"/>
              </a:rPr>
              <a:t>fuertes preferencias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 (sobre el resultado de la R) a costa de grandes grupos con preferencias mas débil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endemos por que usualmente R favorece al productor, pero permite que también proteja al consumid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20 CuadroTexto"/>
          <p:cNvSpPr/>
          <p:nvPr/>
        </p:nvSpPr>
        <p:spPr>
          <a:xfrm>
            <a:off x="6095880" y="259092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tar qu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S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~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es poco probable que se reg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20 CuadroTexto"/>
          <p:cNvSpPr/>
          <p:nvPr/>
        </p:nvSpPr>
        <p:spPr>
          <a:xfrm>
            <a:off x="6095880" y="259092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tar qu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S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~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es poco probable que se reg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21 CuadroTexto"/>
          <p:cNvSpPr/>
          <p:nvPr/>
        </p:nvSpPr>
        <p:spPr>
          <a:xfrm>
            <a:off x="990720" y="502920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Industrias que mas ganan con R 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- Relativamente competitivas (gana produc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- Relativamente monopólicas (gana consumid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Otros Enfoques: Becker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mpetencia entre grupos de interés es lo que determina el resultado de la 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 relevante es la presión relativa que ejercen los grup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ransferencia de Riqueza = Influencia (Presión 1, Presión 2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ión ejercida depende de P-i , costo de ejercer y beneficio espera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ión ejercida: Juego con Complementos estratégico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o considera función objetivo del regulad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sultado importante: Políticas que aumentan bienestar tienen mayor probabilidad de ser implementad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a justificación teórica a NPT (pero Becker NO plantea que R solo responde a fallas de mercad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Otros Enfoques: Posner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obierno quiere redistribuir riquez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 permite al gobierno lograr objetivos redistributiv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19240" indent="-5716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ubsidios cruzado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19240" indent="-5716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sistente con Becker (subsidios cruzados pueden ser explicados como el resultado de la competencia entre grupos de inter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incipales Resultad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ndencia a regular a favor de grupos pequeños con fuertes preferenci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consumidores de algún modo restringen a la autoridad (P &lt; P</a:t>
            </a:r>
            <a:r>
              <a:rPr b="0" lang="es-CL" sz="26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mas frecuente en industrias muy competitivas o con muchos problemas de poder de merca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alla de mercad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R mas proba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Motiv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cusión actual en torno a competencia / regulació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gramas presidencia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emandas de grupos de interés de más / menos regul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Medio ambientalistas, profesores, sindicatos, empresarios, agricultores, grupos indígenas, 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Qué sectores esperar que se regule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 </a:t>
            </a: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A qué peticiones acceder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A quién favorecerá la regulació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incipales Resultad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ndencia a regular a favor de grupos pequeños con fuertes preferenci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consumidores de algún modo restringen a la autoridad (P &lt; P</a:t>
            </a:r>
            <a:r>
              <a:rPr b="0" lang="es-CL" sz="26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mas frecuente en industrias muy competitivas o con muchos problemas de poder de merca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alla de mercad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R mas proba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3 CuadroTexto"/>
          <p:cNvSpPr/>
          <p:nvPr/>
        </p:nvSpPr>
        <p:spPr>
          <a:xfrm>
            <a:off x="1066680" y="51055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b2d1f"/>
                </a:solidFill>
                <a:latin typeface="Perpetua"/>
              </a:rPr>
              <a:t>TER es una contribución importante a la comprensión de la intervención del Gobierno pero aun existe evidencia empírica inconsistente con 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5 CuadroTexto"/>
          <p:cNvSpPr/>
          <p:nvPr/>
        </p:nvSpPr>
        <p:spPr>
          <a:xfrm>
            <a:off x="6248520" y="3809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gulador hace lo que dice la 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8 Flecha arriba"/>
          <p:cNvSpPr/>
          <p:nvPr/>
        </p:nvSpPr>
        <p:spPr>
          <a:xfrm>
            <a:off x="701028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5 CuadroTexto"/>
          <p:cNvSpPr/>
          <p:nvPr/>
        </p:nvSpPr>
        <p:spPr>
          <a:xfrm>
            <a:off x="6248520" y="3809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gulador hace lo que dice la 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8 Flecha arriba"/>
          <p:cNvSpPr/>
          <p:nvPr/>
        </p:nvSpPr>
        <p:spPr>
          <a:xfrm>
            <a:off x="701028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9 CuadroTexto"/>
          <p:cNvSpPr/>
          <p:nvPr/>
        </p:nvSpPr>
        <p:spPr>
          <a:xfrm>
            <a:off x="762120" y="5029200"/>
            <a:ext cx="777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 embarg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egislador tiene multiples objetivos (ideologi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nitoreo imperfecto de lo que hace el legisl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lementacion de la R a veces difiere de lo que dice la 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rupos de interes no controlan totalmente al regulador / legisl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Comentarios Fina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 estas elecciones, a quienes deberían beneficiar las propuestas electoral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ducación: Estudiantes / Profesores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edio ambientalistas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indígen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Que propuestas presidenciales son mas “importantes”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 este un buen momento para hacer reform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Agend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 que consiste la Regulación?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ridades empíricas en Regul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que existe la regulació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Que le pedimos  a la teoría de la regulación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sibles explicacion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del Interés Public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de la Captur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Económica de la Regul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Que esperamos que pase con la regulación entonc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es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es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ción es mucho más que fijar preci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ncluye definición de estándares y en general definición de “reglas del juego” que deben cumplir las empres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FP: reglas de inversión, estándares de entrega de inform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léctrico: definición de estándares de calidad (tensión, voltaj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Bancos: requisitos de capital mínim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ducación: Estatuto doc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ción económica / Regulación Soc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Evidencia Empírica de Regul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orrelación entre R y fallas de mercado es débil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R no es estable en el tiempo; “Olas Regulatorias”. Ejempl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EUU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Ferrocarriles R 1887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DR en 198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Aerolíneas: R 1938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DR 197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Transmisión eléctrica: DR 1982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R 200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Telecomunicaciones (larga distancia / telefonía fija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Sector financiero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Evidencia Empírica de Regul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Hay grupos de interés que se benefician de la 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A veces pro-productor ; a veces pro-consumidor ; a veces pequeño productor / gran product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istencia de subsidios cru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ambios en el énfasis de la regulació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- Regulación económica / + Regulación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le pedimos a la Teoría de la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Teoría de la Regulación debe cumplir al menos los siguientes requisit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nsistencia con evidencia empír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étodo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upuestos de comportamiento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Hipótesis testeables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4:00:20Z</dcterms:created>
  <dc:creator>Maria-Soledad Arellano</dc:creator>
  <dc:description/>
  <dc:language>en-US</dc:language>
  <cp:lastModifiedBy>Auditorio</cp:lastModifiedBy>
  <dcterms:modified xsi:type="dcterms:W3CDTF">2009-09-21T17:30:45Z</dcterms:modified>
  <cp:revision>75</cp:revision>
  <dc:subject/>
  <dc:title>FUNDAMENTOS DE ORGANIZACION INDUSTRIAL</dc:title>
</cp:coreProperties>
</file>