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BBF-E68C-4CF9-A6A7-78DEED63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07F-D78D-457D-B7A9-0CC8149D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1FA-25C3-4F81-8C2C-EF0486AA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471-1D85-4DA8-A4C2-C6A90861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71E-F384-461B-939E-CB75F557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450-C93E-428B-9D1C-01728765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DAB-2066-491B-8DBE-B796AFAB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9E9-D725-46E6-90C4-CB8A0AA0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A4B-F258-4DA8-8A78-4495C16F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8AE-FAB2-4D83-96F1-9F64047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A38-265F-436D-946B-7595F6E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ADA-BDA7-4AB1-B1EA-D710EC6F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A155-2067-44A0-9FB9-78CBA8226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aalvear</cp:lastModifiedBy>
  <dcterms:modified xsi:type="dcterms:W3CDTF">2009-09-07T15:10:23Z</dcterms:modified>
  <cp:revision>39</cp:revision>
  <dc:subject/>
  <dc:title>Diapositiva 1</dc:title>
</cp:coreProperties>
</file>