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9F5-D74D-4C6F-AA6E-8105CF52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697-D62A-4169-8C3C-FE220FE5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AD1-9EEF-41A0-9F29-B03CE408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52E-1A11-4589-A1D2-89B0B5E3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54A-923D-4222-8AD8-814AB6C3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802-80CD-4455-BB9E-57748328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208-3A05-4101-AD13-2B635AC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BA1-D254-494D-A102-763D82BA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F7B-4F6C-4FFF-9C9D-187C017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B55-8C14-48FA-9B91-EA12A3F8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74C-D90F-4FC1-A163-9C2C3361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6D3-2605-4330-A435-C5C1B557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A954-8FB5-4ABE-82F8-4591EBEA6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aalvear</cp:lastModifiedBy>
  <dcterms:modified xsi:type="dcterms:W3CDTF">2009-09-07T15:10:23Z</dcterms:modified>
  <cp:revision>39</cp:revision>
  <dc:subject/>
  <dc:title>Diapositiva 1</dc:title>
</cp:coreProperties>
</file>