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FDAE-158A-4829-B864-526AB21A2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CC25-BE87-4867-88A4-6FEE279DD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0EBE-8DC3-448B-BD31-07E9B0593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D4FE-4F00-40BB-A0DB-B1A37B7D6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20E5-EBBA-4E42-9845-21BC8E0D8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6D79-6AA3-4ACC-A271-1C3134EAA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EEBA-5698-4511-BB94-2654F074F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ABFA-A32D-4FAE-B4EB-B75915E72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9C9A-CF3C-4845-90C2-612512374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DD54-7EB0-46D8-996E-00494836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2B76-5BB3-4657-85CF-CFD50DA8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F3A4-67E6-4265-B83D-FF8856C4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64209-6C47-43B4-AA8F-6A2173D93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390760" cy="1533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5184720" cy="194472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4500720" y="4149720"/>
            <a:ext cx="3887640" cy="2436840"/>
            <a:chOff x="4500720" y="4149720"/>
            <a:chExt cx="3887640" cy="243684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4500720" y="4149720"/>
              <a:ext cx="3887640" cy="24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7380360" y="6093000"/>
              <a:ext cx="1008000" cy="36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348000" y="260280"/>
            <a:ext cx="543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000000"/>
                </a:solidFill>
                <a:uFillTx/>
                <a:latin typeface="Arial"/>
              </a:rPr>
              <a:t>Del Campamento al Barrio:  </a:t>
            </a:r>
            <a:r>
              <a:rPr b="0" lang="es-MX" sz="3200" spc="-1" strike="noStrike" u="sng">
                <a:solidFill>
                  <a:srgbClr val="ff0000"/>
                </a:solidFill>
                <a:uFillTx/>
                <a:latin typeface="Arial"/>
              </a:rPr>
              <a:t>La Transformación de la politica de vivi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82560" y="1460520"/>
            <a:ext cx="7093080" cy="58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ntecedent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Nuevo énfasis de la Nueva Política Habitacional a partir del 2005: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clusión de la participación de las famil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 –focalización del gasto en vivienda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Énfasis en programas sin deudas y fondos concurs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ubsidios que premian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localización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; mejor construcción y   mayor amplitu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clusion de aportes de priv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obladores más informados y participativos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Ong: Mayor capacidad de mediación y de propuesta en las políticas públ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cademia: Intención a investigar y desarrollar programas para las personas más excluidas del paí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0200" y="712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68360" y="476280"/>
            <a:ext cx="4537080" cy="106884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Antecedentes de la Políticas Habitacion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94920" y="270828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Renca</a:t>
            </a:r>
            <a:r>
              <a:rPr b="0" lang="es-ES_tradnl" sz="2400" spc="-1" strike="noStrike">
                <a:solidFill>
                  <a:srgbClr val="990000"/>
                </a:solidFill>
                <a:latin typeface="Arial"/>
              </a:rPr>
              <a:t>, </a:t>
            </a: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2002</a:t>
            </a:r>
            <a:r>
              <a:rPr b="0" lang="es-ES_tradnl" sz="2400" spc="-1" strike="noStrike">
                <a:solidFill>
                  <a:srgbClr val="990000"/>
                </a:solidFill>
                <a:latin typeface="Arial"/>
              </a:rPr>
              <a:t>, </a:t>
            </a: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170 familia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 5 campamentos, cansadas de las condiciones en las cuales estaban viviendo, se organizan para empezar a luchar para mejorar su calidad de vi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4484520"/>
            <a:ext cx="3382920" cy="23734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148360" y="333360"/>
            <a:ext cx="3598920" cy="23288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6516720" y="4508640"/>
            <a:ext cx="2627280" cy="2349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3276720" y="4508640"/>
            <a:ext cx="3240000" cy="23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170 famili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e no estaban dispuestas a seguir viviendo en las condiciones en las que estaban, se organizan en una coordinadora que empieza a luchar por un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sueñ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.  el de una 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vivienda dign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í, 5 campamentos de Renca empiezan a construir la siguiente histori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00"/>
                </a:solidFill>
                <a:latin typeface="Arial"/>
              </a:rPr>
              <a:t>Año 200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Alianza entre la oficina de arquitectura Elemental y UTPCH para desarrollar el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oyecto arquitectónic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l NUEVO BAR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 Empiezan las mesas de trabajo con las familias para trabajar en los temas técnicos y so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643280" y="1700280"/>
            <a:ext cx="4264200" cy="3781440"/>
            <a:chOff x="4643280" y="1700280"/>
            <a:chExt cx="4264200" cy="3781440"/>
          </a:xfrm>
        </p:grpSpPr>
        <p:pic>
          <p:nvPicPr>
            <p:cNvPr id="100" name="" descr=""/>
            <p:cNvPicPr/>
            <p:nvPr/>
          </p:nvPicPr>
          <p:blipFill>
            <a:blip r:embed="rId1"/>
            <a:stretch/>
          </p:blipFill>
          <p:spPr>
            <a:xfrm>
              <a:off x="4643280" y="1700280"/>
              <a:ext cx="2122560" cy="218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6730920" y="1987920"/>
              <a:ext cx="2176560" cy="184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3"/>
            <a:stretch/>
          </p:blipFill>
          <p:spPr>
            <a:xfrm>
              <a:off x="4643280" y="3861000"/>
              <a:ext cx="2087640" cy="16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4"/>
            <a:stretch/>
          </p:blipFill>
          <p:spPr>
            <a:xfrm>
              <a:off x="6730920" y="3861000"/>
              <a:ext cx="2162160" cy="162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"/>
          <p:cNvSpPr/>
          <p:nvPr/>
        </p:nvSpPr>
        <p:spPr>
          <a:xfrm>
            <a:off x="4356000" y="765000"/>
            <a:ext cx="4537080" cy="58140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La histor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971640" y="1557360"/>
            <a:ext cx="66960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Año 2004: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ordinadora logra comprar el </a:t>
            </a:r>
            <a:r>
              <a:rPr b="1" lang="es-ES_tradnl" sz="2000" spc="-1" strike="noStrike">
                <a:solidFill>
                  <a:srgbClr val="990000"/>
                </a:solidFill>
                <a:latin typeface="Arial"/>
              </a:rPr>
              <a:t>terren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por $100.000.000, pagado por el ahorro de 20 UF de cada familia y con el apoyo de tercer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postula y obtiene el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990000"/>
                </a:solidFill>
                <a:latin typeface="Arial"/>
              </a:rPr>
              <a:t>subsidi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al Fondo Solidario de Vivienda (FSV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79280" y="4702320"/>
            <a:ext cx="8569080" cy="2155680"/>
            <a:chOff x="179280" y="4702320"/>
            <a:chExt cx="8569080" cy="2155680"/>
          </a:xfrm>
        </p:grpSpPr>
        <p:pic>
          <p:nvPicPr>
            <p:cNvPr id="107" name="" descr=""/>
            <p:cNvPicPr/>
            <p:nvPr/>
          </p:nvPicPr>
          <p:blipFill>
            <a:blip r:embed="rId1"/>
            <a:stretch/>
          </p:blipFill>
          <p:spPr>
            <a:xfrm>
              <a:off x="179280" y="4751640"/>
              <a:ext cx="2808360" cy="21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2"/>
            <a:stretch/>
          </p:blipFill>
          <p:spPr>
            <a:xfrm>
              <a:off x="2987640" y="4702320"/>
              <a:ext cx="3241440" cy="215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3"/>
            <a:stretch/>
          </p:blipFill>
          <p:spPr>
            <a:xfrm>
              <a:off x="6229080" y="4751640"/>
              <a:ext cx="2519280" cy="210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4000" y="1773360"/>
            <a:ext cx="8208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Año 2005</a:t>
            </a:r>
            <a:r>
              <a:rPr b="0" lang="es-ES_tradnl" sz="24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990000"/>
                </a:solidFill>
                <a:latin typeface="Arial"/>
              </a:rPr>
              <a:t>Se obtiene el financiamiento para el Centro Comunitario. Que contempla jardín infantil, guardería, sede social, biblioteca, box médico y oficinas entre otras dependenc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39640" y="4941720"/>
            <a:ext cx="7993080" cy="1403280"/>
            <a:chOff x="539640" y="4941720"/>
            <a:chExt cx="7993080" cy="140328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4573440" y="4941720"/>
              <a:ext cx="1871640" cy="14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2"/>
            <a:stretch/>
          </p:blipFill>
          <p:spPr>
            <a:xfrm>
              <a:off x="6445080" y="4941720"/>
              <a:ext cx="2087640" cy="138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3"/>
            <a:stretch/>
          </p:blipFill>
          <p:spPr>
            <a:xfrm>
              <a:off x="539640" y="4941720"/>
              <a:ext cx="1800000" cy="13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4"/>
            <a:stretch/>
          </p:blipFill>
          <p:spPr>
            <a:xfrm>
              <a:off x="2339640" y="4941720"/>
              <a:ext cx="2232000" cy="1382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539280" y="1699920"/>
            <a:ext cx="807588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00"/>
                </a:solidFill>
                <a:latin typeface="Arial"/>
              </a:rPr>
              <a:t>Año 2006</a:t>
            </a:r>
            <a:r>
              <a:rPr b="0" lang="es-ES_tradnl" sz="2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icio de trabajos de mejoramiento de terreno y relleno estructu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icio de las obras de construcción del NUEVO BARRIO: Se realiza la Primera Piedra. Se comienzan a construir de las viviendas y del centro comunita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crean las comisiones de Salud; Educación, Espacios Públicos, Plan de Ahorro,  Deporte y Cultu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50920" y="5383080"/>
            <a:ext cx="7993080" cy="1474920"/>
            <a:chOff x="250920" y="5383080"/>
            <a:chExt cx="7993080" cy="147492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284720" y="5454720"/>
              <a:ext cx="1871640" cy="14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6156360" y="5383080"/>
              <a:ext cx="2087640" cy="138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3"/>
            <a:stretch/>
          </p:blipFill>
          <p:spPr>
            <a:xfrm>
              <a:off x="250920" y="5454720"/>
              <a:ext cx="1800000" cy="13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4"/>
            <a:stretch/>
          </p:blipFill>
          <p:spPr>
            <a:xfrm>
              <a:off x="2050920" y="5454720"/>
              <a:ext cx="2232000" cy="1382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2400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Año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170 familias se distribuyen en los 7 pasaj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11360" indent="-174600" algn="just">
              <a:lnSpc>
                <a:spcPct val="15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e elige una directiva por pasa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11360" indent="-174600" algn="just">
              <a:lnSpc>
                <a:spcPct val="15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ada pasaje tiene representantes de las comis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11360" indent="-174600" algn="just">
              <a:lnSpc>
                <a:spcPct val="15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postula al subsidio de ampliaciones para poder entregar las casas en condiciones habitables.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11360" indent="0" algn="just">
              <a:lnSpc>
                <a:spcPct val="15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mienza a funcionar el Centro Comuni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0" y="5445000"/>
            <a:ext cx="9143640" cy="1413000"/>
            <a:chOff x="0" y="5445000"/>
            <a:chExt cx="9143640" cy="1413000"/>
          </a:xfrm>
        </p:grpSpPr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0" y="5445000"/>
              <a:ext cx="3333240" cy="14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2"/>
            <a:stretch/>
          </p:blipFill>
          <p:spPr>
            <a:xfrm>
              <a:off x="3331440" y="5445000"/>
              <a:ext cx="2401920" cy="138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3"/>
            <a:stretch/>
          </p:blipFill>
          <p:spPr>
            <a:xfrm>
              <a:off x="5733720" y="5445000"/>
              <a:ext cx="3409920" cy="1413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0000"/>
                </a:solidFill>
                <a:latin typeface="Arial"/>
              </a:rPr>
              <a:t>Año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s 170 familias inauguran su condomin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539640" y="4653000"/>
            <a:ext cx="8135640" cy="1852560"/>
            <a:chOff x="539640" y="4653000"/>
            <a:chExt cx="8135640" cy="185256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539640" y="4653000"/>
              <a:ext cx="237636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2916000" y="4653000"/>
              <a:ext cx="2808360" cy="18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3"/>
            <a:stretch/>
          </p:blipFill>
          <p:spPr>
            <a:xfrm>
              <a:off x="5651280" y="4653000"/>
              <a:ext cx="3024000" cy="18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2195280" y="6092640"/>
              <a:ext cx="647640" cy="286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932000" y="6092640"/>
              <a:ext cx="647640" cy="286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883280" y="6092640"/>
              <a:ext cx="647640" cy="286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e crea la Corporación de Dirig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990000"/>
                </a:solidFill>
                <a:latin typeface="Arial"/>
              </a:rPr>
              <a:t>2006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Primera Reunión de 3 reg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990000"/>
                </a:solidFill>
                <a:latin typeface="Arial"/>
              </a:rPr>
              <a:t>2007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Creación de Estatutos y elección de Direc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990000"/>
                </a:solidFill>
                <a:latin typeface="Arial"/>
              </a:rPr>
              <a:t>2008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4to Encuentro Nacional, realización del primer seminario; diplomado y cursos de capacitación (salud y formación del dirigente); creación de mesas de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116000" y="5245200"/>
            <a:ext cx="3024360" cy="16128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292720" y="5294160"/>
            <a:ext cx="2449440" cy="15638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700360" y="404640"/>
            <a:ext cx="6119640" cy="106884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990000"/>
                </a:solidFill>
                <a:latin typeface="Arial"/>
                <a:ea typeface="Arial"/>
              </a:rPr>
              <a:t>Otra historia se escribe en forma parale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12000" y="4508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948360" y="4292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990000"/>
                </a:solidFill>
                <a:latin typeface="Arial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0800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835280" y="3068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5280" y="3645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5013360"/>
            <a:ext cx="9144000" cy="1844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467480" y="5688000"/>
            <a:ext cx="1676520" cy="1170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843280" y="0"/>
            <a:ext cx="501336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Hoy quedan más de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CL" sz="3600" spc="-1" strike="noStrike">
                <a:solidFill>
                  <a:srgbClr val="990000"/>
                </a:solidFill>
                <a:latin typeface="Arial"/>
                <a:ea typeface="Arial"/>
              </a:rPr>
              <a:t>28.000</a:t>
            </a:r>
            <a:r>
              <a:rPr b="1" lang="es-CL" sz="2400" spc="-1" strike="noStrike">
                <a:solidFill>
                  <a:srgbClr val="990000"/>
                </a:solidFill>
                <a:latin typeface="Arial"/>
                <a:ea typeface="Arial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familias viviendo en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CL" sz="3200" spc="-1" strike="noStrike">
                <a:solidFill>
                  <a:srgbClr val="990000"/>
                </a:solidFill>
                <a:latin typeface="Arial"/>
                <a:ea typeface="Arial"/>
              </a:rPr>
              <a:t>campamentos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en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867280" y="1523880"/>
            <a:ext cx="144792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Vivien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Educ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Ingre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Empl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Salu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Riesgo So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989000"/>
            <a:ext cx="3352680" cy="91692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Los campamentos no son solo un problema de </a:t>
            </a:r>
            <a:r>
              <a:rPr b="1" lang="es-CL" sz="1800" spc="-1" strike="noStrike">
                <a:solidFill>
                  <a:srgbClr val="990000"/>
                </a:solidFill>
                <a:latin typeface="Arial"/>
                <a:ea typeface="Arial"/>
              </a:rPr>
              <a:t>vivienda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467480" y="0"/>
            <a:ext cx="0" cy="685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352680"/>
            <a:ext cx="3352680" cy="91692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Los campamentos no es solo un problema de los </a:t>
            </a:r>
            <a:r>
              <a:rPr b="1" lang="es-CL" sz="1800" spc="-1" strike="noStrike">
                <a:solidFill>
                  <a:srgbClr val="990000"/>
                </a:solidFill>
                <a:latin typeface="Arial"/>
                <a:ea typeface="Arial"/>
              </a:rPr>
              <a:t>pobl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81280" y="3429000"/>
            <a:ext cx="2210040" cy="7340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Es de todos los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chilenos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64000" y="2133720"/>
            <a:ext cx="2209680" cy="7340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Es un problema de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margi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67280" y="3124080"/>
            <a:ext cx="1600200" cy="17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Municipa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Gobier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Empres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Igles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Famil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Institu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Dirig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3048120"/>
            <a:ext cx="5943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800" spc="-1" strike="noStrike">
                <a:solidFill>
                  <a:srgbClr val="990000"/>
                </a:solidFill>
                <a:latin typeface="Arial"/>
              </a:rPr>
              <a:t>2009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   5to Encuentro Nacional  más de 1000 dirig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resencia en todas las regione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Vivienda, salud y capacitación, principales líneas de trabaj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68360" y="2133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realización del proyecto Antumalal permitió integrar a la comunidad: </a:t>
            </a:r>
            <a:r>
              <a:rPr b="0" lang="es-MX" sz="2800" spc="-1" strike="noStrike">
                <a:solidFill>
                  <a:srgbClr val="990000"/>
                </a:solidFill>
                <a:latin typeface="Arial"/>
              </a:rPr>
              <a:t>Establecer  hitos</a:t>
            </a: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o queremos que Antumalal sea la excepción.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experiencia social del proyecto inspiró la </a:t>
            </a:r>
            <a:r>
              <a:rPr b="0" lang="es-MX" sz="2800" spc="-1" strike="noStrike">
                <a:solidFill>
                  <a:srgbClr val="990000"/>
                </a:solidFill>
                <a:latin typeface="Arial"/>
              </a:rPr>
              <a:t>creación y desarrollo  de la Corporación</a:t>
            </a: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59280" y="333360"/>
            <a:ext cx="5616360" cy="155628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990000"/>
                </a:solidFill>
                <a:latin typeface="Arial"/>
                <a:ea typeface="Arial"/>
              </a:rPr>
              <a:t>Algunas reflexiones en relación a nuestra participac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Familias y dirigentes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rear espacios de encuentro, trabajo y de complicidad con los otros act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xigir ciertos mínimos de participación, que podamos superar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“los que nos tocó”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“es lo que ahí”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(la cultura del conformismo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303640" y="549360"/>
            <a:ext cx="6840360" cy="58140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Roles y Desafí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24000" y="1700280"/>
            <a:ext cx="842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stado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e no solo exista una declaración de principios sino que sea efectiva, independiente del gobierno de turno o de las metas que se tengan que cumplir: </a:t>
            </a:r>
            <a:r>
              <a:rPr b="1" lang="es-ES" sz="1800" spc="-1" strike="noStrike">
                <a:solidFill>
                  <a:srgbClr val="990000"/>
                </a:solidFill>
                <a:latin typeface="Arial"/>
              </a:rPr>
              <a:t>procesos sean más lentos, si ésto implica un aprendizaje, formación y participación de la famili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sarrollar </a:t>
            </a:r>
            <a:r>
              <a:rPr b="1" lang="es-MX" sz="1800" spc="-1" strike="noStrike">
                <a:solidFill>
                  <a:srgbClr val="990000"/>
                </a:solidFill>
                <a:latin typeface="Arial"/>
              </a:rPr>
              <a:t>programas efectivos y transparente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, donde hayan espacios para que la sociedad civil participe en su ejecució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cercarse a las organizaciones sociales para apoyar sus proyectos y promover su desarrollo: </a:t>
            </a:r>
            <a:r>
              <a:rPr b="1" lang="es-MX" sz="1800" spc="-1" strike="noStrike">
                <a:solidFill>
                  <a:srgbClr val="990000"/>
                </a:solidFill>
                <a:latin typeface="Arial"/>
              </a:rPr>
              <a:t>Rentabilizar</a:t>
            </a:r>
            <a:r>
              <a:rPr b="1" lang="es-ES" sz="1800" spc="-1" strike="noStrike">
                <a:solidFill>
                  <a:srgbClr val="990000"/>
                </a:solidFill>
                <a:latin typeface="Arial"/>
              </a:rPr>
              <a:t> la inversión del Estado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68000" y="1700280"/>
            <a:ext cx="8351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28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cadem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240" indent="96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990000"/>
                </a:solidFill>
                <a:latin typeface="Arial"/>
              </a:rPr>
              <a:t>Transferir conocimientos y metodologías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a todos, no solo a los técn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240" indent="964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990000"/>
                </a:solidFill>
                <a:latin typeface="Arial"/>
              </a:rPr>
              <a:t>Ampliar la discusión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a otros actores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Empresa Privada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1296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otivación a tener una mayor participación en los programas sociales y una renovada </a:t>
            </a:r>
            <a:r>
              <a:rPr b="1" lang="es-MX" sz="2000" spc="-1" strike="noStrike">
                <a:solidFill>
                  <a:srgbClr val="990000"/>
                </a:solidFill>
                <a:latin typeface="Arial"/>
              </a:rPr>
              <a:t>disposición para trabajar, sin temor y desconfianza</a:t>
            </a:r>
            <a:r>
              <a:rPr b="0" lang="es-MX" sz="2000" spc="-1" strike="noStrike">
                <a:solidFill>
                  <a:srgbClr val="990000"/>
                </a:solidFill>
                <a:latin typeface="Arial"/>
              </a:rPr>
              <a:t>,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con el gobierno y grupos organizados de la sociedad a favor de las familias en condiciones de pobreza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O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stablecer nuevos mecanismos de comunicación y cooperación con el gobierno, las empresas y las comunidad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SER EFECTIVAMENTE UN MEDI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cluir la participación activa de diferentes actores, nos permite trabajar unidos a favor del  desarrollo social, con eficacia y dedicación, sin que esto signifique olvidar responsabilidades o perder autonom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mpartir experiencias  y escucharnos nos permite perfeccionar futuros proyectos sociales y replicar los casos exitos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prender de los  nuevos esquemas de vinculación para realizar programas permanentes y de largo alcance, acorde de realizar un desarrollo social que permita un crecimiento de país más justo e igualitario en oportunidades para las familias en condición de pobr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050920" y="404640"/>
            <a:ext cx="6840720" cy="58140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Conclusión f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5813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565440" y="5033880"/>
            <a:ext cx="301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990000"/>
                </a:solidFill>
                <a:latin typeface="Arial"/>
              </a:rPr>
              <a:t>info@dirigentes.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626920" y="907920"/>
            <a:ext cx="626436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990000"/>
                </a:solidFill>
                <a:latin typeface="Arial"/>
              </a:rPr>
              <a:t>Que es un campamento?</a:t>
            </a:r>
            <a:br>
              <a:rPr sz="4000"/>
            </a:br>
            <a:endParaRPr b="0" lang="en-US" sz="4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Más de 8 familias viviendo junt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n un terreno irregu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n dos o mas servicios</a:t>
            </a:r>
            <a:r>
              <a:rPr b="0" lang="es-MX" sz="32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0" descr="foto-diapo-5"/>
          <p:cNvPicPr/>
          <p:nvPr/>
        </p:nvPicPr>
        <p:blipFill>
          <a:blip r:embed="rId1"/>
          <a:stretch/>
        </p:blipFill>
        <p:spPr>
          <a:xfrm>
            <a:off x="1332000" y="1700280"/>
            <a:ext cx="7002360" cy="48718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2"/>
          <p:cNvSpPr/>
          <p:nvPr/>
        </p:nvSpPr>
        <p:spPr>
          <a:xfrm>
            <a:off x="1835280" y="1844640"/>
            <a:ext cx="6337080" cy="3111480"/>
          </a:xfrm>
          <a:prstGeom prst="rect">
            <a:avLst/>
          </a:prstGeom>
          <a:solidFill>
            <a:srgbClr val="dddddd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00"/>
                </a:solidFill>
                <a:latin typeface="Arial"/>
              </a:rPr>
              <a:t>66.6%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los campamentos en Chile no cuenta con electri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00"/>
                </a:solidFill>
                <a:latin typeface="Arial"/>
              </a:rPr>
              <a:t>40.9%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iene acceso irregular al servicio de agua po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00"/>
                </a:solidFill>
                <a:latin typeface="Arial"/>
              </a:rPr>
              <a:t>2.3%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iene alcantarill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cada campamento viven, en promedio,</a:t>
            </a:r>
            <a:r>
              <a:rPr b="0" lang="es-ES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990000"/>
                </a:solidFill>
                <a:latin typeface="Arial"/>
              </a:rPr>
              <a:t>53.6</a:t>
            </a:r>
            <a:r>
              <a:rPr b="0" lang="es-ES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amil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00"/>
                </a:solidFill>
                <a:latin typeface="Arial"/>
              </a:rPr>
              <a:t>14.4%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de esas familias viven como alleg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755640" y="1557360"/>
            <a:ext cx="8064000" cy="4608360"/>
            <a:chOff x="755640" y="1557360"/>
            <a:chExt cx="8064000" cy="4608360"/>
          </a:xfrm>
        </p:grpSpPr>
        <p:pic>
          <p:nvPicPr>
            <p:cNvPr id="63" name="Picture 11" descr="foto-diapo-8"/>
            <p:cNvPicPr/>
            <p:nvPr/>
          </p:nvPicPr>
          <p:blipFill>
            <a:blip r:embed="rId1"/>
            <a:stretch/>
          </p:blipFill>
          <p:spPr>
            <a:xfrm>
              <a:off x="755640" y="1557360"/>
              <a:ext cx="8064000" cy="46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Rectangle 10"/>
            <p:cNvSpPr/>
            <p:nvPr/>
          </p:nvSpPr>
          <p:spPr>
            <a:xfrm>
              <a:off x="4635000" y="1693800"/>
              <a:ext cx="3962880" cy="916920"/>
            </a:xfrm>
            <a:prstGeom prst="rect">
              <a:avLst/>
            </a:prstGeom>
            <a:solidFill>
              <a:srgbClr val="dddddd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o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existen 28,578 familias viviendo en los 533 campamentos que hay en el paí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43"/>
            <p:cNvGrpSpPr/>
            <p:nvPr/>
          </p:nvGrpSpPr>
          <p:grpSpPr>
            <a:xfrm>
              <a:off x="1052640" y="4771440"/>
              <a:ext cx="2514960" cy="1253880"/>
              <a:chOff x="1052640" y="4771440"/>
              <a:chExt cx="2514960" cy="1253880"/>
            </a:xfrm>
          </p:grpSpPr>
          <p:sp>
            <p:nvSpPr>
              <p:cNvPr id="66" name="Rectangle 10"/>
              <p:cNvSpPr/>
              <p:nvPr/>
            </p:nvSpPr>
            <p:spPr>
              <a:xfrm>
                <a:off x="2119320" y="5065920"/>
                <a:ext cx="14482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9.9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Rectangle 11"/>
              <p:cNvSpPr/>
              <p:nvPr/>
            </p:nvSpPr>
            <p:spPr>
              <a:xfrm>
                <a:off x="1052640" y="5065920"/>
                <a:ext cx="10666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0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Rectangle 12"/>
              <p:cNvSpPr/>
              <p:nvPr/>
            </p:nvSpPr>
            <p:spPr>
              <a:xfrm>
                <a:off x="1052640" y="5657040"/>
                <a:ext cx="10666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00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13"/>
              <p:cNvSpPr/>
              <p:nvPr/>
            </p:nvSpPr>
            <p:spPr>
              <a:xfrm>
                <a:off x="1052640" y="5358960"/>
                <a:ext cx="10666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0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14"/>
              <p:cNvSpPr/>
              <p:nvPr/>
            </p:nvSpPr>
            <p:spPr>
              <a:xfrm>
                <a:off x="1052640" y="4771440"/>
                <a:ext cx="10666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ñ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Rectangle 15"/>
              <p:cNvSpPr/>
              <p:nvPr/>
            </p:nvSpPr>
            <p:spPr>
              <a:xfrm>
                <a:off x="2119320" y="4771440"/>
                <a:ext cx="14482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# 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Familia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Rectangle 16"/>
              <p:cNvSpPr/>
              <p:nvPr/>
            </p:nvSpPr>
            <p:spPr>
              <a:xfrm>
                <a:off x="2119320" y="5657040"/>
                <a:ext cx="14482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8.57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Rectangle 17"/>
              <p:cNvSpPr/>
              <p:nvPr/>
            </p:nvSpPr>
            <p:spPr>
              <a:xfrm>
                <a:off x="2119320" y="5358960"/>
                <a:ext cx="14482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2.37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Line 19"/>
              <p:cNvSpPr/>
              <p:nvPr/>
            </p:nvSpPr>
            <p:spPr>
              <a:xfrm>
                <a:off x="1052640" y="5658120"/>
                <a:ext cx="2514960" cy="0"/>
              </a:xfrm>
              <a:prstGeom prst="line">
                <a:avLst/>
              </a:prstGeom>
              <a:ln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Line 23"/>
              <p:cNvSpPr/>
              <p:nvPr/>
            </p:nvSpPr>
            <p:spPr>
              <a:xfrm>
                <a:off x="1052640" y="5065920"/>
                <a:ext cx="2514960" cy="0"/>
              </a:xfrm>
              <a:prstGeom prst="line">
                <a:avLst/>
              </a:prstGeom>
              <a:ln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Line 24"/>
              <p:cNvSpPr/>
              <p:nvPr/>
            </p:nvSpPr>
            <p:spPr>
              <a:xfrm>
                <a:off x="2119320" y="4771440"/>
                <a:ext cx="0" cy="1181520"/>
              </a:xfrm>
              <a:prstGeom prst="line">
                <a:avLst/>
              </a:prstGeom>
              <a:ln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Line 25"/>
              <p:cNvSpPr/>
              <p:nvPr/>
            </p:nvSpPr>
            <p:spPr>
              <a:xfrm>
                <a:off x="1052640" y="5360040"/>
                <a:ext cx="2514960" cy="0"/>
              </a:xfrm>
              <a:prstGeom prst="line">
                <a:avLst/>
              </a:prstGeom>
              <a:ln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Line 18"/>
              <p:cNvSpPr/>
              <p:nvPr/>
            </p:nvSpPr>
            <p:spPr>
              <a:xfrm>
                <a:off x="1052640" y="4771440"/>
                <a:ext cx="2514960" cy="0"/>
              </a:xfrm>
              <a:prstGeom prst="line">
                <a:avLst/>
              </a:prstGeom>
              <a:ln cap="sq"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Line 21"/>
              <p:cNvSpPr/>
              <p:nvPr/>
            </p:nvSpPr>
            <p:spPr>
              <a:xfrm>
                <a:off x="1052640" y="4771440"/>
                <a:ext cx="0" cy="1181520"/>
              </a:xfrm>
              <a:prstGeom prst="line">
                <a:avLst/>
              </a:prstGeom>
              <a:ln cap="sq"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Line 22"/>
              <p:cNvSpPr/>
              <p:nvPr/>
            </p:nvSpPr>
            <p:spPr>
              <a:xfrm>
                <a:off x="3567600" y="4771440"/>
                <a:ext cx="0" cy="1181520"/>
              </a:xfrm>
              <a:prstGeom prst="line">
                <a:avLst/>
              </a:prstGeom>
              <a:ln cap="sq"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Line 20"/>
              <p:cNvSpPr/>
              <p:nvPr/>
            </p:nvSpPr>
            <p:spPr>
              <a:xfrm>
                <a:off x="1052640" y="5952960"/>
                <a:ext cx="2514960" cy="0"/>
              </a:xfrm>
              <a:prstGeom prst="line">
                <a:avLst/>
              </a:prstGeom>
              <a:ln cap="sq"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Los campamentos son el resultado d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99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cas oportunidades para la generación de ingre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recimiento urb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allas en los sistemas de tenencia de la tierra y mercados habit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iudades que no se adaptan a las demandas en materia de servi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rcRect l="57029" t="0" r="8087" b="40275"/>
          <a:stretch/>
        </p:blipFill>
        <p:spPr>
          <a:xfrm>
            <a:off x="5580000" y="1413000"/>
            <a:ext cx="2951280" cy="3268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 flipH="1">
            <a:off x="5435640" y="1413000"/>
            <a:ext cx="2957760" cy="3384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590328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5903284"/>
              </a:path>
            </a:pathLst>
          </a:custGeom>
          <a:noFill/>
          <a:ln w="57240">
            <a:solidFill>
              <a:srgbClr val="c4392e"/>
            </a:solidFill>
            <a:miter/>
          </a:ln>
          <a:effectLst>
            <a:outerShdw dist="17819" dir="2700000" blurRad="0" rotWithShape="0">
              <a:srgbClr val="75221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1844640"/>
            <a:ext cx="460836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alisto MT"/>
              </a:rPr>
              <a:t>Alta segregación espa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as familias de alto ingresos en stgo han tendido a localizarse casi en su totalidad en la zona oriente de la ciuda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Zona sur y poniente han conformado grandes aglomeraciones de pobr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alisto MT"/>
              </a:rPr>
              <a:t>Escasa divers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alisto MT"/>
              </a:rPr>
              <a:t>- Escasa integ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000" y="2331720"/>
            <a:ext cx="8351640" cy="35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Que sea un proceso de </a:t>
            </a: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co-responsabilidad socia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munidad, privados y gobiern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84360" y="404640"/>
            <a:ext cx="6357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990000"/>
                </a:solidFill>
                <a:latin typeface="Arial"/>
              </a:rPr>
              <a:t>Como erradicar los campamentos y construir barrios sustentab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3:32Z</dcterms:created>
  <dc:creator>Hcovarrubias</dc:creator>
  <dc:description/>
  <dc:language>en-US</dc:language>
  <cp:lastModifiedBy>aalvear</cp:lastModifiedBy>
  <dcterms:modified xsi:type="dcterms:W3CDTF">2009-09-07T15:10:23Z</dcterms:modified>
  <cp:revision>39</cp:revision>
  <dc:subject/>
  <dc:title>Diapositiva 1</dc:title>
</cp:coreProperties>
</file>