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F31-AF0A-4673-BBF1-0157A987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D52-C306-409C-AD3F-3EAC0638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E91-0074-4045-8E2A-AD93BB9E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644-4C43-46CF-95F1-AE776E9F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E39-2955-4922-B33F-36827E03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CF4-6ED3-4737-938E-16758D0C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B76-F638-47EC-91D5-077CDEDA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0B4-BDD4-41F8-944F-D793CFC0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EB3-C96D-45C0-8FE9-F84ADF96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E74-326F-4829-8F20-5958F694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F6A-E582-476C-AE6A-C5E4BE45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05F-69D3-47FA-B303-1E99850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1A77-C58C-47FC-BFB5-BD72E0F1C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aalvear</cp:lastModifiedBy>
  <dcterms:modified xsi:type="dcterms:W3CDTF">2009-09-07T15:10:23Z</dcterms:modified>
  <cp:revision>39</cp:revision>
  <dc:subject/>
  <dc:title>Diapositiva 1</dc:title>
</cp:coreProperties>
</file>