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9FF-322F-4583-A53D-19A9D9BE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A83-453F-4949-BC9C-8A24B3B0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6AE-B75B-41D7-9BAE-D2D530EB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C16-7AF5-4AE9-93D7-A3CC6673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FE8-BBC1-499D-A196-86E2E45D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7AB-735A-4155-BC24-8B1E48E1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787-E830-4338-BE2D-64BEAB8D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F73-542F-4C8D-B37D-0896B134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A7A-927D-44C7-A3BE-2580A2C8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545-6A54-4A10-A143-D7EFBD0D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CD5-C1F1-4B5A-A70B-9A4BC8DF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030-5C9A-4CFC-B4DE-CC9F4C65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8A10-3309-481A-B00C-AD349A061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90760" cy="15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1847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500720" y="4149720"/>
            <a:ext cx="3887640" cy="2436840"/>
            <a:chOff x="4500720" y="4149720"/>
            <a:chExt cx="3887640" cy="24368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500720" y="4149720"/>
              <a:ext cx="38876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380360" y="6093000"/>
              <a:ext cx="100800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348000" y="260280"/>
            <a:ext cx="54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Del Campamento al Barrio:  </a:t>
            </a:r>
            <a:r>
              <a:rPr b="0" lang="es-MX" sz="3200" spc="-1" strike="noStrike" u="sng">
                <a:solidFill>
                  <a:srgbClr val="ff0000"/>
                </a:solidFill>
                <a:uFillTx/>
                <a:latin typeface="Arial"/>
              </a:rPr>
              <a:t>La Transformación de la politica de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2560" y="1460520"/>
            <a:ext cx="709308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teceden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uevo énfasis de la Nueva Política Habitacional a partir del 2005: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ón de la participación de las famil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 –focalización del gasto en viviend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nfasis en programas sin deudas y fondos concur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bsidios que premi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caliz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; mejor construcción y   mayor ampli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on de aportes de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bladores más informados y participativo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ng: Mayor capacidad de mediación y de propuesta en las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ademia: Intención a investigar y desarrollar programas para las personas más excluida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76280"/>
            <a:ext cx="453708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ntecedentes de la Políticas Habit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2708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Renca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2002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5 campamentos, cansadas de las condiciones en las cuales estaban viviendo, se organizan para empezar a luchar para mejorar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484520"/>
            <a:ext cx="3382920" cy="237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598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2627280" cy="2349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76720" y="4508640"/>
            <a:ext cx="32400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 no estaban dispuestas a seguir viviendo en las condiciones en las que estaban, se organizan en una coordinadora que empieza a luchar por un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eñ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.  el de una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ivienda dig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í, 5 campamentos de Renca empiezan a construir la siguiente histor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lianza entre la oficina de arquitectura Elemental y UTPCH para desarrollar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arquitectón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NUEVO BAR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Empiezan las mesas de trabajo con las familias para trabajar en los temas técnicos y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3280" y="1700280"/>
            <a:ext cx="4264200" cy="3781440"/>
            <a:chOff x="4643280" y="1700280"/>
            <a:chExt cx="4264200" cy="37814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4643280" y="1700280"/>
              <a:ext cx="2122560" cy="21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730920" y="1987920"/>
              <a:ext cx="21765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4643280" y="3861000"/>
              <a:ext cx="208764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6730920" y="3861000"/>
              <a:ext cx="2162160" cy="16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4356000" y="765000"/>
            <a:ext cx="453708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La hi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1557360"/>
            <a:ext cx="66960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4: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rdinadora logra comprar el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terre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$100.000.000, pagado por el ahorro de 20 UF de cada familia y con el apoyo de terce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ostula y obtiene e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subsid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Fondo Solidario de Vivienda (FS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9280" y="4702320"/>
            <a:ext cx="8569080" cy="2155680"/>
            <a:chOff x="179280" y="4702320"/>
            <a:chExt cx="8569080" cy="21556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79280" y="4751640"/>
              <a:ext cx="280836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987640" y="4702320"/>
              <a:ext cx="3241440" cy="21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6229080" y="4751640"/>
              <a:ext cx="251928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5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Se obtiene el financiamiento para el Centro Comunitario. Que contempla jardín infantil, guardería, sede social, biblioteca, box médico y oficinas entre otras depend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9640" y="4941720"/>
            <a:ext cx="7993080" cy="1403280"/>
            <a:chOff x="539640" y="4941720"/>
            <a:chExt cx="7993080" cy="14032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573440" y="4941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445080" y="494172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39640" y="4941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2339640" y="4941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0758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6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trabajos de mejoramiento de terreno y relleno estruc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las obras de construcción del NUEVO BARRIO: Se realiza la Primera Piedra. Se comienzan a construir de las viviendas y del centro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rean las comisiones de Salud; Educación, Espacios Públicos, Plan de Ahorro,  Deporte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5383080"/>
            <a:ext cx="7993080" cy="1474920"/>
            <a:chOff x="250920" y="5383080"/>
            <a:chExt cx="7993080" cy="1474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284720" y="5454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156360" y="538308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250920" y="5454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050920" y="5454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170 familias se distribuyen en los 7 pasaj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elige una directiva por pas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da pasaje tiene representantes de las com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ostula al subsidio de ampliaciones para poder entregar las casas en condiciones habitables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0" algn="just">
              <a:lnSpc>
                <a:spcPct val="15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ienza a funcionar el Centro Co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5445000"/>
            <a:ext cx="9143640" cy="1413000"/>
            <a:chOff x="0" y="5445000"/>
            <a:chExt cx="9143640" cy="14130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5445000"/>
              <a:ext cx="3333240" cy="14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331440" y="5445000"/>
              <a:ext cx="240192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5733720" y="5445000"/>
              <a:ext cx="3409920" cy="141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Arial"/>
              </a:rPr>
              <a:t>Añ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170 familias inauguran su condomi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9640" y="4653000"/>
            <a:ext cx="8135640" cy="1852560"/>
            <a:chOff x="539640" y="4653000"/>
            <a:chExt cx="8135640" cy="18525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39640" y="4653000"/>
              <a:ext cx="237636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2916000" y="4653000"/>
              <a:ext cx="280836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5651280" y="4653000"/>
              <a:ext cx="3024000" cy="18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195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3200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83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rea la Corporación de Dirig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6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rimera Reunión de 3 reg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7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Creación de Estatutos y elección de Di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8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4to Encuentro Nacional, realización del primer seminario; diplomado y cursos de capacitación (salud y formación del dirigente); creación de mesa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5245200"/>
            <a:ext cx="3024360" cy="1612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5294160"/>
            <a:ext cx="2449440" cy="1563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360" y="404640"/>
            <a:ext cx="611964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Otra historia se escribe en forma parale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4292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64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467480" y="5688000"/>
            <a:ext cx="167652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3280" y="0"/>
            <a:ext cx="5013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Hoy quedan más de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600" spc="-1" strike="noStrike">
                <a:solidFill>
                  <a:srgbClr val="990000"/>
                </a:solidFill>
                <a:latin typeface="Arial"/>
                <a:ea typeface="Arial"/>
              </a:rPr>
              <a:t>28.000</a:t>
            </a:r>
            <a:r>
              <a:rPr b="1" lang="es-CL" sz="24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familias viviendo e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campamen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523880"/>
            <a:ext cx="14479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Viv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gr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iesg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8900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son solo un problema de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viviend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es solo un problema de los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pob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429000"/>
            <a:ext cx="221004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de todos los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hilen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2133720"/>
            <a:ext cx="220968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un problema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marg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124080"/>
            <a:ext cx="1600200" cy="17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unicip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gles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amil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tit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Diri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048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990000"/>
                </a:solidFill>
                <a:latin typeface="Arial"/>
              </a:rPr>
              <a:t>2009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5to Encuentro Nacional  más de 1000 dir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esencia en todas las region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vienda, salud y capacitación, principales línea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1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ealización del proyecto Antumalal permitió integrar a la comunidad: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Establecer  hitos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queremos que Antumalal sea la excepción.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experiencia social del proyecto inspiró la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creación y desarrollo  de la Corporación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333360"/>
            <a:ext cx="5616360" cy="155628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Algunas reflexiones en relación a nuestra particip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milias y dirigente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r espacios de encuentro, trabajo y de complicidad con los otros ac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gir ciertos mínimos de participación, que podamos superar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los que nos tocó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es lo que ahí”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cultura del conformis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03640" y="549360"/>
            <a:ext cx="684036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Roles y Desafí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no solo exista una declaración de principios sino que sea efectiva, independiente del gobierno de turno o de las metas que se tengan que cumplir: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procesos sean más lentos, si ésto implica un aprendizaje, formación y participación de la famil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rrollar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programas efectivos y transpar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donde hayan espacios para que la sociedad civil participe en su ejec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rcarse a las organizaciones sociales para apoyar sus proyectos y promover su desarrollo: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Rentabilizar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 la inversión del Estado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28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adem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Transferir conocimientos y metodologí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todos, no solo a los téc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Ampliar la discus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otros actor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resa Privad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12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tivación a tener una mayor participación en los programas sociales y una renovada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disposición para trabajar, sin temor y desconfianza</a:t>
            </a: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n el gobierno y grupos organizados de la sociedad a favor de las familias en condiciones de pobrez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blecer nuevos mecanismos de comunicación y cooperación con el gobierno, las empresas y las comuni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SER EFECTIVAMENTE UN MED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ir la participación activa de diferentes actores, nos permite trabajar unidos a favor del  desarrollo social, con eficacia y dedicación, sin que esto signifique olvidar responsabilidades o perder aut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r experiencias  y escucharnos nos permite perfeccionar futuros proyectos sociales y replicar los casos exit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ender de los  nuevos esquemas de vinculación para realizar programas permanentes y de largo alcance, acorde de realizar un desarrollo social que permita un crecimiento de país más justo e igualitario en oportunidades para las familias en condición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04640"/>
            <a:ext cx="684072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ón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65440" y="5033880"/>
            <a:ext cx="30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info@dirigentes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6920" y="907920"/>
            <a:ext cx="62643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0000"/>
                </a:solidFill>
                <a:latin typeface="Arial"/>
              </a:rPr>
              <a:t>Que es un campamento?</a:t>
            </a: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ás de 8 familias viviendo j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un terreno irreg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 dos o mas servicios</a:t>
            </a:r>
            <a:r>
              <a:rPr b="0" lang="es-MX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0" descr="foto-diapo-5"/>
          <p:cNvPicPr/>
          <p:nvPr/>
        </p:nvPicPr>
        <p:blipFill>
          <a:blip r:embed="rId1"/>
          <a:stretch/>
        </p:blipFill>
        <p:spPr>
          <a:xfrm>
            <a:off x="1332000" y="1700280"/>
            <a:ext cx="7002360" cy="4871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1835280" y="1844640"/>
            <a:ext cx="6337080" cy="3111480"/>
          </a:xfrm>
          <a:prstGeom prst="rect">
            <a:avLst/>
          </a:prstGeom>
          <a:solidFill>
            <a:srgbClr val="dddddd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66.6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s campamentos en Chile no cuenta con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40.9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cceso irregular al servicio de agua p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2.3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lcantarill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campamento viven, en promedio,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53.6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14.4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de esas familias viven como all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55640" y="1557360"/>
            <a:ext cx="8064000" cy="4608360"/>
            <a:chOff x="755640" y="1557360"/>
            <a:chExt cx="8064000" cy="4608360"/>
          </a:xfrm>
        </p:grpSpPr>
        <p:pic>
          <p:nvPicPr>
            <p:cNvPr id="63" name="Picture 11" descr="foto-diapo-8"/>
            <p:cNvPicPr/>
            <p:nvPr/>
          </p:nvPicPr>
          <p:blipFill>
            <a:blip r:embed="rId1"/>
            <a:stretch/>
          </p:blipFill>
          <p:spPr>
            <a:xfrm>
              <a:off x="755640" y="1557360"/>
              <a:ext cx="80640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10"/>
            <p:cNvSpPr/>
            <p:nvPr/>
          </p:nvSpPr>
          <p:spPr>
            <a:xfrm>
              <a:off x="4635000" y="1693800"/>
              <a:ext cx="3962880" cy="916920"/>
            </a:xfrm>
            <a:prstGeom prst="rect">
              <a:avLst/>
            </a:prstGeom>
            <a:solidFill>
              <a:srgbClr val="dddddd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isten 28,578 familias viviendo en los 533 campamentos que hay en el paí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43"/>
            <p:cNvGrpSpPr/>
            <p:nvPr/>
          </p:nvGrpSpPr>
          <p:grpSpPr>
            <a:xfrm>
              <a:off x="1052640" y="4771440"/>
              <a:ext cx="2514960" cy="1253880"/>
              <a:chOff x="1052640" y="4771440"/>
              <a:chExt cx="2514960" cy="1253880"/>
            </a:xfrm>
          </p:grpSpPr>
          <p:sp>
            <p:nvSpPr>
              <p:cNvPr id="66" name="Rectangle 10"/>
              <p:cNvSpPr/>
              <p:nvPr/>
            </p:nvSpPr>
            <p:spPr>
              <a:xfrm>
                <a:off x="2119320" y="506592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9.9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1"/>
              <p:cNvSpPr/>
              <p:nvPr/>
            </p:nvSpPr>
            <p:spPr>
              <a:xfrm>
                <a:off x="1052640" y="506592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12"/>
              <p:cNvSpPr/>
              <p:nvPr/>
            </p:nvSpPr>
            <p:spPr>
              <a:xfrm>
                <a:off x="1052640" y="56570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3"/>
              <p:cNvSpPr/>
              <p:nvPr/>
            </p:nvSpPr>
            <p:spPr>
              <a:xfrm>
                <a:off x="1052640" y="535896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4"/>
              <p:cNvSpPr/>
              <p:nvPr/>
            </p:nvSpPr>
            <p:spPr>
              <a:xfrm>
                <a:off x="1052640" y="47714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ñ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5"/>
              <p:cNvSpPr/>
              <p:nvPr/>
            </p:nvSpPr>
            <p:spPr>
              <a:xfrm>
                <a:off x="2119320" y="47714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#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Famil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6"/>
              <p:cNvSpPr/>
              <p:nvPr/>
            </p:nvSpPr>
            <p:spPr>
              <a:xfrm>
                <a:off x="2119320" y="56570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.57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7"/>
              <p:cNvSpPr/>
              <p:nvPr/>
            </p:nvSpPr>
            <p:spPr>
              <a:xfrm>
                <a:off x="2119320" y="535896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2.37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>
                <a:off x="1052640" y="56581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3"/>
              <p:cNvSpPr/>
              <p:nvPr/>
            </p:nvSpPr>
            <p:spPr>
              <a:xfrm>
                <a:off x="1052640" y="50659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4"/>
              <p:cNvSpPr/>
              <p:nvPr/>
            </p:nvSpPr>
            <p:spPr>
              <a:xfrm>
                <a:off x="2119320" y="4771440"/>
                <a:ext cx="0" cy="118152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5"/>
              <p:cNvSpPr/>
              <p:nvPr/>
            </p:nvSpPr>
            <p:spPr>
              <a:xfrm>
                <a:off x="1052640" y="536004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8"/>
              <p:cNvSpPr/>
              <p:nvPr/>
            </p:nvSpPr>
            <p:spPr>
              <a:xfrm>
                <a:off x="1052640" y="477144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1"/>
              <p:cNvSpPr/>
              <p:nvPr/>
            </p:nvSpPr>
            <p:spPr>
              <a:xfrm>
                <a:off x="105264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22"/>
              <p:cNvSpPr/>
              <p:nvPr/>
            </p:nvSpPr>
            <p:spPr>
              <a:xfrm>
                <a:off x="356760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0"/>
              <p:cNvSpPr/>
              <p:nvPr/>
            </p:nvSpPr>
            <p:spPr>
              <a:xfrm>
                <a:off x="1052640" y="595296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Los campamentos son el resultado 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cas oportunidades para la generación de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cimient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en los sistemas de tenencia de la tierra y mercados habi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udades que no se adaptan a las demandas en materi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7029" t="0" r="8087" b="40275"/>
          <a:stretch/>
        </p:blipFill>
        <p:spPr>
          <a:xfrm>
            <a:off x="5580000" y="1413000"/>
            <a:ext cx="2951280" cy="326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5435640" y="1413000"/>
            <a:ext cx="2957760" cy="338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5903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5903284"/>
              </a:path>
            </a:pathLst>
          </a:custGeom>
          <a:noFill/>
          <a:ln w="57240">
            <a:solidFill>
              <a:srgbClr val="c4392e"/>
            </a:solidFill>
            <a:miter/>
          </a:ln>
          <a:effectLst>
            <a:outerShdw dist="17819" dir="2700000" blurRad="0" rotWithShape="0">
              <a:srgbClr val="7522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844640"/>
            <a:ext cx="4608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sto MT"/>
              </a:rPr>
              <a:t>Alta segregación espa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familias de alto ingresos en stgo han tendido a localizarse casi en su totalidad en la zona oriente de la ciu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Zona sur y poniente han conformado grandes aglomeraciones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Escasa d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- Escasa inte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2331720"/>
            <a:ext cx="835164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sea un proceso de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co-responsabilidad soci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dad, privados y gobier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404640"/>
            <a:ext cx="63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0000"/>
                </a:solidFill>
                <a:latin typeface="Arial"/>
              </a:rPr>
              <a:t>Como erradicar los campamentos y construir barrios sustent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3:32Z</dcterms:created>
  <dc:creator>Hcovarrubias</dc:creator>
  <dc:description/>
  <dc:language>en-US</dc:language>
  <cp:lastModifiedBy>aalvear</cp:lastModifiedBy>
  <dcterms:modified xsi:type="dcterms:W3CDTF">2009-09-07T15:10:23Z</dcterms:modified>
  <cp:revision>39</cp:revision>
  <dc:subject/>
  <dc:title>Diapositiva 1</dc:title>
</cp:coreProperties>
</file>