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FDB-B9C7-4685-B619-6B25A4A9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5A5-166C-4CC5-B3A5-3FC07A2D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A6B-0DD7-4494-B4FA-EEAC6C1B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9FF-1398-442E-86E5-A2654211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FCE-ABB7-4BA6-A54C-2C7B73F5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499-423E-4561-8E12-092E99B8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7B4-F590-4E55-A4E6-58D85EB6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9EC-B483-4189-B8C0-03C81154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7FB-CDF0-4F5A-BE65-9A5981C5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012-2160-4547-B1C2-CEDC1F28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B96-5845-4F7D-AB30-8EF6EE8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2DB-5FE1-4FB6-AA21-E80CE5E7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E651-D802-447F-902F-C719C77EE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aalvear</cp:lastModifiedBy>
  <dcterms:modified xsi:type="dcterms:W3CDTF">2009-09-07T15:10:23Z</dcterms:modified>
  <cp:revision>39</cp:revision>
  <dc:subject/>
  <dc:title>Diapositiva 1</dc:title>
</cp:coreProperties>
</file>