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16E1C-08C9-4AF3-80F8-BBC82F770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23FDC-C3CB-4DEA-91CD-77246E1B9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6B9D3-419A-438D-BB90-F2E36B0E4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91C53-D63E-4A94-9148-0E583AB73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5FA901-BF93-4B8E-86DB-B994D19CA6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31824-9ECD-48CF-BE23-B1706E3E4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CA736-1050-4914-A239-DA282C864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1FFA8-23FF-4D5B-9F37-D96D265EC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DAD08-5C65-4620-ACCD-68B0DD90B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774C0-2119-4EC7-8F63-577C24CE9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96342-9A4F-48CA-B879-EE621AFDE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30438-89E8-4D4E-B496-02EB88624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D424A-BFFC-4B85-A670-0C7970E8E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3EA8D-D40D-4887-9F54-067867623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A3E58-2459-46CB-BE33-B849CCEFD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DFE450-2386-489E-A2E5-AD8445273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9420F5-F24E-4726-9F24-793F066C7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3976A-F13F-443F-A376-B45457B59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25F19-6BD2-4E93-945D-3AD77612B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7AAE6-04BE-4151-AF3A-6D4DBB9BF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4A57B-43AC-4659-8AC6-D310FEA27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F3EB4-C6A6-4AE1-A82A-AD1A4DF74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2F713-7AD9-4510-AC6C-47EE71C8C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0BAE7-BAE3-4975-BE1D-760EEDB78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454A-A497-4A66-9BFC-05903006660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6F03-FFE5-458B-8B97-8576DC023E1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r)(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2 / 1,05 =&gt; </a:t>
            </a:r>
            <a:r>
              <a:rPr b="0" lang="en-US" sz="2000" spc="-1" strike="noStrike">
                <a:solidFill>
                  <a:srgbClr val="000000"/>
                </a:solidFill>
                <a:latin typeface="Symbol"/>
                <a:ea typeface="Symbol"/>
              </a:rPr>
              <a:t></a:t>
            </a:r>
            <a:r>
              <a:rPr b="0" lang="en-US"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7"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6"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7"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8"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4"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5" name=""/>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6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6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07-07-06T16:05:07Z</dcterms:modified>
  <cp:revision>17</cp:revision>
  <dc:subject>Planificación financiera</dc:subject>
  <dc:title>PLANIFICACION FINANCIERA</dc:title>
</cp:coreProperties>
</file>