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38115-B42D-47D3-944C-0EEC36446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7C934-D920-468A-BAAF-4A4266160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724BA-F139-4835-B346-37E920D71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74BEF-B47C-4A13-8941-5A12DF79D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36553-60F1-44E3-AE7D-53EA97D802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AC270-46A0-44EF-992D-2AF68EDA5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42D47-68C5-482D-9DC4-4962C897A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736B9-6CEB-4C78-9DBE-A5CCA1192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69C88-01F6-4AA9-B234-F71030ECD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4769B-5F2E-4051-9437-0CBC14518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A0E42-A440-4007-BCE4-63A66531D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A96B3-2368-47C4-B5E2-9657412D1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2BFD9-1929-4346-B141-372609C17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06BA2-5F07-43BE-B784-44C4376EF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3CE2B-D673-4483-9D97-65C09DCDF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A9A06F-B388-4FD4-A262-86118DDA08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A1BC3C-524C-4743-A572-B2B797E462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2DA4B-E135-4DCF-8E9F-E7B416968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29277-A4B8-4D6E-AF9F-5F89D819A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B1F41-C1F1-4500-9F4A-ABD87CE34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52BFA-5981-4C28-A894-EB37E6428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9A3C3-3492-46C1-BC79-87E2827BD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CC4E0-35A1-4998-AB67-EF357B321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C8AB1-C8F0-4A4E-88A9-4CB3BEC90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83EA-289E-47F0-B9A7-2AD3D017AD8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97B5F-FC13-4E69-8572-EE63AEE185A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i) = (1 + r) *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0 (1+i) = 500 (1+r)(1+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Symbol"/>
                <a:ea typeface="Symbol"/>
              </a:rPr>
              <a:t></a:t>
            </a:r>
            <a:r>
              <a:rPr b="0" lang="en-US" sz="2000" spc="-1" strike="noStrike">
                <a:solidFill>
                  <a:srgbClr val="000000"/>
                </a:solidFill>
                <a:latin typeface="Tahoma"/>
              </a:rPr>
              <a:t>) = (1+i) / (1+r) = 1,2 / 1,05 =&gt; </a:t>
            </a:r>
            <a:r>
              <a:rPr b="0" lang="en-US" sz="2000" spc="-1" strike="noStrike">
                <a:solidFill>
                  <a:srgbClr val="000000"/>
                </a:solidFill>
                <a:latin typeface="Symbol"/>
                <a:ea typeface="Symbol"/>
              </a:rPr>
              <a:t></a:t>
            </a:r>
            <a:r>
              <a:rPr b="0" lang="en-US" sz="2000" spc="-1" strike="noStrike">
                <a:solidFill>
                  <a:srgbClr val="000000"/>
                </a:solidFill>
                <a:latin typeface="Tahoma"/>
              </a:rPr>
              <a:t>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Tasa mínim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Costo de oportunidad del capital</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Rentabilidad mínima exigid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Costo de capital…etc </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t>
            </a:r>
            <a:r>
              <a:rPr b="0" lang="es-ES_tradnl"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7"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6"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7"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8"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9"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0"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3"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4"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3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3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4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1283040" y="5054760"/>
            <a:ext cx="248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 ejemplo en</a:t>
            </a:r>
            <a:endParaRPr b="0" lang="en-US" sz="2800" spc="-1" strike="noStrike">
              <a:solidFill>
                <a:srgbClr val="000000"/>
              </a:solidFill>
              <a:latin typeface="Times New Roman"/>
            </a:endParaRPr>
          </a:p>
        </p:txBody>
      </p:sp>
      <p:sp>
        <p:nvSpPr>
          <p:cNvPr id="255" name=""/>
          <p:cNvSpPr/>
          <p:nvPr/>
        </p:nvSpPr>
        <p:spPr>
          <a:xfrm>
            <a:off x="1292400" y="5856120"/>
            <a:ext cx="33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bancafacil.cl</a:t>
            </a:r>
            <a:endParaRPr b="0" lang="en-US" sz="2400" spc="-1" strike="noStrike">
              <a:solidFill>
                <a:srgbClr val="000000"/>
              </a:solidFill>
              <a:latin typeface="Times New Roman"/>
            </a:endParaRPr>
          </a:p>
        </p:txBody>
      </p:sp>
      <p:sp>
        <p:nvSpPr>
          <p:cNvPr id="25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31640" y="5157720"/>
            <a:ext cx="24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Amortiz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terese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6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6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7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7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7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7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cp:keywords/>
  <dc:language>en-US</dc:language>
  <cp:lastModifiedBy>Eduardo Contreras Villablanca</cp:lastModifiedBy>
  <cp:lastPrinted>1997-04-16T17:24:08Z</cp:lastPrinted>
  <dcterms:modified xsi:type="dcterms:W3CDTF">2007-07-06T16:05:07Z</dcterms:modified>
  <cp:revision>17</cp:revision>
  <dc:subject>Planificación financiera</dc:subject>
  <dc:title>PLANIFICACION FINANCIERA</dc:title>
</cp:coreProperties>
</file>