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3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wmf" ContentType="image/x-wmf"/>
  <Override PartName="/ppt/media/image4.jpeg" ContentType="image/jpeg"/>
  <Override PartName="/ppt/media/image5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layout>
        <c:manualLayout>
          <c:xMode val="edge"/>
          <c:yMode val="edge"/>
          <c:x val="0.000764104087956907"/>
          <c:y val="0.0199637023593466"/>
          <c:w val="0.999235895912043"/>
          <c:h val="0.939044996557982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% CRECIMIENTO DEL PIB</c:v>
                </c:pt>
              </c:strCache>
            </c:strRef>
          </c:tx>
          <c:spPr>
            <a:solidFill>
              <a:srgbClr val="004586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0" sz="658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 AYLWIN, 90-94</c:v>
                </c:pt>
                <c:pt idx="1">
                  <c:v>FREI, 94-2000</c:v>
                </c:pt>
                <c:pt idx="2">
                  <c:v>LAGOS, 2000-06</c:v>
                </c:pt>
                <c:pt idx="3">
                  <c:v>BACHELET, 06-07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7.58</c:v>
                </c:pt>
                <c:pt idx="1">
                  <c:v>5.43</c:v>
                </c:pt>
                <c:pt idx="2">
                  <c:v>4.24</c:v>
                </c:pt>
                <c:pt idx="3">
                  <c:v>4.46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PTF</c:v>
                </c:pt>
              </c:strCache>
            </c:strRef>
          </c:tx>
          <c:spPr>
            <a:solidFill>
              <a:srgbClr val="ff420e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0" sz="658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 AYLWIN, 90-94</c:v>
                </c:pt>
                <c:pt idx="1">
                  <c:v>FREI, 94-2000</c:v>
                </c:pt>
                <c:pt idx="2">
                  <c:v>LAGOS, 2000-06</c:v>
                </c:pt>
                <c:pt idx="3">
                  <c:v>BACHELET, 06-07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6</c:v>
                </c:pt>
                <c:pt idx="1">
                  <c:v>2.05</c:v>
                </c:pt>
                <c:pt idx="2">
                  <c:v>1</c:v>
                </c:pt>
                <c:pt idx="3">
                  <c:v>0.44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APITAL</c:v>
                </c:pt>
              </c:strCache>
            </c:strRef>
          </c:tx>
          <c:spPr>
            <a:solidFill>
              <a:srgbClr val="ffd320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0" sz="658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 AYLWIN, 90-94</c:v>
                </c:pt>
                <c:pt idx="1">
                  <c:v>FREI, 94-2000</c:v>
                </c:pt>
                <c:pt idx="2">
                  <c:v>LAGOS, 2000-06</c:v>
                </c:pt>
                <c:pt idx="3">
                  <c:v>BACHELET, 06-07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1.91</c:v>
                </c:pt>
                <c:pt idx="1">
                  <c:v>2.78</c:v>
                </c:pt>
                <c:pt idx="2">
                  <c:v>1.73</c:v>
                </c:pt>
                <c:pt idx="3">
                  <c:v>2.62</c:v>
                </c:pt>
              </c:numCache>
            </c:numRef>
          </c:val>
        </c:ser>
        <c:ser>
          <c:idx val="3"/>
          <c:order val="3"/>
          <c:tx>
            <c:strRef>
              <c:f>label 3</c:f>
              <c:strCache>
                <c:ptCount val="1"/>
                <c:pt idx="0">
                  <c:v>TRABAJO</c:v>
                </c:pt>
              </c:strCache>
            </c:strRef>
          </c:tx>
          <c:spPr>
            <a:solidFill>
              <a:srgbClr val="579d1c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0" sz="658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 AYLWIN, 90-94</c:v>
                </c:pt>
                <c:pt idx="1">
                  <c:v>FREI, 94-2000</c:v>
                </c:pt>
                <c:pt idx="2">
                  <c:v>LAGOS, 2000-06</c:v>
                </c:pt>
                <c:pt idx="3">
                  <c:v>BACHELET, 06-07</c:v>
                </c:pt>
              </c:strCache>
            </c:strRef>
          </c:cat>
          <c:val>
            <c:numRef>
              <c:f>3</c:f>
              <c:numCache>
                <c:formatCode>General</c:formatCode>
                <c:ptCount val="4"/>
                <c:pt idx="0">
                  <c:v>2.09</c:v>
                </c:pt>
                <c:pt idx="1">
                  <c:v>0.6</c:v>
                </c:pt>
                <c:pt idx="2">
                  <c:v>1.52</c:v>
                </c:pt>
                <c:pt idx="3">
                  <c:v>1.4</c:v>
                </c:pt>
              </c:numCache>
            </c:numRef>
          </c:val>
        </c:ser>
        <c:gapWidth val="100"/>
        <c:overlap val="0"/>
        <c:axId val="48990204"/>
        <c:axId val="23895693"/>
      </c:barChart>
      <c:catAx>
        <c:axId val="48990204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low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1" sz="1299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895693"/>
        <c:crossesAt val="0"/>
        <c:auto val="1"/>
        <c:lblAlgn val="ctr"/>
        <c:lblOffset val="100"/>
        <c:noMultiLvlLbl val="0"/>
      </c:catAx>
      <c:valAx>
        <c:axId val="2389569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77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990204"/>
        <c:crosses val="min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layout>
        <c:manualLayout>
          <c:xMode val="edge"/>
          <c:yMode val="edge"/>
          <c:x val="0.734898331706075"/>
          <c:y val="0.0865510983165405"/>
        </c:manualLayout>
      </c:layout>
      <c:overlay val="0"/>
      <c:spPr>
        <a:noFill/>
        <a:ln w="0">
          <a:noFill/>
        </a:ln>
      </c:spPr>
      <c:txPr>
        <a:bodyPr/>
        <a:lstStyle/>
        <a:p>
          <a:pPr>
            <a:defRPr b="1" sz="13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0"/>
    <c:dispBlanksAs val="gap"/>
  </c:chart>
  <c:spPr>
    <a:noFill/>
    <a:ln w="0">
      <a:noFill/>
    </a:ln>
  </c:spPr>
</c:chartSpace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6DA7F-9378-41DE-AB26-932D3FF725A5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/>
          <p:nvPr/>
        </p:nvSpPr>
        <p:spPr>
          <a:xfrm>
            <a:off x="1143000" y="685800"/>
            <a:ext cx="45734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/>
          <p:nvPr/>
        </p:nvSpPr>
        <p:spPr>
          <a:xfrm>
            <a:off x="1143000" y="685800"/>
            <a:ext cx="45734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/>
          <p:nvPr/>
        </p:nvSpPr>
        <p:spPr>
          <a:xfrm>
            <a:off x="1143000" y="685800"/>
            <a:ext cx="45734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/>
          <p:nvPr/>
        </p:nvSpPr>
        <p:spPr>
          <a:xfrm>
            <a:off x="1143000" y="685800"/>
            <a:ext cx="45734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1143000" y="685800"/>
            <a:ext cx="45734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1003320" y="695160"/>
            <a:ext cx="48499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840" rIns="78840" tIns="41040" bIns="4104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635040"/>
                <a:tab algn="l" pos="1270080"/>
                <a:tab algn="l" pos="1903320"/>
                <a:tab algn="l" pos="2538360"/>
                <a:tab algn="l" pos="2755800"/>
                <a:tab algn="l" pos="3149640"/>
                <a:tab algn="l" pos="3543480"/>
                <a:tab algn="l" pos="3936960"/>
                <a:tab algn="l" pos="4330800"/>
                <a:tab algn="l" pos="4724280"/>
                <a:tab algn="l" pos="5118120"/>
                <a:tab algn="l" pos="5511960"/>
                <a:tab algn="l" pos="5905440"/>
                <a:tab algn="l" pos="6299280"/>
                <a:tab algn="l" pos="6692760"/>
                <a:tab algn="l" pos="7086600"/>
                <a:tab algn="l" pos="7480440"/>
                <a:tab algn="l" pos="7873920"/>
                <a:tab algn="l" pos="8267760"/>
                <a:tab algn="l" pos="8661240"/>
                <a:tab algn="l" pos="9055080"/>
                <a:tab algn="l" pos="9448920"/>
                <a:tab algn="l" pos="9842400"/>
                <a:tab algn="l" pos="10236240"/>
              </a:tabLst>
            </a:pPr>
            <a:fld id="{41C805E4-20FC-4A4E-AB70-4D37455B7CA5}" type="slidenum">
              <a:rPr b="0" lang="en-GB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1143000" y="685800"/>
            <a:ext cx="45734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B243B-C430-40EF-8DF6-9EC57EBC5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664A8-85B7-4B77-BFD7-F18EF7C3E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26074-65AE-4339-B94A-2FA0D5FEF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FF140-D896-47B1-8D87-E9E45C195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4275F-B03C-4FAD-B002-6EFDDEBC4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04AB9-36CE-4A0D-9A24-447DC1585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94018-90BA-4671-99CA-88491254A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14121-A845-4A28-89CA-DFE475C69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3F3B8-BD49-4FD4-8254-59883ED96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02F6F-7D9C-4BE7-9AAC-4CA336A91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E7780-13C3-4F5A-99FD-700F5BAA5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354CA-3120-4BFB-BBC7-8972E01F5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198DF-BD23-405D-BE72-B379D5EE9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70467-FA07-401E-A556-FE4F3C7C2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512B4-E31D-458B-A401-4E5C675E0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0B966-E945-4436-A7D9-6857E31A8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63F1C-1300-4FCC-A5FF-23BAEA656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438CB-EB6E-4BA7-88A4-19F3365E1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3F59E-B79A-4F75-93AA-8A3515020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E8B60-87BA-45A5-8023-6E178D76A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ACCB6-7B8E-4797-8D97-8A39AFB88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4D6A9-EACF-45D9-9C2E-61A732AE5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0B037-A921-4B8B-9F72-BC9851A11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298D7-6D43-4B67-ACCD-288315DF8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E71EA-D719-4FE7-B7EA-7664152D918D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51E9A-2B5D-46B3-8AF2-C511DC8ECC9C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chart" Target="../charts/chart1.xml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26920" y="1484280"/>
            <a:ext cx="77724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e5ffff"/>
                </a:solidFill>
                <a:latin typeface="Tahoma"/>
              </a:rPr>
              <a:t>POLITICAS DE FOMENTO E INOVACION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Alejandro Ferreir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0" y="189000"/>
          <a:ext cx="9144000" cy="1800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89000"/>
                    <a:ext cx="9144000" cy="180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592280" y="5148360"/>
            <a:ext cx="5927760" cy="466560"/>
          </a:xfrm>
          <a:prstGeom prst="rightArrow">
            <a:avLst>
              <a:gd name="adj1" fmla="val 68028"/>
              <a:gd name="adj2" fmla="val 137464"/>
            </a:avLst>
          </a:prstGeom>
          <a:solidFill>
            <a:srgbClr val="eaeaea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79600" y="618840"/>
            <a:ext cx="7035840" cy="5763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2480" bIns="42480" anchor="t">
            <a:noAutofit/>
          </a:bodyPr>
          <a:p>
            <a:pPr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8064360"/>
                <a:tab algn="l" pos="9072720"/>
                <a:tab algn="l" pos="10080720"/>
              </a:tabLst>
            </a:pPr>
            <a:r>
              <a:rPr b="0" lang="en-GB" sz="2800" spc="-1" strike="noStrike">
                <a:solidFill>
                  <a:srgbClr val="e5ffff"/>
                </a:solidFill>
                <a:latin typeface="Tahoma"/>
              </a:rPr>
              <a:t>Un mayor esfuerzo en I+D </a:t>
            </a:r>
            <a:r>
              <a:rPr b="0" lang="en-GB" sz="2000" spc="-1" strike="noStrike">
                <a:solidFill>
                  <a:srgbClr val="e5ffff"/>
                </a:solidFill>
                <a:latin typeface="Tahoma"/>
              </a:rPr>
              <a:t>(2)</a:t>
            </a:r>
            <a:r>
              <a:rPr b="0" lang="en-GB" sz="2000" spc="-1" strike="noStrike">
                <a:solidFill>
                  <a:srgbClr val="e5ffff"/>
                </a:solidFill>
                <a:latin typeface="Tahoma"/>
              </a:rPr>
              <a:t>‏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2" name=""/>
          <p:cNvSpPr/>
          <p:nvPr/>
        </p:nvSpPr>
        <p:spPr>
          <a:xfrm>
            <a:off x="1477800" y="1371600"/>
            <a:ext cx="688032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>
              <a:lnSpc>
                <a:spcPct val="75000"/>
              </a:lnSpc>
              <a:spcBef>
                <a:spcPts val="414"/>
              </a:spcBef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424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Ya no basta con afirmar que los países ricos invierten más en I+D porque son ricos… son, y serán ricos, porque invierten más en I+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465200" y="5837400"/>
            <a:ext cx="608652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noAutofit/>
          </a:bodyPr>
          <a:p>
            <a:pPr marL="309600" indent="-309600">
              <a:lnSpc>
                <a:spcPct val="93000"/>
              </a:lnSpc>
              <a:spcBef>
                <a:spcPts val="275"/>
              </a:spcBef>
              <a:buClr>
                <a:srgbClr val="000000"/>
              </a:buClr>
              <a:buFont typeface="Trebuchet MS"/>
              <a:buChar char="•"/>
              <a:tabLst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La inversión pública se debe duplicar (hasta 0,9 % del PIB)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09600" indent="-309600">
              <a:lnSpc>
                <a:spcPct val="93000"/>
              </a:lnSpc>
              <a:spcBef>
                <a:spcPts val="275"/>
              </a:spcBef>
              <a:buClr>
                <a:srgbClr val="000000"/>
              </a:buClr>
              <a:buFont typeface="Trebuchet MS"/>
              <a:buChar char="•"/>
              <a:tabLst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Los privados deben quintuplicar su esfuerzo hasta 1,4 % del PIB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1589040" y="4419720"/>
            <a:ext cx="665280" cy="759960"/>
            <a:chOff x="1589040" y="4419720"/>
            <a:chExt cx="665280" cy="759960"/>
          </a:xfrm>
        </p:grpSpPr>
        <p:sp>
          <p:nvSpPr>
            <p:cNvPr id="235" name=""/>
            <p:cNvSpPr/>
            <p:nvPr/>
          </p:nvSpPr>
          <p:spPr>
            <a:xfrm>
              <a:off x="1589040" y="4419720"/>
              <a:ext cx="665280" cy="360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589040" y="4464360"/>
              <a:ext cx="665280" cy="2685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589040" y="4748760"/>
              <a:ext cx="665280" cy="43092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6130800" y="2836800"/>
            <a:ext cx="669600" cy="2343240"/>
            <a:chOff x="6130800" y="2836800"/>
            <a:chExt cx="669600" cy="2343240"/>
          </a:xfrm>
        </p:grpSpPr>
        <p:sp>
          <p:nvSpPr>
            <p:cNvPr id="239" name=""/>
            <p:cNvSpPr/>
            <p:nvPr/>
          </p:nvSpPr>
          <p:spPr>
            <a:xfrm>
              <a:off x="6131880" y="4316400"/>
              <a:ext cx="665640" cy="86364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134760" y="2955960"/>
              <a:ext cx="665640" cy="13485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130800" y="2836800"/>
              <a:ext cx="665280" cy="1080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1487520" y="5272200"/>
            <a:ext cx="8697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 algn="ctr">
              <a:lnSpc>
                <a:spcPct val="75000"/>
              </a:lnSpc>
              <a:spcBef>
                <a:spcPts val="675"/>
              </a:spcBef>
              <a:tabLst>
                <a:tab algn="l" pos="0"/>
                <a:tab algn="l" pos="65736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Arial"/>
              </a:rPr>
              <a:t>2006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021360" y="5283360"/>
            <a:ext cx="87012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 algn="ctr">
              <a:lnSpc>
                <a:spcPct val="75000"/>
              </a:lnSpc>
              <a:spcBef>
                <a:spcPts val="675"/>
              </a:spcBef>
              <a:tabLst>
                <a:tab algn="l" pos="0"/>
                <a:tab algn="l" pos="65736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Arial"/>
              </a:rPr>
              <a:t>2020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438800" y="6572160"/>
            <a:ext cx="8697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 algn="ctr">
              <a:lnSpc>
                <a:spcPct val="75000"/>
              </a:lnSpc>
              <a:spcBef>
                <a:spcPts val="675"/>
              </a:spcBef>
              <a:tabLst>
                <a:tab algn="l" pos="0"/>
                <a:tab algn="l" pos="65736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2004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500120" y="2068560"/>
            <a:ext cx="3200400" cy="42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Inversión en I+D en Chile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(% del PIB)</a:t>
            </a: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535040" y="4135320"/>
            <a:ext cx="85104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 algn="ctr">
              <a:lnSpc>
                <a:spcPct val="75000"/>
              </a:lnSpc>
              <a:spcBef>
                <a:spcPts val="913"/>
              </a:spcBef>
              <a:tabLst>
                <a:tab algn="l" pos="0"/>
                <a:tab algn="l" pos="65736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0,68%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916600" y="2444760"/>
            <a:ext cx="1098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 algn="ctr">
              <a:lnSpc>
                <a:spcPct val="75000"/>
              </a:lnSpc>
              <a:spcBef>
                <a:spcPts val="1363"/>
              </a:spcBef>
              <a:tabLst>
                <a:tab algn="l" pos="0"/>
                <a:tab algn="l" pos="65736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2,3%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240680" y="4529160"/>
            <a:ext cx="174600" cy="18108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240680" y="4768920"/>
            <a:ext cx="174600" cy="1810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240680" y="5006880"/>
            <a:ext cx="174600" cy="1825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445160" y="4468680"/>
            <a:ext cx="6382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2480" bIns="42480" anchor="t">
            <a:spAutoFit/>
          </a:bodyPr>
          <a:p>
            <a:pPr>
              <a:lnSpc>
                <a:spcPct val="93000"/>
              </a:lnSpc>
              <a:spcBef>
                <a:spcPts val="476"/>
              </a:spcBef>
              <a:tabLst>
                <a:tab algn="l" pos="0"/>
                <a:tab algn="l" pos="65736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Público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476"/>
              </a:spcBef>
              <a:tabLst>
                <a:tab algn="l" pos="0"/>
                <a:tab algn="l" pos="65736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Privado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476"/>
              </a:spcBef>
              <a:tabLst>
                <a:tab algn="l" pos="0"/>
                <a:tab algn="l" pos="65736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Otros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589720" y="4660920"/>
            <a:ext cx="58572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 algn="r">
              <a:lnSpc>
                <a:spcPct val="75000"/>
              </a:lnSpc>
              <a:spcBef>
                <a:spcPts val="913"/>
              </a:spcBef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x2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695920" y="3483000"/>
            <a:ext cx="49536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 algn="r">
              <a:lnSpc>
                <a:spcPct val="75000"/>
              </a:lnSpc>
              <a:spcBef>
                <a:spcPts val="913"/>
              </a:spcBef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x5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249640" y="4325760"/>
            <a:ext cx="3898800" cy="432000"/>
          </a:xfrm>
          <a:custGeom>
            <a:avLst/>
            <a:gdLst/>
            <a:ahLst/>
            <a:rect l="l" t="t" r="r" b="b"/>
            <a:pathLst>
              <a:path w="11940" h="1324">
                <a:moveTo>
                  <a:pt x="0" y="1323"/>
                </a:moveTo>
                <a:lnTo>
                  <a:pt x="11939" y="0"/>
                </a:lnTo>
              </a:path>
            </a:pathLst>
          </a:custGeom>
          <a:noFill/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262240" y="2967120"/>
            <a:ext cx="3886200" cy="1498680"/>
          </a:xfrm>
          <a:custGeom>
            <a:avLst/>
            <a:gdLst/>
            <a:ahLst/>
            <a:rect l="l" t="t" r="r" b="b"/>
            <a:pathLst>
              <a:path w="11901" h="4590">
                <a:moveTo>
                  <a:pt x="0" y="4589"/>
                </a:moveTo>
                <a:lnTo>
                  <a:pt x="11900" y="0"/>
                </a:lnTo>
              </a:path>
            </a:pathLst>
          </a:cu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66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479240" y="599760"/>
            <a:ext cx="6985080" cy="5223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2480" bIns="42480" anchor="t">
            <a:noAutofit/>
          </a:bodyPr>
          <a:p>
            <a:pPr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8064360"/>
                <a:tab algn="l" pos="9072720"/>
                <a:tab algn="l" pos="10080720"/>
              </a:tabLst>
            </a:pPr>
            <a:r>
              <a:rPr b="0" lang="en-GB" sz="2400" spc="-1" strike="noStrike">
                <a:solidFill>
                  <a:srgbClr val="e5ffff"/>
                </a:solidFill>
                <a:latin typeface="Tahoma"/>
              </a:rPr>
              <a:t>Las brechas en educación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461960" y="1383840"/>
            <a:ext cx="6842160" cy="12826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2480" bIns="42480" anchor="t">
            <a:normAutofit/>
          </a:bodyPr>
          <a:p>
            <a:pPr marL="378000" indent="-378000">
              <a:lnSpc>
                <a:spcPct val="75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8064360"/>
                <a:tab algn="l" pos="9072720"/>
                <a:tab algn="l" pos="1008072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ivel educacional promedio de nuestra fuerza de trabajo está por debajo de lo que corresponde por nuestro nivel de ingreso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78000" indent="-378000">
              <a:lnSpc>
                <a:spcPct val="75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8064360"/>
                <a:tab algn="l" pos="9072720"/>
                <a:tab algn="l" pos="1008072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Existe un fuerte déficit de cobertura en educación terciaria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7800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8064360"/>
                <a:tab algn="l" pos="9072720"/>
                <a:tab algn="l" pos="1008072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8" name=""/>
          <p:cNvSpPr/>
          <p:nvPr/>
        </p:nvSpPr>
        <p:spPr>
          <a:xfrm>
            <a:off x="1603440" y="5997600"/>
            <a:ext cx="5180040" cy="360"/>
          </a:xfrm>
          <a:custGeom>
            <a:avLst/>
            <a:gdLst/>
            <a:ahLst/>
            <a:rect l="l" t="t" r="r" b="b"/>
            <a:pathLst>
              <a:path w="15867" h="1">
                <a:moveTo>
                  <a:pt x="0" y="0"/>
                </a:moveTo>
                <a:lnTo>
                  <a:pt x="15866" y="0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598760" y="3332160"/>
            <a:ext cx="1440" cy="2660760"/>
          </a:xfrm>
          <a:custGeom>
            <a:avLst/>
            <a:gdLst/>
            <a:ahLst/>
            <a:rect l="l" t="t" r="r" b="b"/>
            <a:pathLst>
              <a:path w="1" h="8143">
                <a:moveTo>
                  <a:pt x="0" y="8142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757520" y="5510160"/>
            <a:ext cx="323640" cy="47952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625840" y="5075280"/>
            <a:ext cx="323640" cy="91440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463920" y="5380200"/>
            <a:ext cx="325440" cy="60948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302000" y="5307120"/>
            <a:ext cx="324000" cy="68256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129280" y="5380200"/>
            <a:ext cx="323640" cy="60948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952960" y="5248440"/>
            <a:ext cx="324000" cy="74124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104920" y="5016600"/>
            <a:ext cx="324000" cy="97308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973240" y="3971880"/>
            <a:ext cx="324000" cy="2017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522680"/>
            <a:ext cx="323640" cy="14670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51200" y="4654440"/>
            <a:ext cx="324000" cy="133524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5475240" y="4262400"/>
            <a:ext cx="324000" cy="172728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299280" y="4334040"/>
            <a:ext cx="323640" cy="165564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492200" y="2695680"/>
            <a:ext cx="554688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>
              <a:lnSpc>
                <a:spcPct val="75000"/>
              </a:lnSpc>
              <a:spcBef>
                <a:spcPts val="913"/>
              </a:spcBef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Porcentaje de matrícula en educación terciaria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1674720" y="3379680"/>
            <a:ext cx="1130400" cy="309600"/>
            <a:chOff x="1674720" y="3379680"/>
            <a:chExt cx="1130400" cy="309600"/>
          </a:xfrm>
        </p:grpSpPr>
        <p:sp>
          <p:nvSpPr>
            <p:cNvPr id="274" name=""/>
            <p:cNvSpPr/>
            <p:nvPr/>
          </p:nvSpPr>
          <p:spPr>
            <a:xfrm>
              <a:off x="1907280" y="3382200"/>
              <a:ext cx="290520" cy="136080"/>
            </a:xfrm>
            <a:prstGeom prst="rect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275560" y="3379680"/>
              <a:ext cx="290520" cy="13608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674720" y="3501360"/>
              <a:ext cx="1130400" cy="18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1720" rIns="81720" tIns="42480" bIns="42480" anchor="t">
              <a:spAutoFit/>
            </a:bodyPr>
            <a:p>
              <a:pPr algn="ctr">
                <a:lnSpc>
                  <a:spcPct val="75000"/>
                </a:lnSpc>
                <a:spcBef>
                  <a:spcPts val="561"/>
                </a:spcBef>
                <a:tabLst>
                  <a:tab algn="l" pos="0"/>
                  <a:tab algn="l" pos="657360"/>
                  <a:tab algn="l" pos="816120"/>
                  <a:tab algn="l" pos="1224000"/>
                  <a:tab algn="l" pos="1631880"/>
                  <a:tab algn="l" pos="2039760"/>
                  <a:tab algn="l" pos="2448000"/>
                  <a:tab algn="l" pos="2855880"/>
                  <a:tab algn="l" pos="3263760"/>
                  <a:tab algn="l" pos="3672000"/>
                  <a:tab algn="l" pos="4079880"/>
                  <a:tab algn="l" pos="4487760"/>
                  <a:tab algn="l" pos="4896000"/>
                  <a:tab algn="l" pos="5303880"/>
                  <a:tab algn="l" pos="5711760"/>
                  <a:tab algn="l" pos="6119640"/>
                  <a:tab algn="l" pos="6527880"/>
                  <a:tab algn="l" pos="6935760"/>
                  <a:tab algn="l" pos="7343640"/>
                  <a:tab algn="l" pos="7751880"/>
                  <a:tab algn="l" pos="8159760"/>
                  <a:tab algn="l" pos="856764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Arial"/>
                </a:rPr>
                <a:t>1991  2004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7" name=""/>
          <p:cNvSpPr/>
          <p:nvPr/>
        </p:nvSpPr>
        <p:spPr>
          <a:xfrm>
            <a:off x="1560600" y="6072120"/>
            <a:ext cx="522432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>
              <a:lnSpc>
                <a:spcPct val="75000"/>
              </a:lnSpc>
              <a:spcBef>
                <a:spcPts val="675"/>
              </a:spcBef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GB" sz="1100" spc="-1" strike="noStrike">
                <a:solidFill>
                  <a:srgbClr val="000000"/>
                </a:solidFill>
                <a:latin typeface="Arial"/>
              </a:rPr>
              <a:t>Chile           Corea        Estonia        Irlanda       Letonia      Lituania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704960" y="5500800"/>
            <a:ext cx="4287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 algn="ctr">
              <a:lnSpc>
                <a:spcPct val="75000"/>
              </a:lnSpc>
              <a:spcBef>
                <a:spcPts val="675"/>
              </a:spcBef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1" lang="en-GB" sz="1100" spc="-1" strike="noStrike">
                <a:solidFill>
                  <a:srgbClr val="ffffff"/>
                </a:solidFill>
                <a:latin typeface="Arial"/>
              </a:rPr>
              <a:t>21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8840" y="5035680"/>
            <a:ext cx="4287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 algn="ctr">
              <a:lnSpc>
                <a:spcPct val="75000"/>
              </a:lnSpc>
              <a:spcBef>
                <a:spcPts val="675"/>
              </a:spcBef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1" lang="en-GB" sz="1100" spc="-1" strike="noStrike">
                <a:solidFill>
                  <a:srgbClr val="ffffff"/>
                </a:solidFill>
                <a:latin typeface="Arial"/>
              </a:rPr>
              <a:t>43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583000" y="5111640"/>
            <a:ext cx="430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 algn="ctr">
              <a:lnSpc>
                <a:spcPct val="75000"/>
              </a:lnSpc>
              <a:spcBef>
                <a:spcPts val="675"/>
              </a:spcBef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1" lang="en-GB" sz="1100" spc="-1" strike="noStrike">
                <a:solidFill>
                  <a:srgbClr val="ffffff"/>
                </a:solidFill>
                <a:latin typeface="Arial"/>
              </a:rPr>
              <a:t>39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906640" y="3987720"/>
            <a:ext cx="4287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 algn="ctr">
              <a:lnSpc>
                <a:spcPct val="75000"/>
              </a:lnSpc>
              <a:spcBef>
                <a:spcPts val="675"/>
              </a:spcBef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1" lang="en-GB" sz="1100" spc="-1" strike="noStrike">
                <a:solidFill>
                  <a:srgbClr val="ffffff"/>
                </a:solidFill>
                <a:latin typeface="Arial"/>
              </a:rPr>
              <a:t>89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419640" y="5389560"/>
            <a:ext cx="430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 algn="ctr">
              <a:lnSpc>
                <a:spcPct val="75000"/>
              </a:lnSpc>
              <a:spcBef>
                <a:spcPts val="675"/>
              </a:spcBef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1" lang="en-GB" sz="1100" spc="-1" strike="noStrike">
                <a:solidFill>
                  <a:srgbClr val="ffffff"/>
                </a:solidFill>
                <a:latin typeface="Arial"/>
              </a:rPr>
              <a:t>26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763800" y="4549680"/>
            <a:ext cx="4287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 algn="ctr">
              <a:lnSpc>
                <a:spcPct val="75000"/>
              </a:lnSpc>
              <a:spcBef>
                <a:spcPts val="675"/>
              </a:spcBef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1" lang="en-GB" sz="1100" spc="-1" strike="noStrike">
                <a:solidFill>
                  <a:srgbClr val="ffffff"/>
                </a:solidFill>
                <a:latin typeface="Arial"/>
              </a:rPr>
              <a:t>65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4238640" y="5340240"/>
            <a:ext cx="430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 algn="ctr">
              <a:lnSpc>
                <a:spcPct val="75000"/>
              </a:lnSpc>
              <a:spcBef>
                <a:spcPts val="675"/>
              </a:spcBef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1" lang="en-GB" sz="1100" spc="-1" strike="noStrike">
                <a:solidFill>
                  <a:srgbClr val="ffffff"/>
                </a:solidFill>
                <a:latin typeface="Arial"/>
              </a:rPr>
              <a:t>29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583160" y="4673520"/>
            <a:ext cx="430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 algn="ctr">
              <a:lnSpc>
                <a:spcPct val="75000"/>
              </a:lnSpc>
              <a:spcBef>
                <a:spcPts val="675"/>
              </a:spcBef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1" lang="en-GB" sz="1100" spc="-1" strike="noStrike">
                <a:solidFill>
                  <a:srgbClr val="ffffff"/>
                </a:solidFill>
                <a:latin typeface="Arial"/>
              </a:rPr>
              <a:t>59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5078520" y="5397480"/>
            <a:ext cx="430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 algn="ctr">
              <a:lnSpc>
                <a:spcPct val="75000"/>
              </a:lnSpc>
              <a:spcBef>
                <a:spcPts val="675"/>
              </a:spcBef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1" lang="en-GB" sz="1100" spc="-1" strike="noStrike">
                <a:solidFill>
                  <a:srgbClr val="ffffff"/>
                </a:solidFill>
                <a:latin typeface="Arial"/>
              </a:rPr>
              <a:t>26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5411880" y="4292640"/>
            <a:ext cx="4284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 algn="ctr">
              <a:lnSpc>
                <a:spcPct val="75000"/>
              </a:lnSpc>
              <a:spcBef>
                <a:spcPts val="675"/>
              </a:spcBef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1" lang="en-GB" sz="1100" spc="-1" strike="noStrike">
                <a:solidFill>
                  <a:srgbClr val="ffffff"/>
                </a:solidFill>
                <a:latin typeface="Arial"/>
              </a:rPr>
              <a:t>76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5907240" y="5292720"/>
            <a:ext cx="4284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 algn="ctr">
              <a:lnSpc>
                <a:spcPct val="75000"/>
              </a:lnSpc>
              <a:spcBef>
                <a:spcPts val="675"/>
              </a:spcBef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1" lang="en-GB" sz="1100" spc="-1" strike="noStrike">
                <a:solidFill>
                  <a:srgbClr val="ffffff"/>
                </a:solidFill>
                <a:latin typeface="Arial"/>
              </a:rPr>
              <a:t>33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249960" y="4378320"/>
            <a:ext cx="4287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 algn="ctr">
              <a:lnSpc>
                <a:spcPct val="75000"/>
              </a:lnSpc>
              <a:spcBef>
                <a:spcPts val="675"/>
              </a:spcBef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1" lang="en-GB" sz="1100" spc="-1" strike="noStrike">
                <a:solidFill>
                  <a:srgbClr val="ffffff"/>
                </a:solidFill>
                <a:latin typeface="Arial"/>
              </a:rPr>
              <a:t>73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1098720" y="3219480"/>
            <a:ext cx="73332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 algn="ctr">
              <a:lnSpc>
                <a:spcPct val="75000"/>
              </a:lnSpc>
              <a:spcBef>
                <a:spcPts val="561"/>
              </a:spcBef>
              <a:tabLst>
                <a:tab algn="l" pos="0"/>
                <a:tab algn="l" pos="65736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561"/>
              </a:spcBef>
              <a:tabLst>
                <a:tab algn="l" pos="0"/>
                <a:tab algn="l" pos="65736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0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" dur="5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" dur="5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9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2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5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8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1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7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2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5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8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1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4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7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76000" y="604800"/>
            <a:ext cx="6156360" cy="6573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2480" bIns="42480" anchor="t">
            <a:noAutofit/>
          </a:bodyPr>
          <a:p>
            <a:pPr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2400" spc="-1" strike="noStrike">
                <a:solidFill>
                  <a:srgbClr val="e5ffff"/>
                </a:solidFill>
                <a:latin typeface="Tahoma"/>
              </a:rPr>
              <a:t>¿Está preparado Chile para este desafío?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44320" y="1432080"/>
            <a:ext cx="6783480" cy="12268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2480" bIns="42480" anchor="t">
            <a:normAutofit/>
          </a:bodyPr>
          <a:p>
            <a:pPr marL="378000" indent="-378000">
              <a:lnSpc>
                <a:spcPct val="75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8064360"/>
                <a:tab algn="l" pos="9072720"/>
                <a:tab algn="l" pos="1008072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El año  2007 Chile ocupó el lugar 26 en el ranking de competitividad global del Foro Económico Mundia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7800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8064360"/>
                <a:tab algn="l" pos="9072720"/>
                <a:tab algn="l" pos="1008072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78000" indent="-378000">
              <a:lnSpc>
                <a:spcPct val="75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8064360"/>
                <a:tab algn="l" pos="9072720"/>
                <a:tab algn="l" pos="1008072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in embargo, urge superar algunas debilidades que afectan con especial fuerza a la innovación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3" name=""/>
          <p:cNvSpPr/>
          <p:nvPr/>
        </p:nvSpPr>
        <p:spPr>
          <a:xfrm>
            <a:off x="3886200" y="3868560"/>
            <a:ext cx="382680" cy="216000"/>
          </a:xfrm>
          <a:prstGeom prst="rect">
            <a:avLst/>
          </a:prstGeom>
          <a:solidFill>
            <a:srgbClr val="33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886200" y="4121280"/>
            <a:ext cx="1257480" cy="215640"/>
          </a:xfrm>
          <a:prstGeom prst="rect">
            <a:avLst/>
          </a:prstGeom>
          <a:solidFill>
            <a:srgbClr val="33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886200" y="4373640"/>
            <a:ext cx="1320840" cy="216000"/>
          </a:xfrm>
          <a:prstGeom prst="rect">
            <a:avLst/>
          </a:prstGeom>
          <a:solidFill>
            <a:srgbClr val="33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886200" y="4626000"/>
            <a:ext cx="1576440" cy="216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886200" y="4879800"/>
            <a:ext cx="1828800" cy="2160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5130720"/>
            <a:ext cx="1841400" cy="2160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886200" y="5383080"/>
            <a:ext cx="2031840" cy="2160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86200" y="5635800"/>
            <a:ext cx="2095560" cy="21564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3886200" y="5888160"/>
            <a:ext cx="2946240" cy="21744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3862440" y="6154560"/>
            <a:ext cx="3441600" cy="1800"/>
          </a:xfrm>
          <a:custGeom>
            <a:avLst/>
            <a:gdLst/>
            <a:ahLst/>
            <a:rect l="l" t="t" r="r" b="b"/>
            <a:pathLst>
              <a:path w="10540" h="1">
                <a:moveTo>
                  <a:pt x="0" y="0"/>
                </a:moveTo>
                <a:lnTo>
                  <a:pt x="10539" y="0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849840" y="3678120"/>
            <a:ext cx="1440" cy="2476440"/>
          </a:xfrm>
          <a:custGeom>
            <a:avLst/>
            <a:gdLst/>
            <a:ahLst/>
            <a:rect l="l" t="t" r="r" b="b"/>
            <a:pathLst>
              <a:path w="1" h="7584">
                <a:moveTo>
                  <a:pt x="0" y="7583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7335000" y="6111720"/>
            <a:ext cx="82404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2480" bIns="4248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65736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Posición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65736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en el ranking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09880" y="6162840"/>
            <a:ext cx="228240" cy="18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2480" bIns="42480" anchor="t">
            <a:spAutoFit/>
          </a:bodyPr>
          <a:p>
            <a:pPr algn="ctr">
              <a:lnSpc>
                <a:spcPct val="75000"/>
              </a:lnSpc>
              <a:spcBef>
                <a:spcPts val="224"/>
              </a:spcBef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6844320" y="6162840"/>
            <a:ext cx="292320" cy="18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2480" bIns="42480" anchor="t">
            <a:spAutoFit/>
          </a:bodyPr>
          <a:p>
            <a:pPr algn="ctr">
              <a:lnSpc>
                <a:spcPct val="75000"/>
              </a:lnSpc>
              <a:spcBef>
                <a:spcPts val="224"/>
              </a:spcBef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1527840" y="3824280"/>
            <a:ext cx="2203200" cy="22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2480" bIns="42480" anchor="t">
            <a:spAutoFit/>
          </a:bodyPr>
          <a:p>
            <a:pPr algn="r">
              <a:lnSpc>
                <a:spcPct val="75000"/>
              </a:lnSpc>
              <a:spcBef>
                <a:spcPts val="550"/>
              </a:spcBef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Macroeconomía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75000"/>
              </a:lnSpc>
              <a:spcBef>
                <a:spcPts val="638"/>
              </a:spcBef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Eficiencia de los mercados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75000"/>
              </a:lnSpc>
              <a:spcBef>
                <a:spcPts val="550"/>
              </a:spcBef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Instituciones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75000"/>
              </a:lnSpc>
              <a:spcBef>
                <a:spcPts val="711"/>
              </a:spcBef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Sofisticación de negocios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75000"/>
              </a:lnSpc>
              <a:spcBef>
                <a:spcPts val="638"/>
              </a:spcBef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Infraestructura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75000"/>
              </a:lnSpc>
              <a:spcBef>
                <a:spcPts val="638"/>
              </a:spcBef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Preparación tecnológica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75000"/>
              </a:lnSpc>
              <a:spcBef>
                <a:spcPts val="638"/>
              </a:spcBef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Innovación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75000"/>
              </a:lnSpc>
              <a:spcBef>
                <a:spcPts val="638"/>
              </a:spcBef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Ed. Superior y Capacitación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75000"/>
              </a:lnSpc>
              <a:spcBef>
                <a:spcPts val="638"/>
              </a:spcBef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Salud y Ed. Primaria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75000"/>
              </a:lnSpc>
              <a:spcBef>
                <a:spcPts val="312"/>
              </a:spcBef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4044600" y="3857760"/>
            <a:ext cx="24192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2480" bIns="42480" anchor="t">
            <a:spAutoFit/>
          </a:bodyPr>
          <a:p>
            <a:pPr algn="ctr">
              <a:lnSpc>
                <a:spcPct val="75000"/>
              </a:lnSpc>
              <a:spcBef>
                <a:spcPts val="275"/>
              </a:spcBef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1" lang="en-GB" sz="11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850280" y="4116240"/>
            <a:ext cx="319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2480" bIns="42480" anchor="t">
            <a:spAutoFit/>
          </a:bodyPr>
          <a:p>
            <a:pPr algn="ctr">
              <a:lnSpc>
                <a:spcPct val="75000"/>
              </a:lnSpc>
              <a:spcBef>
                <a:spcPts val="275"/>
              </a:spcBef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1" lang="en-GB" sz="1100" spc="-1" strike="noStrike">
                <a:solidFill>
                  <a:srgbClr val="ffffff"/>
                </a:solidFill>
                <a:latin typeface="Arial"/>
              </a:rPr>
              <a:t>24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901040" y="4370400"/>
            <a:ext cx="319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2480" bIns="42480" anchor="t">
            <a:spAutoFit/>
          </a:bodyPr>
          <a:p>
            <a:pPr algn="ctr">
              <a:lnSpc>
                <a:spcPct val="75000"/>
              </a:lnSpc>
              <a:spcBef>
                <a:spcPts val="275"/>
              </a:spcBef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1" lang="en-GB" sz="1100" spc="-1" strike="noStrike">
                <a:solidFill>
                  <a:srgbClr val="ffffff"/>
                </a:solidFill>
                <a:latin typeface="Arial"/>
              </a:rPr>
              <a:t>25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193000" y="4624560"/>
            <a:ext cx="319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2480" bIns="42480" anchor="t">
            <a:spAutoFit/>
          </a:bodyPr>
          <a:p>
            <a:pPr algn="ctr">
              <a:lnSpc>
                <a:spcPct val="75000"/>
              </a:lnSpc>
              <a:spcBef>
                <a:spcPts val="275"/>
              </a:spcBef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1" lang="en-GB" sz="11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5420880" y="4879800"/>
            <a:ext cx="319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2480" bIns="42480" anchor="t">
            <a:spAutoFit/>
          </a:bodyPr>
          <a:p>
            <a:pPr algn="ctr">
              <a:lnSpc>
                <a:spcPct val="75000"/>
              </a:lnSpc>
              <a:spcBef>
                <a:spcPts val="275"/>
              </a:spcBef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1" lang="en-GB" sz="1100" spc="-1" strike="noStrike">
                <a:solidFill>
                  <a:srgbClr val="ffffff"/>
                </a:solidFill>
                <a:latin typeface="Arial"/>
              </a:rPr>
              <a:t>35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5413680" y="5126040"/>
            <a:ext cx="319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2480" bIns="42480" anchor="t">
            <a:spAutoFit/>
          </a:bodyPr>
          <a:p>
            <a:pPr algn="ctr">
              <a:lnSpc>
                <a:spcPct val="75000"/>
              </a:lnSpc>
              <a:spcBef>
                <a:spcPts val="275"/>
              </a:spcBef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1" lang="en-GB" sz="1100" spc="-1" strike="noStrike">
                <a:solidFill>
                  <a:srgbClr val="ffffff"/>
                </a:solidFill>
                <a:latin typeface="Arial"/>
              </a:rPr>
              <a:t>35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5603400" y="5378400"/>
            <a:ext cx="319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2480" bIns="42480" anchor="t">
            <a:spAutoFit/>
          </a:bodyPr>
          <a:p>
            <a:pPr algn="ctr">
              <a:lnSpc>
                <a:spcPct val="75000"/>
              </a:lnSpc>
              <a:spcBef>
                <a:spcPts val="275"/>
              </a:spcBef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1" lang="en-GB" sz="1100" spc="-1" strike="noStrike">
                <a:solidFill>
                  <a:srgbClr val="ffffff"/>
                </a:solidFill>
                <a:latin typeface="Arial"/>
              </a:rPr>
              <a:t>39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5680440" y="5632560"/>
            <a:ext cx="319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2480" bIns="42480" anchor="t">
            <a:spAutoFit/>
          </a:bodyPr>
          <a:p>
            <a:pPr algn="ctr">
              <a:lnSpc>
                <a:spcPct val="75000"/>
              </a:lnSpc>
              <a:spcBef>
                <a:spcPts val="275"/>
              </a:spcBef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1" lang="en-GB" sz="1100" spc="-1" strike="noStrike">
                <a:solidFill>
                  <a:srgbClr val="ffffff"/>
                </a:solidFill>
                <a:latin typeface="Arial"/>
              </a:rPr>
              <a:t>40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6517800" y="5886360"/>
            <a:ext cx="319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2480" bIns="42480" anchor="t">
            <a:spAutoFit/>
          </a:bodyPr>
          <a:p>
            <a:pPr algn="ctr">
              <a:lnSpc>
                <a:spcPct val="75000"/>
              </a:lnSpc>
              <a:spcBef>
                <a:spcPts val="275"/>
              </a:spcBef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1" lang="en-GB" sz="1100" spc="-1" strike="noStrike">
                <a:solidFill>
                  <a:srgbClr val="ffffff"/>
                </a:solidFill>
                <a:latin typeface="Arial"/>
              </a:rPr>
              <a:t>57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490760" y="2814480"/>
            <a:ext cx="610560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Desempeño de Chile en el ranking de Competitividad Global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del Foro Económico Mundial (WEF)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261600" y="3449520"/>
            <a:ext cx="612360" cy="18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2480" bIns="42480" anchor="t">
            <a:spAutoFit/>
          </a:bodyPr>
          <a:p>
            <a:pPr algn="r">
              <a:lnSpc>
                <a:spcPct val="75000"/>
              </a:lnSpc>
              <a:spcBef>
                <a:spcPts val="224"/>
              </a:spcBef>
              <a:tabLst>
                <a:tab algn="l" pos="0"/>
                <a:tab algn="l" pos="65736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Factore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" dur="500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7" dur="500"/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2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1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4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7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0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1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4" dur="500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7" dur="500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0" dur="500"/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25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8" dur="500"/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33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36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39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42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45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8" dur="500"/>
                                        <p:tgtEl>
                                          <p:spTgt spid="3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1" dur="500"/>
                                        <p:tgtEl>
                                          <p:spTgt spid="3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4" dur="500"/>
                                        <p:tgtEl>
                                          <p:spTgt spid="3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7" dur="500"/>
                                        <p:tgtEl>
                                          <p:spTgt spid="3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0" dur="500"/>
                                        <p:tgtEl>
                                          <p:spTgt spid="3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387000"/>
            <a:ext cx="823284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072720"/>
                <a:tab algn="l" pos="10080720"/>
              </a:tabLst>
            </a:pPr>
            <a:r>
              <a:rPr b="0" lang="en-GB" sz="4400" spc="-1" strike="noStrike">
                <a:solidFill>
                  <a:srgbClr val="ffd320"/>
                </a:solidFill>
                <a:latin typeface="Tahoma"/>
              </a:rPr>
              <a:t>El nuevo desafío: la innovació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773360"/>
            <a:ext cx="823284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marL="29556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072720"/>
                <a:tab algn="l" pos="1008072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ffcc00"/>
                </a:solidFill>
                <a:latin typeface="Tahoma"/>
              </a:rPr>
              <a:t>Fallas de mercado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556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072720"/>
                <a:tab algn="l" pos="1008072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1) Falta de aprobiabilidad exclusiva del esfuerz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556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072720"/>
                <a:tab algn="l" pos="1008072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2) Dificultades en el acceso al 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financiamiento. “Una idea no sirve de 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garantía”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556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072720"/>
                <a:tab algn="l" pos="1008072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3) Las tasas de fracaso, propias del 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proceso de ensayo y error, suponen un 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riesgo demasiado alto para la inversión 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privada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556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072720"/>
                <a:tab algn="l" pos="1008072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En consecuencia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556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072720"/>
                <a:tab algn="l" pos="1008072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1) La I+D en los países emergentes se da en niveles muy inferiores al socialmente deseabl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556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072720"/>
                <a:tab algn="l" pos="1008072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2) El Estado debe subsidiar si quiere obtener niveles de I+D que favorezcan un desarrollo más acelerad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556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072720"/>
                <a:tab algn="l" pos="1008072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3) El debate entre la neutralidad y la selectivida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556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072720"/>
                <a:tab algn="l" pos="1008072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/>
          <p:nvPr/>
        </p:nvSpPr>
        <p:spPr>
          <a:xfrm>
            <a:off x="457200" y="2318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4240"/>
                <a:tab algn="l" pos="7221600"/>
                <a:tab algn="l" pos="788040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en-GB" sz="2500" spc="-1" strike="noStrike">
                <a:solidFill>
                  <a:srgbClr val="ffd320"/>
                </a:solidFill>
                <a:latin typeface="Arial"/>
              </a:rPr>
              <a:t>Competitividad en Clusters</a:t>
            </a:r>
            <a:br>
              <a:rPr sz="2500"/>
            </a:br>
            <a:r>
              <a:rPr b="1" lang="en-GB" sz="2500" spc="-1" strike="noStrike">
                <a:solidFill>
                  <a:srgbClr val="ffd320"/>
                </a:solidFill>
                <a:latin typeface="Tahoma"/>
              </a:rPr>
              <a:t>Resultados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2"/>
          <a:srcRect l="0" t="8606" r="0" b="0"/>
          <a:stretch/>
        </p:blipFill>
        <p:spPr>
          <a:xfrm>
            <a:off x="0" y="1380960"/>
            <a:ext cx="9144000" cy="5477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6840" y="387000"/>
            <a:ext cx="823284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072720"/>
                <a:tab algn="l" pos="10080720"/>
              </a:tabLst>
            </a:pPr>
            <a:r>
              <a:rPr b="0" lang="en-GB" sz="4400" spc="-1" strike="noStrike">
                <a:solidFill>
                  <a:srgbClr val="ffd320"/>
                </a:solidFill>
                <a:latin typeface="Tahoma"/>
              </a:rPr>
              <a:t>El nuevo desafío: la innovació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6840" y="1976400"/>
            <a:ext cx="8232840" cy="40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33300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072720"/>
                <a:tab algn="l" pos="1008072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Vincular los mundos del conocimiento y del emprendimiento y estimular la investigación aplicad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4680" indent="-276840">
              <a:lnSpc>
                <a:spcPct val="87000"/>
              </a:lnSpc>
              <a:spcBef>
                <a:spcPts val="700"/>
              </a:spcBef>
              <a:buClr>
                <a:srgbClr val="ccecff"/>
              </a:buClr>
              <a:buSzPct val="6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072720"/>
                <a:tab algn="l" pos="1008072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Políticas públicas específica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-225360">
              <a:lnSpc>
                <a:spcPct val="87000"/>
              </a:lnSpc>
              <a:spcBef>
                <a:spcPts val="612"/>
              </a:spcBef>
              <a:buClr>
                <a:srgbClr val="0088e4"/>
              </a:buClr>
              <a:buSzPct val="6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072720"/>
                <a:tab algn="l" pos="1008072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Beneficios tributarios a la I + 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-225360">
              <a:lnSpc>
                <a:spcPct val="87000"/>
              </a:lnSpc>
              <a:spcBef>
                <a:spcPts val="612"/>
              </a:spcBef>
              <a:buClr>
                <a:srgbClr val="0088e4"/>
              </a:buClr>
              <a:buSzPct val="6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072720"/>
                <a:tab algn="l" pos="1008072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Fondos concursab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-225360">
              <a:lnSpc>
                <a:spcPct val="87000"/>
              </a:lnSpc>
              <a:spcBef>
                <a:spcPts val="612"/>
              </a:spcBef>
              <a:buClr>
                <a:srgbClr val="0088e4"/>
              </a:buClr>
              <a:buSzPct val="6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072720"/>
                <a:tab algn="l" pos="1008072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Consorcios tecnológicos (empresas, universidades)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-225360">
              <a:lnSpc>
                <a:spcPct val="87000"/>
              </a:lnSpc>
              <a:spcBef>
                <a:spcPts val="612"/>
              </a:spcBef>
              <a:buClr>
                <a:srgbClr val="0088e4"/>
              </a:buClr>
              <a:buSzPct val="6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072720"/>
                <a:tab algn="l" pos="1008072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Adecuada protección de la propiedad intelectual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4680" indent="-276840">
              <a:lnSpc>
                <a:spcPct val="87000"/>
              </a:lnSpc>
              <a:spcBef>
                <a:spcPts val="700"/>
              </a:spcBef>
              <a:buClr>
                <a:srgbClr val="ccecff"/>
              </a:buClr>
              <a:buSzPct val="6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072720"/>
                <a:tab algn="l" pos="1008072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¿Desafío cultural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6840" y="387000"/>
            <a:ext cx="823284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072720"/>
                <a:tab algn="l" pos="10080720"/>
              </a:tabLst>
            </a:pPr>
            <a:r>
              <a:rPr b="0" lang="en-GB" sz="4400" spc="-1" strike="noStrike">
                <a:solidFill>
                  <a:srgbClr val="ffd320"/>
                </a:solidFill>
                <a:latin typeface="Tahoma"/>
              </a:rPr>
              <a:t> </a:t>
            </a:r>
            <a:r>
              <a:rPr b="0" lang="en-GB" sz="4400" spc="-1" strike="noStrike">
                <a:solidFill>
                  <a:srgbClr val="ffd320"/>
                </a:solidFill>
                <a:latin typeface="Tahoma"/>
              </a:rPr>
              <a:t>El nuevo desafío: la innovació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77480" y="1600200"/>
            <a:ext cx="4500360" cy="488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624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Tolerancia sistémica a la falla: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 Nadie innova a la primera.Revisar leyes de quiebra, evaluación de riesgo de crédito, sistemas de financiamiento. Estimular la falla inteligente y pedagógic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624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Inversión en Investigación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: no es gratis ni espontáne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2080" y="1600200"/>
            <a:ext cx="4016160" cy="46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984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2800" spc="-1" strike="noStrike">
                <a:solidFill>
                  <a:srgbClr val="ffd320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ffd320"/>
                </a:solidFill>
                <a:latin typeface="Tahoma"/>
              </a:rPr>
              <a:t>Gasto en I + D como porcentaje del PIB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30040">
              <a:lnSpc>
                <a:spcPct val="87000"/>
              </a:lnSpc>
              <a:spcBef>
                <a:spcPts val="612"/>
              </a:spcBef>
              <a:buClr>
                <a:srgbClr val="0088e4"/>
              </a:buClr>
              <a:buSzPct val="6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2400" spc="-1" strike="noStrike">
                <a:solidFill>
                  <a:srgbClr val="ffd320"/>
                </a:solidFill>
                <a:latin typeface="Tahoma"/>
              </a:rPr>
              <a:t>OECD: 2,4%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30040">
              <a:lnSpc>
                <a:spcPct val="87000"/>
              </a:lnSpc>
              <a:spcBef>
                <a:spcPts val="612"/>
              </a:spcBef>
              <a:buClr>
                <a:srgbClr val="0088e4"/>
              </a:buClr>
              <a:buSzPct val="6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2400" spc="-1" strike="noStrike">
                <a:solidFill>
                  <a:srgbClr val="ffd320"/>
                </a:solidFill>
                <a:latin typeface="Tahoma"/>
              </a:rPr>
              <a:t>Israel: 4,5%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30040">
              <a:lnSpc>
                <a:spcPct val="87000"/>
              </a:lnSpc>
              <a:spcBef>
                <a:spcPts val="612"/>
              </a:spcBef>
              <a:buClr>
                <a:srgbClr val="0088e4"/>
              </a:buClr>
              <a:buSzPct val="6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2400" spc="-1" strike="noStrike">
                <a:solidFill>
                  <a:srgbClr val="ffd320"/>
                </a:solidFill>
                <a:latin typeface="Tahoma"/>
              </a:rPr>
              <a:t>Chile: 0,7%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30040">
              <a:lnSpc>
                <a:spcPct val="87000"/>
              </a:lnSpc>
              <a:spcBef>
                <a:spcPts val="612"/>
              </a:spcBef>
              <a:buClr>
                <a:srgbClr val="0088e4"/>
              </a:buClr>
              <a:buSzPct val="6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2400" spc="-1" strike="noStrike">
                <a:solidFill>
                  <a:srgbClr val="ffd320"/>
                </a:solidFill>
                <a:latin typeface="Tahoma"/>
              </a:rPr>
              <a:t>Brasil: 1%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30040">
              <a:lnSpc>
                <a:spcPct val="87000"/>
              </a:lnSpc>
              <a:spcBef>
                <a:spcPts val="612"/>
              </a:spcBef>
              <a:buClr>
                <a:srgbClr val="0088e4"/>
              </a:buClr>
              <a:buSzPct val="6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2400" spc="-1" strike="noStrike">
                <a:solidFill>
                  <a:srgbClr val="ffd320"/>
                </a:solidFill>
                <a:latin typeface="Tahoma"/>
              </a:rPr>
              <a:t>Finlandia: 3,5%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0">
              <a:lnSpc>
                <a:spcPct val="87000"/>
              </a:lnSpc>
              <a:spcBef>
                <a:spcPts val="7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2800" spc="-1" strike="noStrike">
                <a:solidFill>
                  <a:srgbClr val="ffd320"/>
                </a:solidFill>
                <a:latin typeface="Tahoma"/>
              </a:rPr>
              <a:t>Inversión en I + D, ¿lujo o necesidad del desarrollo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0">
              <a:lnSpc>
                <a:spcPct val="87000"/>
              </a:lnSpc>
              <a:spcBef>
                <a:spcPts val="7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437760"/>
            <a:ext cx="82328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072720"/>
                <a:tab algn="l" pos="10080720"/>
              </a:tabLst>
            </a:pPr>
            <a:r>
              <a:rPr b="0" lang="en-GB" sz="4400" spc="-1" strike="noStrike">
                <a:solidFill>
                  <a:srgbClr val="ffd320"/>
                </a:solidFill>
                <a:latin typeface="Tahoma"/>
              </a:rPr>
              <a:t> </a:t>
            </a:r>
            <a:r>
              <a:rPr b="0" lang="en-GB" sz="4400" spc="-1" strike="noStrike">
                <a:solidFill>
                  <a:srgbClr val="ffd320"/>
                </a:solidFill>
                <a:latin typeface="Tahoma"/>
              </a:rPr>
              <a:t>El nuevo desafío: la innovació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0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624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072720"/>
                <a:tab algn="l" pos="1008072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La innovación en América Latina requiere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2240" indent="-279720">
              <a:lnSpc>
                <a:spcPct val="87000"/>
              </a:lnSpc>
              <a:spcBef>
                <a:spcPts val="700"/>
              </a:spcBef>
              <a:buClr>
                <a:srgbClr val="ccecff"/>
              </a:buClr>
              <a:buSzPct val="6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072720"/>
                <a:tab algn="l" pos="1008072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Condiciones transversales básicas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7520">
              <a:lnSpc>
                <a:spcPct val="87000"/>
              </a:lnSpc>
              <a:spcBef>
                <a:spcPts val="612"/>
              </a:spcBef>
              <a:buClr>
                <a:srgbClr val="0088e4"/>
              </a:buClr>
              <a:buSzPct val="6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072720"/>
                <a:tab algn="l" pos="1008072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Estabilidad institucional que ofrezca horizontes de planificación de largo plaz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7520">
              <a:lnSpc>
                <a:spcPct val="87000"/>
              </a:lnSpc>
              <a:spcBef>
                <a:spcPts val="612"/>
              </a:spcBef>
              <a:buClr>
                <a:srgbClr val="0088e4"/>
              </a:buClr>
              <a:buSzPct val="6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072720"/>
                <a:tab algn="l" pos="1008072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Infraestructuras físicas e instiuciona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7520">
              <a:lnSpc>
                <a:spcPct val="87000"/>
              </a:lnSpc>
              <a:spcBef>
                <a:spcPts val="612"/>
              </a:spcBef>
              <a:buClr>
                <a:srgbClr val="0088e4"/>
              </a:buClr>
              <a:buSzPct val="6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072720"/>
                <a:tab algn="l" pos="1008072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Capital human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2240" indent="-279720">
              <a:lnSpc>
                <a:spcPct val="87000"/>
              </a:lnSpc>
              <a:spcBef>
                <a:spcPts val="700"/>
              </a:spcBef>
              <a:buClr>
                <a:srgbClr val="ccecff"/>
              </a:buClr>
              <a:buSzPct val="6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072720"/>
                <a:tab algn="l" pos="1008072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Foco: no es posible innovar y ser buenos en todo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7520">
              <a:lnSpc>
                <a:spcPct val="87000"/>
              </a:lnSpc>
              <a:spcBef>
                <a:spcPts val="612"/>
              </a:spcBef>
              <a:buClr>
                <a:srgbClr val="0088e4"/>
              </a:buClr>
              <a:buSzPct val="6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072720"/>
                <a:tab algn="l" pos="1008072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El desafío de la selección inteligente (evitar captura)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7520">
              <a:lnSpc>
                <a:spcPct val="87000"/>
              </a:lnSpc>
              <a:spcBef>
                <a:spcPts val="612"/>
              </a:spcBef>
              <a:buClr>
                <a:srgbClr val="0088e4"/>
              </a:buClr>
              <a:buSzPct val="6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072720"/>
                <a:tab algn="l" pos="1008072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¿En qué áreas se puede ser líder con un esfuerzo marginal abordabl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7520">
              <a:lnSpc>
                <a:spcPct val="87000"/>
              </a:lnSpc>
              <a:spcBef>
                <a:spcPts val="612"/>
              </a:spcBef>
              <a:buClr>
                <a:srgbClr val="0088e4"/>
              </a:buClr>
              <a:buSzPct val="6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072720"/>
                <a:tab algn="l" pos="1008072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Mantener políticas transversales o neutra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6840" y="437760"/>
            <a:ext cx="8232840" cy="7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072720"/>
                <a:tab algn="l" pos="10080720"/>
              </a:tabLst>
            </a:pPr>
            <a:r>
              <a:rPr b="0" lang="en-GB" sz="4000" spc="-1" strike="noStrike">
                <a:solidFill>
                  <a:srgbClr val="ffd320"/>
                </a:solidFill>
                <a:latin typeface="Tahoma"/>
              </a:rPr>
              <a:t>3.- El nuevo desafío: la innovación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468080"/>
            <a:ext cx="822960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9840" indent="-339840">
              <a:lnSpc>
                <a:spcPct val="87000"/>
              </a:lnSpc>
              <a:spcBef>
                <a:spcPts val="799"/>
              </a:spcBef>
              <a:buClr>
                <a:srgbClr val="99ff99"/>
              </a:buClr>
              <a:buSzPct val="65000"/>
              <a:buFont typeface="Wingdings" charset="2"/>
              <a:buChar char="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072720"/>
                <a:tab algn="l" pos="1008072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Eficiencia es necesaria: pero no es suficiente: siempre pueden otros igualar nuestros bajos costo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>
              <a:lnSpc>
                <a:spcPct val="87000"/>
              </a:lnSpc>
              <a:spcBef>
                <a:spcPts val="799"/>
              </a:spcBef>
              <a:buClr>
                <a:srgbClr val="99ff99"/>
              </a:buClr>
              <a:buSzPct val="65000"/>
              <a:buFont typeface="Wingdings" charset="2"/>
              <a:buChar char="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072720"/>
                <a:tab algn="l" pos="1008072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Un aumento sostenido de la PTF (país), y de la competitividad empresarial se puede lograr innovand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>
              <a:lnSpc>
                <a:spcPct val="87000"/>
              </a:lnSpc>
              <a:spcBef>
                <a:spcPts val="799"/>
              </a:spcBef>
              <a:buClr>
                <a:srgbClr val="99ff99"/>
              </a:buClr>
              <a:buSzPct val="65000"/>
              <a:buFont typeface="Wingdings" charset="2"/>
              <a:buChar char="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072720"/>
                <a:tab algn="l" pos="1008072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Innovación empresarial es la transformación de conocimiento en negocio y utilidad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>
              <a:lnSpc>
                <a:spcPct val="87000"/>
              </a:lnSpc>
              <a:spcBef>
                <a:spcPts val="799"/>
              </a:spcBef>
              <a:buClr>
                <a:srgbClr val="99ff99"/>
              </a:buClr>
              <a:buSzPct val="65000"/>
              <a:buFont typeface="Wingdings" charset="2"/>
              <a:buChar char="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072720"/>
                <a:tab algn="l" pos="1008072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Es un cambio cualitativo en procesos, productos o servicio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>
              <a:lnSpc>
                <a:spcPct val="87000"/>
              </a:lnSpc>
              <a:spcBef>
                <a:spcPts val="799"/>
              </a:spcBef>
              <a:buClr>
                <a:srgbClr val="99ff99"/>
              </a:buClr>
              <a:buSzPct val="65000"/>
              <a:buFont typeface="Wingdings" charset="2"/>
              <a:buChar char="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072720"/>
                <a:tab algn="l" pos="1008072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La innovación siempre y sólo se da a nivel empresarial: el Estado favorece condiciones de entorn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846000"/>
            <a:ext cx="9144000" cy="8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4240"/>
                <a:tab algn="l" pos="7221600"/>
                <a:tab algn="l" pos="7880400"/>
                <a:tab algn="l" pos="853452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en-GB" sz="2200" spc="-1" strike="noStrike">
                <a:solidFill>
                  <a:srgbClr val="ff9900"/>
                </a:solidFill>
                <a:latin typeface="Arial"/>
              </a:rPr>
              <a:t>Chile necesita seguir creciendo para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4240"/>
                <a:tab algn="l" pos="7221600"/>
                <a:tab algn="l" pos="7880400"/>
                <a:tab algn="l" pos="853452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en-GB" sz="2900" spc="-1" strike="noStrike">
                <a:solidFill>
                  <a:srgbClr val="ff9900"/>
                </a:solidFill>
                <a:latin typeface="Arial"/>
              </a:rPr>
              <a:t>alcanzar el desarrollo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268200"/>
            <a:ext cx="91440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4240"/>
                <a:tab algn="l" pos="7221600"/>
                <a:tab algn="l" pos="7880400"/>
                <a:tab algn="l" pos="853452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en-GB" sz="2900" spc="-1" strike="noStrike">
                <a:solidFill>
                  <a:srgbClr val="ff9900"/>
                </a:solidFill>
                <a:latin typeface="Arial"/>
              </a:rPr>
              <a:t>Un gran desafío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1040" y="3917880"/>
            <a:ext cx="2657520" cy="6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en-GB" sz="2200" spc="-1" strike="noStrike">
                <a:solidFill>
                  <a:srgbClr val="dd0601"/>
                </a:solidFill>
                <a:latin typeface="Arial"/>
              </a:rPr>
              <a:t>CHIL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US$12.73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52520" y="4624560"/>
            <a:ext cx="2468520" cy="1406520"/>
          </a:xfrm>
          <a:prstGeom prst="cube">
            <a:avLst>
              <a:gd name="adj" fmla="val 19453"/>
            </a:avLst>
          </a:prstGeom>
          <a:solidFill>
            <a:srgbClr val="f1f8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252960" y="3492360"/>
            <a:ext cx="2600280" cy="2540160"/>
          </a:xfrm>
          <a:prstGeom prst="cube">
            <a:avLst>
              <a:gd name="adj" fmla="val 13990"/>
            </a:avLst>
          </a:prstGeom>
          <a:solidFill>
            <a:srgbClr val="f6ff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65280" y="4892760"/>
            <a:ext cx="1958760" cy="10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8880"/>
                <a:tab algn="l" pos="2487600"/>
                <a:tab algn="l" pos="3317760"/>
                <a:tab algn="l" pos="4146480"/>
                <a:tab algn="l" pos="4976640"/>
                <a:tab algn="l" pos="5805360"/>
                <a:tab algn="l" pos="6635880"/>
                <a:tab algn="l" pos="7462800"/>
                <a:tab algn="l" pos="8294760"/>
                <a:tab algn="l" pos="91216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en-GB" sz="1300" spc="-1" strike="noStrike">
                <a:solidFill>
                  <a:srgbClr val="2e3ca4"/>
                </a:solidFill>
                <a:latin typeface="Arial"/>
              </a:rPr>
              <a:t>Malasia</a:t>
            </a:r>
            <a:r>
              <a:rPr b="1" lang="en-GB" sz="1300" spc="-1" strike="noStrike">
                <a:solidFill>
                  <a:srgbClr val="2e3ca4"/>
                </a:solidFill>
                <a:latin typeface="Arial"/>
              </a:rPr>
              <a:t>	</a:t>
            </a:r>
            <a:r>
              <a:rPr b="1" lang="en-GB" sz="1300" spc="-1" strike="noStrike">
                <a:solidFill>
                  <a:srgbClr val="2e3ca4"/>
                </a:solidFill>
                <a:latin typeface="Arial"/>
              </a:rPr>
              <a:t>(11.915)</a:t>
            </a:r>
            <a:r>
              <a:rPr b="1" lang="en-GB" sz="1300" spc="-1" strike="noStrike">
                <a:solidFill>
                  <a:srgbClr val="2e3ca4"/>
                </a:solidFill>
                <a:latin typeface="Arial"/>
              </a:rPr>
              <a:t>‏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8880"/>
                <a:tab algn="l" pos="2487600"/>
                <a:tab algn="l" pos="3317760"/>
                <a:tab algn="l" pos="4146480"/>
                <a:tab algn="l" pos="4976640"/>
                <a:tab algn="l" pos="5805360"/>
                <a:tab algn="l" pos="6635880"/>
                <a:tab algn="l" pos="7462800"/>
                <a:tab algn="l" pos="8294760"/>
                <a:tab algn="l" pos="91216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en-GB" sz="1300" spc="-1" strike="noStrike">
                <a:solidFill>
                  <a:srgbClr val="2e3ca4"/>
                </a:solidFill>
                <a:latin typeface="Arial"/>
              </a:rPr>
              <a:t>Letonia</a:t>
            </a:r>
            <a:r>
              <a:rPr b="1" lang="en-GB" sz="1300" spc="-1" strike="noStrike">
                <a:solidFill>
                  <a:srgbClr val="2e3ca4"/>
                </a:solidFill>
                <a:latin typeface="Arial"/>
              </a:rPr>
              <a:t>	</a:t>
            </a:r>
            <a:r>
              <a:rPr b="1" lang="en-GB" sz="1300" spc="-1" strike="noStrike">
                <a:solidFill>
                  <a:srgbClr val="2e3ca4"/>
                </a:solidFill>
                <a:latin typeface="Arial"/>
              </a:rPr>
              <a:t>(13.875)</a:t>
            </a:r>
            <a:r>
              <a:rPr b="1" lang="en-GB" sz="1300" spc="-1" strike="noStrike">
                <a:solidFill>
                  <a:srgbClr val="2e3ca4"/>
                </a:solidFill>
                <a:latin typeface="Arial"/>
              </a:rPr>
              <a:t>‏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8880"/>
                <a:tab algn="l" pos="2487600"/>
                <a:tab algn="l" pos="3317760"/>
                <a:tab algn="l" pos="4146480"/>
                <a:tab algn="l" pos="4976640"/>
                <a:tab algn="l" pos="5805360"/>
                <a:tab algn="l" pos="6635880"/>
                <a:tab algn="l" pos="7462800"/>
                <a:tab algn="l" pos="8294760"/>
                <a:tab algn="l" pos="91216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en-GB" sz="1300" spc="-1" strike="noStrike">
                <a:solidFill>
                  <a:srgbClr val="2e3ca4"/>
                </a:solidFill>
                <a:latin typeface="Arial"/>
              </a:rPr>
              <a:t>Argentina</a:t>
            </a:r>
            <a:r>
              <a:rPr b="1" lang="en-GB" sz="1300" spc="-1" strike="noStrike">
                <a:solidFill>
                  <a:srgbClr val="2e3ca4"/>
                </a:solidFill>
                <a:latin typeface="Arial"/>
              </a:rPr>
              <a:t>	</a:t>
            </a:r>
            <a:r>
              <a:rPr b="1" lang="en-GB" sz="1300" spc="-1" strike="noStrike">
                <a:solidFill>
                  <a:srgbClr val="2e3ca4"/>
                </a:solidFill>
                <a:latin typeface="Arial"/>
              </a:rPr>
              <a:t>(14.838)</a:t>
            </a:r>
            <a:r>
              <a:rPr b="1" lang="en-GB" sz="1300" spc="-1" strike="noStrike">
                <a:solidFill>
                  <a:srgbClr val="2e3ca4"/>
                </a:solidFill>
                <a:latin typeface="Arial"/>
              </a:rPr>
              <a:t>‏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8880"/>
                <a:tab algn="l" pos="2487600"/>
                <a:tab algn="l" pos="3317760"/>
                <a:tab algn="l" pos="4146480"/>
                <a:tab algn="l" pos="4976640"/>
                <a:tab algn="l" pos="5805360"/>
                <a:tab algn="l" pos="6635880"/>
                <a:tab algn="l" pos="7462800"/>
                <a:tab algn="l" pos="8294760"/>
                <a:tab algn="l" pos="91216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en-GB" sz="1300" spc="-1" strike="noStrike">
                <a:solidFill>
                  <a:srgbClr val="2e3ca4"/>
                </a:solidFill>
                <a:latin typeface="Arial"/>
              </a:rPr>
              <a:t>Lituania</a:t>
            </a:r>
            <a:r>
              <a:rPr b="1" lang="en-GB" sz="1300" spc="-1" strike="noStrike">
                <a:solidFill>
                  <a:srgbClr val="2e3ca4"/>
                </a:solidFill>
                <a:latin typeface="Arial"/>
              </a:rPr>
              <a:t>	</a:t>
            </a:r>
            <a:r>
              <a:rPr b="1" lang="en-GB" sz="1300" spc="-1" strike="noStrike">
                <a:solidFill>
                  <a:srgbClr val="2e3ca4"/>
                </a:solidFill>
                <a:latin typeface="Arial"/>
              </a:rPr>
              <a:t>(15.443)</a:t>
            </a:r>
            <a:r>
              <a:rPr b="1" lang="en-GB" sz="1300" spc="-1" strike="noStrike">
                <a:solidFill>
                  <a:srgbClr val="2e3ca4"/>
                </a:solidFill>
                <a:latin typeface="Arial"/>
              </a:rPr>
              <a:t>‏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8880"/>
                <a:tab algn="l" pos="2487600"/>
                <a:tab algn="l" pos="3317760"/>
                <a:tab algn="l" pos="4146480"/>
                <a:tab algn="l" pos="4976640"/>
                <a:tab algn="l" pos="5805360"/>
                <a:tab algn="l" pos="6635880"/>
                <a:tab algn="l" pos="7462800"/>
                <a:tab algn="l" pos="8294760"/>
                <a:tab algn="l" pos="91216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en-GB" sz="1300" spc="-1" strike="noStrike">
                <a:solidFill>
                  <a:srgbClr val="2e3ca4"/>
                </a:solidFill>
                <a:latin typeface="Arial"/>
              </a:rPr>
              <a:t>Estonia</a:t>
            </a:r>
            <a:r>
              <a:rPr b="1" lang="en-GB" sz="1300" spc="-1" strike="noStrike">
                <a:solidFill>
                  <a:srgbClr val="2e3ca4"/>
                </a:solidFill>
                <a:latin typeface="Arial"/>
              </a:rPr>
              <a:t>	</a:t>
            </a:r>
            <a:r>
              <a:rPr b="1" lang="en-GB" sz="1300" spc="-1" strike="noStrike">
                <a:solidFill>
                  <a:srgbClr val="2e3ca4"/>
                </a:solidFill>
                <a:latin typeface="Arial"/>
              </a:rPr>
              <a:t>(17.802)</a:t>
            </a:r>
            <a:r>
              <a:rPr b="1" lang="en-GB" sz="1300" spc="-1" strike="noStrike">
                <a:solidFill>
                  <a:srgbClr val="2e3ca4"/>
                </a:solidFill>
                <a:latin typeface="Arial"/>
              </a:rPr>
              <a:t>‏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242040" y="2014560"/>
            <a:ext cx="2600280" cy="4021200"/>
          </a:xfrm>
          <a:prstGeom prst="cube">
            <a:avLst>
              <a:gd name="adj" fmla="val 13990"/>
            </a:avLst>
          </a:prstGeom>
          <a:solidFill>
            <a:srgbClr val="fef4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649760" y="6075360"/>
            <a:ext cx="44928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>
              <a:lnSpc>
                <a:spcPct val="75000"/>
              </a:lnSpc>
              <a:spcBef>
                <a:spcPts val="675"/>
              </a:spcBef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Cifras de PIB per cápita en dólares ppp. FMI, sep. 2006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324240" y="4680000"/>
            <a:ext cx="23464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1143000"/>
                <a:tab algn="l" pos="1658880"/>
                <a:tab algn="l" pos="2487600"/>
                <a:tab algn="l" pos="3317760"/>
                <a:tab algn="l" pos="4146480"/>
                <a:tab algn="l" pos="4976640"/>
                <a:tab algn="l" pos="5805360"/>
                <a:tab algn="l" pos="6635880"/>
                <a:tab algn="l" pos="7462800"/>
                <a:tab algn="l" pos="8294760"/>
                <a:tab algn="l" pos="91216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en-GB" sz="1300" spc="-1" strike="noStrike">
                <a:solidFill>
                  <a:srgbClr val="2e3ca4"/>
                </a:solidFill>
                <a:latin typeface="Arial"/>
              </a:rPr>
              <a:t>Corea</a:t>
            </a:r>
            <a:r>
              <a:rPr b="1" lang="en-GB" sz="1300" spc="-1" strike="noStrike">
                <a:solidFill>
                  <a:srgbClr val="2e3ca4"/>
                </a:solidFill>
                <a:latin typeface="Arial"/>
              </a:rPr>
              <a:t>	</a:t>
            </a:r>
            <a:r>
              <a:rPr b="1" lang="en-GB" sz="1300" spc="-1" strike="noStrike">
                <a:solidFill>
                  <a:srgbClr val="2e3ca4"/>
                </a:solidFill>
                <a:latin typeface="Arial"/>
              </a:rPr>
              <a:t>(21.887)</a:t>
            </a:r>
            <a:r>
              <a:rPr b="1" lang="en-GB" sz="1300" spc="-1" strike="noStrike">
                <a:solidFill>
                  <a:srgbClr val="2e3ca4"/>
                </a:solidFill>
                <a:latin typeface="Arial"/>
              </a:rPr>
              <a:t>‏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1143000"/>
                <a:tab algn="l" pos="1658880"/>
                <a:tab algn="l" pos="2487600"/>
                <a:tab algn="l" pos="3317760"/>
                <a:tab algn="l" pos="4146480"/>
                <a:tab algn="l" pos="4976640"/>
                <a:tab algn="l" pos="5805360"/>
                <a:tab algn="l" pos="6635880"/>
                <a:tab algn="l" pos="7462800"/>
                <a:tab algn="l" pos="8294760"/>
                <a:tab algn="l" pos="91216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en-GB" sz="1300" spc="-1" strike="noStrike">
                <a:solidFill>
                  <a:srgbClr val="2e3ca4"/>
                </a:solidFill>
                <a:latin typeface="Arial"/>
              </a:rPr>
              <a:t>Eslovenia</a:t>
            </a:r>
            <a:r>
              <a:rPr b="1" lang="en-GB" sz="1300" spc="-1" strike="noStrike">
                <a:solidFill>
                  <a:srgbClr val="2e3ca4"/>
                </a:solidFill>
                <a:latin typeface="Arial"/>
              </a:rPr>
              <a:t>	</a:t>
            </a:r>
            <a:r>
              <a:rPr b="1" lang="en-GB" sz="1300" spc="-1" strike="noStrike">
                <a:solidFill>
                  <a:srgbClr val="2e3ca4"/>
                </a:solidFill>
                <a:latin typeface="Arial"/>
              </a:rPr>
              <a:t>(23.159)</a:t>
            </a:r>
            <a:r>
              <a:rPr b="1" lang="en-GB" sz="1300" spc="-1" strike="noStrike">
                <a:solidFill>
                  <a:srgbClr val="2e3ca4"/>
                </a:solidFill>
                <a:latin typeface="Arial"/>
              </a:rPr>
              <a:t>‏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1143000"/>
                <a:tab algn="l" pos="1658880"/>
                <a:tab algn="l" pos="2487600"/>
                <a:tab algn="l" pos="3317760"/>
                <a:tab algn="l" pos="4146480"/>
                <a:tab algn="l" pos="4976640"/>
                <a:tab algn="l" pos="5805360"/>
                <a:tab algn="l" pos="6635880"/>
                <a:tab algn="l" pos="7462800"/>
                <a:tab algn="l" pos="8294760"/>
                <a:tab algn="l" pos="91216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en-GB" sz="1300" spc="-1" strike="noStrike">
                <a:solidFill>
                  <a:srgbClr val="2e3ca4"/>
                </a:solidFill>
                <a:latin typeface="Arial"/>
              </a:rPr>
              <a:t>Nva. Zelandia</a:t>
            </a:r>
            <a:r>
              <a:rPr b="1" lang="en-GB" sz="1300" spc="-1" strike="noStrike">
                <a:solidFill>
                  <a:srgbClr val="2e3ca4"/>
                </a:solidFill>
                <a:latin typeface="Arial"/>
              </a:rPr>
              <a:t>	</a:t>
            </a:r>
            <a:r>
              <a:rPr b="1" lang="en-GB" sz="1300" spc="-1" strike="noStrike">
                <a:solidFill>
                  <a:srgbClr val="2e3ca4"/>
                </a:solidFill>
                <a:latin typeface="Arial"/>
              </a:rPr>
              <a:t>(25.655)</a:t>
            </a:r>
            <a:r>
              <a:rPr b="1" lang="en-GB" sz="1300" spc="-1" strike="noStrike">
                <a:solidFill>
                  <a:srgbClr val="2e3ca4"/>
                </a:solidFill>
                <a:latin typeface="Arial"/>
              </a:rPr>
              <a:t>‏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1143000"/>
                <a:tab algn="l" pos="1658880"/>
                <a:tab algn="l" pos="2487600"/>
                <a:tab algn="l" pos="3317760"/>
                <a:tab algn="l" pos="4146480"/>
                <a:tab algn="l" pos="4976640"/>
                <a:tab algn="l" pos="5805360"/>
                <a:tab algn="l" pos="6635880"/>
                <a:tab algn="l" pos="7462800"/>
                <a:tab algn="l" pos="8294760"/>
                <a:tab algn="l" pos="91216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en-GB" sz="1300" spc="-1" strike="noStrike">
                <a:solidFill>
                  <a:srgbClr val="2e3ca4"/>
                </a:solidFill>
                <a:latin typeface="Arial"/>
              </a:rPr>
              <a:t>España</a:t>
            </a:r>
            <a:r>
              <a:rPr b="1" lang="en-GB" sz="1300" spc="-1" strike="noStrike">
                <a:solidFill>
                  <a:srgbClr val="2e3ca4"/>
                </a:solidFill>
                <a:latin typeface="Arial"/>
              </a:rPr>
              <a:t>	</a:t>
            </a:r>
            <a:r>
              <a:rPr b="1" lang="en-GB" sz="1300" spc="-1" strike="noStrike">
                <a:solidFill>
                  <a:srgbClr val="2e3ca4"/>
                </a:solidFill>
                <a:latin typeface="Arial"/>
              </a:rPr>
              <a:t>(27.542)</a:t>
            </a:r>
            <a:r>
              <a:rPr b="1" lang="en-GB" sz="1300" spc="-1" strike="noStrike">
                <a:solidFill>
                  <a:srgbClr val="2e3ca4"/>
                </a:solidFill>
                <a:latin typeface="Arial"/>
              </a:rPr>
              <a:t>‏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1143000"/>
                <a:tab algn="l" pos="1658880"/>
                <a:tab algn="l" pos="2487600"/>
                <a:tab algn="l" pos="3317760"/>
                <a:tab algn="l" pos="4146480"/>
                <a:tab algn="l" pos="4976640"/>
                <a:tab algn="l" pos="5805360"/>
                <a:tab algn="l" pos="6635880"/>
                <a:tab algn="l" pos="7462800"/>
                <a:tab algn="l" pos="8294760"/>
                <a:tab algn="l" pos="91216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en-GB" sz="1300" spc="-1" strike="noStrike">
                <a:solidFill>
                  <a:srgbClr val="2e3ca4"/>
                </a:solidFill>
                <a:latin typeface="Arial"/>
              </a:rPr>
              <a:t>Taiwán </a:t>
            </a:r>
            <a:r>
              <a:rPr b="1" lang="en-GB" sz="1300" spc="-1" strike="noStrike">
                <a:solidFill>
                  <a:srgbClr val="2e3ca4"/>
                </a:solidFill>
                <a:latin typeface="Arial"/>
              </a:rPr>
              <a:t>	</a:t>
            </a:r>
            <a:r>
              <a:rPr b="1" lang="en-GB" sz="1300" spc="-1" strike="noStrike">
                <a:solidFill>
                  <a:srgbClr val="2e3ca4"/>
                </a:solidFill>
                <a:latin typeface="Arial"/>
              </a:rPr>
              <a:t>(29.244)</a:t>
            </a:r>
            <a:r>
              <a:rPr b="1" lang="en-GB" sz="1300" spc="-1" strike="noStrike">
                <a:solidFill>
                  <a:srgbClr val="2e3ca4"/>
                </a:solidFill>
                <a:latin typeface="Arial"/>
              </a:rPr>
              <a:t>‏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1143000"/>
                <a:tab algn="l" pos="1658880"/>
                <a:tab algn="l" pos="2487600"/>
                <a:tab algn="l" pos="3317760"/>
                <a:tab algn="l" pos="4146480"/>
                <a:tab algn="l" pos="4976640"/>
                <a:tab algn="l" pos="5805360"/>
                <a:tab algn="l" pos="6635880"/>
                <a:tab algn="l" pos="7462800"/>
                <a:tab algn="l" pos="8294760"/>
                <a:tab algn="l" pos="91216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en-GB" sz="1300" spc="-1" strike="noStrike">
                <a:solidFill>
                  <a:srgbClr val="2e3ca4"/>
                </a:solidFill>
                <a:latin typeface="Arial"/>
              </a:rPr>
              <a:t>Singapur</a:t>
            </a:r>
            <a:r>
              <a:rPr b="1" lang="en-GB" sz="1300" spc="-1" strike="noStrike">
                <a:solidFill>
                  <a:srgbClr val="2e3ca4"/>
                </a:solidFill>
                <a:latin typeface="Arial"/>
              </a:rPr>
              <a:t>	</a:t>
            </a:r>
            <a:r>
              <a:rPr b="1" lang="en-GB" sz="1300" spc="-1" strike="noStrike">
                <a:solidFill>
                  <a:srgbClr val="2e3ca4"/>
                </a:solidFill>
                <a:latin typeface="Arial"/>
              </a:rPr>
              <a:t>(29.743)</a:t>
            </a:r>
            <a:r>
              <a:rPr b="1" lang="en-GB" sz="1300" spc="-1" strike="noStrike">
                <a:solidFill>
                  <a:srgbClr val="2e3ca4"/>
                </a:solidFill>
                <a:latin typeface="Arial"/>
              </a:rPr>
              <a:t>‏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300720" y="4254480"/>
            <a:ext cx="2346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1143000"/>
                <a:tab algn="l" pos="1658880"/>
                <a:tab algn="l" pos="2487600"/>
                <a:tab algn="l" pos="3317760"/>
                <a:tab algn="l" pos="4146480"/>
                <a:tab algn="l" pos="4976640"/>
                <a:tab algn="l" pos="5805360"/>
                <a:tab algn="l" pos="6635880"/>
                <a:tab algn="l" pos="7462800"/>
                <a:tab algn="l" pos="8294760"/>
                <a:tab algn="l" pos="91216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en-GB" sz="1300" spc="-1" strike="noStrike">
                <a:solidFill>
                  <a:srgbClr val="2e3ca4"/>
                </a:solidFill>
                <a:latin typeface="Arial"/>
              </a:rPr>
              <a:t>Francia</a:t>
            </a:r>
            <a:r>
              <a:rPr b="1" lang="en-GB" sz="1300" spc="-1" strike="noStrike">
                <a:solidFill>
                  <a:srgbClr val="2e3ca4"/>
                </a:solidFill>
                <a:latin typeface="Arial"/>
              </a:rPr>
              <a:t>	</a:t>
            </a:r>
            <a:r>
              <a:rPr b="1" lang="en-GB" sz="1300" spc="-1" strike="noStrike">
                <a:solidFill>
                  <a:srgbClr val="2e3ca4"/>
                </a:solidFill>
                <a:latin typeface="Arial"/>
              </a:rPr>
              <a:t>(30.150)</a:t>
            </a:r>
            <a:r>
              <a:rPr b="1" lang="en-GB" sz="1300" spc="-1" strike="noStrike">
                <a:solidFill>
                  <a:srgbClr val="2e3ca4"/>
                </a:solidFill>
                <a:latin typeface="Arial"/>
              </a:rPr>
              <a:t>‏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1143000"/>
                <a:tab algn="l" pos="1658880"/>
                <a:tab algn="l" pos="2487600"/>
                <a:tab algn="l" pos="3317760"/>
                <a:tab algn="l" pos="4146480"/>
                <a:tab algn="l" pos="4976640"/>
                <a:tab algn="l" pos="5805360"/>
                <a:tab algn="l" pos="6635880"/>
                <a:tab algn="l" pos="7462800"/>
                <a:tab algn="l" pos="8294760"/>
                <a:tab algn="l" pos="91216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en-GB" sz="1300" spc="-1" strike="noStrike">
                <a:solidFill>
                  <a:srgbClr val="2e3ca4"/>
                </a:solidFill>
                <a:latin typeface="Arial"/>
              </a:rPr>
              <a:t>Suecia</a:t>
            </a:r>
            <a:r>
              <a:rPr b="1" lang="en-GB" sz="1300" spc="-1" strike="noStrike">
                <a:solidFill>
                  <a:srgbClr val="2e3ca4"/>
                </a:solidFill>
                <a:latin typeface="Arial"/>
              </a:rPr>
              <a:t>	</a:t>
            </a:r>
            <a:r>
              <a:rPr b="1" lang="en-GB" sz="1300" spc="-1" strike="noStrike">
                <a:solidFill>
                  <a:srgbClr val="2e3ca4"/>
                </a:solidFill>
                <a:latin typeface="Arial"/>
              </a:rPr>
              <a:t>(31.264)</a:t>
            </a:r>
            <a:r>
              <a:rPr b="1" lang="en-GB" sz="1300" spc="-1" strike="noStrike">
                <a:solidFill>
                  <a:srgbClr val="2e3ca4"/>
                </a:solidFill>
                <a:latin typeface="Arial"/>
              </a:rPr>
              <a:t>‏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1143000"/>
                <a:tab algn="l" pos="1658880"/>
                <a:tab algn="l" pos="2487600"/>
                <a:tab algn="l" pos="3317760"/>
                <a:tab algn="l" pos="4146480"/>
                <a:tab algn="l" pos="4976640"/>
                <a:tab algn="l" pos="5805360"/>
                <a:tab algn="l" pos="6635880"/>
                <a:tab algn="l" pos="7462800"/>
                <a:tab algn="l" pos="8294760"/>
                <a:tab algn="l" pos="91216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en-GB" sz="1300" spc="-1" strike="noStrike">
                <a:solidFill>
                  <a:srgbClr val="2e3ca4"/>
                </a:solidFill>
                <a:latin typeface="Arial"/>
              </a:rPr>
              <a:t>Reino Unido</a:t>
            </a:r>
            <a:r>
              <a:rPr b="1" lang="en-GB" sz="1300" spc="-1" strike="noStrike">
                <a:solidFill>
                  <a:srgbClr val="2e3ca4"/>
                </a:solidFill>
                <a:latin typeface="Arial"/>
              </a:rPr>
              <a:t>	</a:t>
            </a:r>
            <a:r>
              <a:rPr b="1" lang="en-GB" sz="1300" spc="-1" strike="noStrike">
                <a:solidFill>
                  <a:srgbClr val="2e3ca4"/>
                </a:solidFill>
                <a:latin typeface="Arial"/>
              </a:rPr>
              <a:t>(31.585)</a:t>
            </a:r>
            <a:r>
              <a:rPr b="1" lang="en-GB" sz="1300" spc="-1" strike="noStrike">
                <a:solidFill>
                  <a:srgbClr val="2e3ca4"/>
                </a:solidFill>
                <a:latin typeface="Arial"/>
              </a:rPr>
              <a:t>‏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1143000"/>
                <a:tab algn="l" pos="1658880"/>
                <a:tab algn="l" pos="2487600"/>
                <a:tab algn="l" pos="3317760"/>
                <a:tab algn="l" pos="4146480"/>
                <a:tab algn="l" pos="4976640"/>
                <a:tab algn="l" pos="5805360"/>
                <a:tab algn="l" pos="6635880"/>
                <a:tab algn="l" pos="7462800"/>
                <a:tab algn="l" pos="8294760"/>
                <a:tab algn="l" pos="91216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en-GB" sz="1300" spc="-1" strike="noStrike">
                <a:solidFill>
                  <a:srgbClr val="2e3ca4"/>
                </a:solidFill>
                <a:latin typeface="Arial"/>
              </a:rPr>
              <a:t>Australia</a:t>
            </a:r>
            <a:r>
              <a:rPr b="1" lang="en-GB" sz="1300" spc="-1" strike="noStrike">
                <a:solidFill>
                  <a:srgbClr val="2e3ca4"/>
                </a:solidFill>
                <a:latin typeface="Arial"/>
              </a:rPr>
              <a:t>	</a:t>
            </a:r>
            <a:r>
              <a:rPr b="1" lang="en-GB" sz="1300" spc="-1" strike="noStrike">
                <a:solidFill>
                  <a:srgbClr val="2e3ca4"/>
                </a:solidFill>
                <a:latin typeface="Arial"/>
              </a:rPr>
              <a:t>(32.127)</a:t>
            </a:r>
            <a:r>
              <a:rPr b="1" lang="en-GB" sz="1300" spc="-1" strike="noStrike">
                <a:solidFill>
                  <a:srgbClr val="2e3ca4"/>
                </a:solidFill>
                <a:latin typeface="Arial"/>
              </a:rPr>
              <a:t>‏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1143000"/>
                <a:tab algn="l" pos="1658880"/>
                <a:tab algn="l" pos="2487600"/>
                <a:tab algn="l" pos="3317760"/>
                <a:tab algn="l" pos="4146480"/>
                <a:tab algn="l" pos="4976640"/>
                <a:tab algn="l" pos="5805360"/>
                <a:tab algn="l" pos="6635880"/>
                <a:tab algn="l" pos="7462800"/>
                <a:tab algn="l" pos="8294760"/>
                <a:tab algn="l" pos="91216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en-GB" sz="1300" spc="-1" strike="noStrike">
                <a:solidFill>
                  <a:srgbClr val="2e3ca4"/>
                </a:solidFill>
                <a:latin typeface="Arial"/>
              </a:rPr>
              <a:t>Finlandia</a:t>
            </a:r>
            <a:r>
              <a:rPr b="1" lang="en-GB" sz="1300" spc="-1" strike="noStrike">
                <a:solidFill>
                  <a:srgbClr val="2e3ca4"/>
                </a:solidFill>
                <a:latin typeface="Arial"/>
              </a:rPr>
              <a:t>	</a:t>
            </a:r>
            <a:r>
              <a:rPr b="1" lang="en-GB" sz="1300" spc="-1" strike="noStrike">
                <a:solidFill>
                  <a:srgbClr val="2e3ca4"/>
                </a:solidFill>
                <a:latin typeface="Arial"/>
              </a:rPr>
              <a:t>(32.822)</a:t>
            </a:r>
            <a:r>
              <a:rPr b="1" lang="en-GB" sz="1300" spc="-1" strike="noStrike">
                <a:solidFill>
                  <a:srgbClr val="2e3ca4"/>
                </a:solidFill>
                <a:latin typeface="Arial"/>
              </a:rPr>
              <a:t>‏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1143000"/>
                <a:tab algn="l" pos="1658880"/>
                <a:tab algn="l" pos="2487600"/>
                <a:tab algn="l" pos="3317760"/>
                <a:tab algn="l" pos="4146480"/>
                <a:tab algn="l" pos="4976640"/>
                <a:tab algn="l" pos="5805360"/>
                <a:tab algn="l" pos="6635880"/>
                <a:tab algn="l" pos="7462800"/>
                <a:tab algn="l" pos="8294760"/>
                <a:tab algn="l" pos="91216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en-GB" sz="1300" spc="-1" strike="noStrike">
                <a:solidFill>
                  <a:srgbClr val="2e3ca4"/>
                </a:solidFill>
                <a:latin typeface="Arial"/>
              </a:rPr>
              <a:t>Hong Kong</a:t>
            </a:r>
            <a:r>
              <a:rPr b="1" lang="en-GB" sz="1300" spc="-1" strike="noStrike">
                <a:solidFill>
                  <a:srgbClr val="2e3ca4"/>
                </a:solidFill>
                <a:latin typeface="Arial"/>
              </a:rPr>
              <a:t>	</a:t>
            </a:r>
            <a:r>
              <a:rPr b="1" lang="en-GB" sz="1300" spc="-1" strike="noStrike">
                <a:solidFill>
                  <a:srgbClr val="2e3ca4"/>
                </a:solidFill>
                <a:latin typeface="Arial"/>
              </a:rPr>
              <a:t>(35.396)</a:t>
            </a:r>
            <a:r>
              <a:rPr b="1" lang="en-GB" sz="1300" spc="-1" strike="noStrike">
                <a:solidFill>
                  <a:srgbClr val="2e3ca4"/>
                </a:solidFill>
                <a:latin typeface="Arial"/>
              </a:rPr>
              <a:t>‏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1143000"/>
                <a:tab algn="l" pos="1658880"/>
                <a:tab algn="l" pos="2487600"/>
                <a:tab algn="l" pos="3317760"/>
                <a:tab algn="l" pos="4146480"/>
                <a:tab algn="l" pos="4976640"/>
                <a:tab algn="l" pos="5805360"/>
                <a:tab algn="l" pos="6635880"/>
                <a:tab algn="l" pos="7462800"/>
                <a:tab algn="l" pos="8294760"/>
                <a:tab algn="l" pos="91216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en-GB" sz="1300" spc="-1" strike="noStrike">
                <a:solidFill>
                  <a:srgbClr val="2e3ca4"/>
                </a:solidFill>
                <a:latin typeface="Arial"/>
              </a:rPr>
              <a:t>Canadá</a:t>
            </a:r>
            <a:r>
              <a:rPr b="1" lang="en-GB" sz="1300" spc="-1" strike="noStrike">
                <a:solidFill>
                  <a:srgbClr val="2e3ca4"/>
                </a:solidFill>
                <a:latin typeface="Arial"/>
              </a:rPr>
              <a:t>	</a:t>
            </a:r>
            <a:r>
              <a:rPr b="1" lang="en-GB" sz="1300" spc="-1" strike="noStrike">
                <a:solidFill>
                  <a:srgbClr val="2e3ca4"/>
                </a:solidFill>
                <a:latin typeface="Arial"/>
              </a:rPr>
              <a:t>(35.779)</a:t>
            </a:r>
            <a:r>
              <a:rPr b="1" lang="en-GB" sz="1300" spc="-1" strike="noStrike">
                <a:solidFill>
                  <a:srgbClr val="2e3ca4"/>
                </a:solidFill>
                <a:latin typeface="Arial"/>
              </a:rPr>
              <a:t>‏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1143000"/>
                <a:tab algn="l" pos="1658880"/>
                <a:tab algn="l" pos="2487600"/>
                <a:tab algn="l" pos="3317760"/>
                <a:tab algn="l" pos="4146480"/>
                <a:tab algn="l" pos="4976640"/>
                <a:tab algn="l" pos="5805360"/>
                <a:tab algn="l" pos="6635880"/>
                <a:tab algn="l" pos="7462800"/>
                <a:tab algn="l" pos="8294760"/>
                <a:tab algn="l" pos="91216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en-GB" sz="1300" spc="-1" strike="noStrike">
                <a:solidFill>
                  <a:srgbClr val="2e3ca4"/>
                </a:solidFill>
                <a:latin typeface="Arial"/>
              </a:rPr>
              <a:t>EE. UU.</a:t>
            </a:r>
            <a:r>
              <a:rPr b="1" lang="en-GB" sz="1300" spc="-1" strike="noStrike">
                <a:solidFill>
                  <a:srgbClr val="2e3ca4"/>
                </a:solidFill>
                <a:latin typeface="Arial"/>
              </a:rPr>
              <a:t>	</a:t>
            </a:r>
            <a:r>
              <a:rPr b="1" lang="en-GB" sz="1300" spc="-1" strike="noStrike">
                <a:solidFill>
                  <a:srgbClr val="2e3ca4"/>
                </a:solidFill>
                <a:latin typeface="Arial"/>
              </a:rPr>
              <a:t>(43.236</a:t>
            </a:r>
            <a:r>
              <a:rPr b="1" lang="en-GB" sz="1300" spc="-1" strike="noStrike">
                <a:solidFill>
                  <a:srgbClr val="333399"/>
                </a:solidFill>
                <a:latin typeface="Arial"/>
              </a:rPr>
              <a:t>)</a:t>
            </a:r>
            <a:r>
              <a:rPr b="1" lang="en-GB" sz="1300" spc="-1" strike="noStrike">
                <a:solidFill>
                  <a:srgbClr val="333399"/>
                </a:solidFill>
                <a:latin typeface="Arial"/>
              </a:rPr>
              <a:t>‏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449360" y="4941720"/>
            <a:ext cx="6891480" cy="1225800"/>
          </a:xfrm>
          <a:prstGeom prst="rect">
            <a:avLst/>
          </a:prstGeom>
          <a:gradFill rotWithShape="0">
            <a:gsLst>
              <a:gs pos="0">
                <a:srgbClr val="c9e4f7"/>
              </a:gs>
              <a:gs pos="50000">
                <a:srgbClr val="ffffff"/>
              </a:gs>
              <a:gs pos="100000">
                <a:srgbClr val="c9e4f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68160" y="693360"/>
            <a:ext cx="7056360" cy="8175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2480" bIns="42480" anchor="t">
            <a:noAutofit/>
          </a:bodyPr>
          <a:p>
            <a:pPr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8064360"/>
                <a:tab algn="l" pos="9072720"/>
                <a:tab algn="l" pos="10080720"/>
              </a:tabLst>
            </a:pPr>
            <a:r>
              <a:rPr b="0" lang="en-GB" sz="2400" spc="-1" strike="noStrike">
                <a:solidFill>
                  <a:srgbClr val="e5ffff"/>
                </a:solidFill>
                <a:latin typeface="Tahoma"/>
              </a:rPr>
              <a:t>Lo hemos hecho bien…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541160" y="1477800"/>
            <a:ext cx="6311880" cy="1663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2480" bIns="42480" anchor="t">
            <a:normAutofit/>
          </a:bodyPr>
          <a:p>
            <a:pPr marL="378000" indent="-378000"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Entre 1988 y 2004, Chile prácticamente duplicó su ingreso per cápit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78000" indent="-378000"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Consolidación de reformas estructural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78000" indent="-378000"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Economía abierta con buen desempeño del mercado y las institucion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587600" y="3301920"/>
            <a:ext cx="644688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pero no es suficient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549440" y="3774960"/>
            <a:ext cx="663876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noAutofit/>
          </a:bodyPr>
          <a:p>
            <a:pPr marL="309600" indent="-309600">
              <a:lnSpc>
                <a:spcPct val="93000"/>
              </a:lnSpc>
              <a:spcBef>
                <a:spcPts val="414"/>
              </a:spcBef>
              <a:buClr>
                <a:srgbClr val="000000"/>
              </a:buClr>
              <a:buFont typeface="Trebuchet MS"/>
              <a:buChar char="•"/>
              <a:tabLst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424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lcanzar el desarrollo requiere de un esfuerzo de crecimiento más prolongado en el tiemp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01640" y="4950000"/>
            <a:ext cx="6588360" cy="11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424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Volver a duplicar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nuestro ingreso per cápita en los próximos 15 años es una meta alcanzable…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388200" y="4276800"/>
            <a:ext cx="1488960" cy="588960"/>
          </a:xfrm>
          <a:custGeom>
            <a:avLst/>
            <a:gdLst/>
            <a:ahLst/>
            <a:rect l="l" t="t" r="r" b="b"/>
            <a:pathLst>
              <a:path w="4560" h="1804">
                <a:moveTo>
                  <a:pt x="0" y="0"/>
                </a:moveTo>
                <a:lnTo>
                  <a:pt x="4559" y="1803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795320" y="4869000"/>
            <a:ext cx="6081840" cy="1440"/>
          </a:xfrm>
          <a:custGeom>
            <a:avLst/>
            <a:gdLst/>
            <a:ahLst/>
            <a:rect l="l" t="t" r="r" b="b"/>
            <a:pathLst>
              <a:path w="18624" h="1">
                <a:moveTo>
                  <a:pt x="0" y="0"/>
                </a:moveTo>
                <a:lnTo>
                  <a:pt x="18623" y="0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94000" y="712440"/>
            <a:ext cx="6246720" cy="5223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2480" bIns="42480" anchor="ctr">
            <a:noAutofit/>
          </a:bodyPr>
          <a:p>
            <a:pPr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2400" spc="-1" strike="noStrike">
                <a:solidFill>
                  <a:srgbClr val="e5ffff"/>
                </a:solidFill>
                <a:latin typeface="Tahoma"/>
              </a:rPr>
              <a:t>…</a:t>
            </a:r>
            <a:r>
              <a:rPr b="0" lang="en-GB" sz="2400" spc="-1" strike="noStrike">
                <a:solidFill>
                  <a:srgbClr val="e5ffff"/>
                </a:solidFill>
                <a:latin typeface="Tahoma"/>
              </a:rPr>
              <a:t>pero muy exigente vista nuestra historia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1604880" y="1743120"/>
            <a:ext cx="6306840" cy="3916080"/>
            <a:chOff x="1604880" y="1743120"/>
            <a:chExt cx="6306840" cy="3916080"/>
          </a:xfrm>
        </p:grpSpPr>
        <p:sp>
          <p:nvSpPr>
            <p:cNvPr id="113" name=""/>
            <p:cNvSpPr/>
            <p:nvPr/>
          </p:nvSpPr>
          <p:spPr>
            <a:xfrm>
              <a:off x="6197760" y="5134680"/>
              <a:ext cx="1713960" cy="52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1720" rIns="81720" tIns="42480" bIns="42480" anchor="b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657360"/>
                  <a:tab algn="l" pos="1312920"/>
                  <a:tab algn="l" pos="1631880"/>
                  <a:tab algn="l" pos="2039760"/>
                  <a:tab algn="l" pos="2448000"/>
                  <a:tab algn="l" pos="2855880"/>
                  <a:tab algn="l" pos="3263760"/>
                  <a:tab algn="l" pos="3672000"/>
                  <a:tab algn="l" pos="4079880"/>
                  <a:tab algn="l" pos="4487760"/>
                  <a:tab algn="l" pos="4896000"/>
                  <a:tab algn="l" pos="5303880"/>
                  <a:tab algn="l" pos="5711760"/>
                  <a:tab algn="l" pos="6119640"/>
                  <a:tab algn="l" pos="6527880"/>
                  <a:tab algn="l" pos="6935760"/>
                  <a:tab algn="l" pos="7343640"/>
                  <a:tab algn="l" pos="7751880"/>
                  <a:tab algn="l" pos="8159760"/>
                  <a:tab algn="l" pos="8567640"/>
                  <a:tab algn="l" pos="8975880"/>
                  <a:tab algn="l" pos="9383760"/>
                </a:tabLst>
              </a:pPr>
              <a:r>
                <a:rPr b="0" lang="en-GB" sz="1600" spc="-1" strike="noStrike">
                  <a:solidFill>
                    <a:srgbClr val="ff0000"/>
                  </a:solidFill>
                  <a:latin typeface="Arial"/>
                  <a:ea typeface="Arial"/>
                </a:rPr>
                <a:t>16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131080" y="5134680"/>
              <a:ext cx="1066320" cy="52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1720" rIns="81720" tIns="42480" bIns="42480" anchor="b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657360"/>
                  <a:tab algn="l" pos="816120"/>
                  <a:tab algn="l" pos="1224000"/>
                  <a:tab algn="l" pos="1631880"/>
                  <a:tab algn="l" pos="2039760"/>
                  <a:tab algn="l" pos="2448000"/>
                  <a:tab algn="l" pos="2855880"/>
                  <a:tab algn="l" pos="3263760"/>
                  <a:tab algn="l" pos="3672000"/>
                  <a:tab algn="l" pos="4079880"/>
                  <a:tab algn="l" pos="4487760"/>
                  <a:tab algn="l" pos="4896000"/>
                  <a:tab algn="l" pos="5303880"/>
                  <a:tab algn="l" pos="5711760"/>
                  <a:tab algn="l" pos="6119640"/>
                  <a:tab algn="l" pos="6527880"/>
                  <a:tab algn="l" pos="6935760"/>
                  <a:tab algn="l" pos="7343640"/>
                  <a:tab algn="l" pos="7751880"/>
                  <a:tab algn="l" pos="8159760"/>
                  <a:tab algn="l" pos="8567640"/>
                </a:tabLst>
              </a:pPr>
              <a:r>
                <a:rPr b="0" lang="en-GB" sz="1600" spc="-1" strike="noStrike">
                  <a:solidFill>
                    <a:srgbClr val="ff0000"/>
                  </a:solidFill>
                  <a:latin typeface="Arial"/>
                  <a:ea typeface="Arial"/>
                </a:rPr>
                <a:t>2004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924720" y="5134680"/>
              <a:ext cx="1206360" cy="52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1720" rIns="81720" tIns="42480" bIns="42480" anchor="b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657360"/>
                  <a:tab algn="l" pos="816120"/>
                  <a:tab algn="l" pos="1224000"/>
                  <a:tab algn="l" pos="1631880"/>
                  <a:tab algn="l" pos="2039760"/>
                  <a:tab algn="l" pos="2448000"/>
                  <a:tab algn="l" pos="2855880"/>
                  <a:tab algn="l" pos="3263760"/>
                  <a:tab algn="l" pos="3672000"/>
                  <a:tab algn="l" pos="4079880"/>
                  <a:tab algn="l" pos="4487760"/>
                  <a:tab algn="l" pos="4896000"/>
                  <a:tab algn="l" pos="5303880"/>
                  <a:tab algn="l" pos="5711760"/>
                  <a:tab algn="l" pos="6119640"/>
                  <a:tab algn="l" pos="6527880"/>
                  <a:tab algn="l" pos="6935760"/>
                  <a:tab algn="l" pos="7343640"/>
                  <a:tab algn="l" pos="7751880"/>
                  <a:tab algn="l" pos="8159760"/>
                  <a:tab algn="l" pos="8567640"/>
                </a:tabLst>
              </a:pPr>
              <a:r>
                <a:rPr b="0" lang="en-GB" sz="1600" spc="-1" strike="noStrike">
                  <a:solidFill>
                    <a:srgbClr val="ff0000"/>
                  </a:solidFill>
                  <a:latin typeface="Arial"/>
                  <a:ea typeface="Arial"/>
                </a:rPr>
                <a:t>1988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604880" y="5134680"/>
              <a:ext cx="2319840" cy="52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1720" rIns="81720" tIns="42480" bIns="42480" anchor="b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657360"/>
                  <a:tab algn="l" pos="1312920"/>
                  <a:tab algn="l" pos="1969920"/>
                  <a:tab algn="l" pos="2039760"/>
                  <a:tab algn="l" pos="2448000"/>
                  <a:tab algn="l" pos="2855880"/>
                  <a:tab algn="l" pos="3263760"/>
                  <a:tab algn="l" pos="3672000"/>
                  <a:tab algn="l" pos="4079880"/>
                  <a:tab algn="l" pos="4487760"/>
                  <a:tab algn="l" pos="4896000"/>
                  <a:tab algn="l" pos="5303880"/>
                  <a:tab algn="l" pos="5711760"/>
                  <a:tab algn="l" pos="6119640"/>
                  <a:tab algn="l" pos="6527880"/>
                  <a:tab algn="l" pos="6935760"/>
                  <a:tab algn="l" pos="7343640"/>
                  <a:tab algn="l" pos="7751880"/>
                  <a:tab algn="l" pos="8159760"/>
                  <a:tab algn="l" pos="8567640"/>
                  <a:tab algn="l" pos="8975880"/>
                  <a:tab algn="l" pos="9383760"/>
                  <a:tab algn="l" pos="9791640"/>
                </a:tabLst>
              </a:pPr>
              <a:r>
                <a:rPr b="0" lang="en-GB" sz="1600" spc="-1" strike="noStrike">
                  <a:solidFill>
                    <a:srgbClr val="ff0000"/>
                  </a:solidFill>
                  <a:latin typeface="Arial"/>
                  <a:ea typeface="Arial"/>
                </a:rPr>
                <a:t>De 5.781 a 11.52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197760" y="4609440"/>
              <a:ext cx="1713960" cy="52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1720" rIns="81720" tIns="42480" bIns="42480" anchor="b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657360"/>
                  <a:tab algn="l" pos="1312920"/>
                  <a:tab algn="l" pos="1631880"/>
                  <a:tab algn="l" pos="2039760"/>
                  <a:tab algn="l" pos="2448000"/>
                  <a:tab algn="l" pos="2855880"/>
                  <a:tab algn="l" pos="3263760"/>
                  <a:tab algn="l" pos="3672000"/>
                  <a:tab algn="l" pos="4079880"/>
                  <a:tab algn="l" pos="4487760"/>
                  <a:tab algn="l" pos="4896000"/>
                  <a:tab algn="l" pos="5303880"/>
                  <a:tab algn="l" pos="5711760"/>
                  <a:tab algn="l" pos="6119640"/>
                  <a:tab algn="l" pos="6527880"/>
                  <a:tab algn="l" pos="6935760"/>
                  <a:tab algn="l" pos="7343640"/>
                  <a:tab algn="l" pos="7751880"/>
                  <a:tab algn="l" pos="8159760"/>
                  <a:tab algn="l" pos="8567640"/>
                  <a:tab algn="l" pos="8975880"/>
                  <a:tab algn="l" pos="938376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68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131080" y="4609440"/>
              <a:ext cx="1066320" cy="52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1720" rIns="81720" tIns="42480" bIns="42480" anchor="b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657360"/>
                  <a:tab algn="l" pos="816120"/>
                  <a:tab algn="l" pos="1224000"/>
                  <a:tab algn="l" pos="1631880"/>
                  <a:tab algn="l" pos="2039760"/>
                  <a:tab algn="l" pos="2448000"/>
                  <a:tab algn="l" pos="2855880"/>
                  <a:tab algn="l" pos="3263760"/>
                  <a:tab algn="l" pos="3672000"/>
                  <a:tab algn="l" pos="4079880"/>
                  <a:tab algn="l" pos="4487760"/>
                  <a:tab algn="l" pos="4896000"/>
                  <a:tab algn="l" pos="5303880"/>
                  <a:tab algn="l" pos="5711760"/>
                  <a:tab algn="l" pos="6119640"/>
                  <a:tab algn="l" pos="6527880"/>
                  <a:tab algn="l" pos="6935760"/>
                  <a:tab algn="l" pos="7343640"/>
                  <a:tab algn="l" pos="7751880"/>
                  <a:tab algn="l" pos="8159760"/>
                  <a:tab algn="l" pos="856764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1988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924720" y="4609440"/>
              <a:ext cx="1206360" cy="52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1720" rIns="81720" tIns="42480" bIns="42480" anchor="b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657360"/>
                  <a:tab algn="l" pos="816120"/>
                  <a:tab algn="l" pos="1224000"/>
                  <a:tab algn="l" pos="1631880"/>
                  <a:tab algn="l" pos="2039760"/>
                  <a:tab algn="l" pos="2448000"/>
                  <a:tab algn="l" pos="2855880"/>
                  <a:tab algn="l" pos="3263760"/>
                  <a:tab algn="l" pos="3672000"/>
                  <a:tab algn="l" pos="4079880"/>
                  <a:tab algn="l" pos="4487760"/>
                  <a:tab algn="l" pos="4896000"/>
                  <a:tab algn="l" pos="5303880"/>
                  <a:tab algn="l" pos="5711760"/>
                  <a:tab algn="l" pos="6119640"/>
                  <a:tab algn="l" pos="6527880"/>
                  <a:tab algn="l" pos="6935760"/>
                  <a:tab algn="l" pos="7343640"/>
                  <a:tab algn="l" pos="7751880"/>
                  <a:tab algn="l" pos="8159760"/>
                  <a:tab algn="l" pos="856764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192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604880" y="4609440"/>
              <a:ext cx="2319840" cy="52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1720" rIns="81720" tIns="42480" bIns="42480" anchor="b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657360"/>
                  <a:tab algn="l" pos="1312920"/>
                  <a:tab algn="l" pos="1969920"/>
                  <a:tab algn="l" pos="2039760"/>
                  <a:tab algn="l" pos="2448000"/>
                  <a:tab algn="l" pos="2855880"/>
                  <a:tab algn="l" pos="3263760"/>
                  <a:tab algn="l" pos="3672000"/>
                  <a:tab algn="l" pos="4079880"/>
                  <a:tab algn="l" pos="4487760"/>
                  <a:tab algn="l" pos="4896000"/>
                  <a:tab algn="l" pos="5303880"/>
                  <a:tab algn="l" pos="5711760"/>
                  <a:tab algn="l" pos="6119640"/>
                  <a:tab algn="l" pos="6527880"/>
                  <a:tab algn="l" pos="6935760"/>
                  <a:tab algn="l" pos="7343640"/>
                  <a:tab algn="l" pos="7751880"/>
                  <a:tab algn="l" pos="8159760"/>
                  <a:tab algn="l" pos="8567640"/>
                  <a:tab algn="l" pos="8975880"/>
                  <a:tab algn="l" pos="9383760"/>
                  <a:tab algn="l" pos="979164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 2.769 a 5.781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197760" y="4087440"/>
              <a:ext cx="1713960" cy="52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1720" rIns="81720" tIns="42480" bIns="42480" anchor="b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657360"/>
                  <a:tab algn="l" pos="1312920"/>
                  <a:tab algn="l" pos="1631880"/>
                  <a:tab algn="l" pos="2039760"/>
                  <a:tab algn="l" pos="2448000"/>
                  <a:tab algn="l" pos="2855880"/>
                  <a:tab algn="l" pos="3263760"/>
                  <a:tab algn="l" pos="3672000"/>
                  <a:tab algn="l" pos="4079880"/>
                  <a:tab algn="l" pos="4487760"/>
                  <a:tab algn="l" pos="4896000"/>
                  <a:tab algn="l" pos="5303880"/>
                  <a:tab algn="l" pos="5711760"/>
                  <a:tab algn="l" pos="6119640"/>
                  <a:tab algn="l" pos="6527880"/>
                  <a:tab algn="l" pos="6935760"/>
                  <a:tab algn="l" pos="7343640"/>
                  <a:tab algn="l" pos="7751880"/>
                  <a:tab algn="l" pos="8159760"/>
                  <a:tab algn="l" pos="8567640"/>
                  <a:tab algn="l" pos="8975880"/>
                  <a:tab algn="l" pos="938376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43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131080" y="4087440"/>
              <a:ext cx="1066320" cy="52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1720" rIns="81720" tIns="42480" bIns="42480" anchor="b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657360"/>
                  <a:tab algn="l" pos="816120"/>
                  <a:tab algn="l" pos="1224000"/>
                  <a:tab algn="l" pos="1631880"/>
                  <a:tab algn="l" pos="2039760"/>
                  <a:tab algn="l" pos="2448000"/>
                  <a:tab algn="l" pos="2855880"/>
                  <a:tab algn="l" pos="3263760"/>
                  <a:tab algn="l" pos="3672000"/>
                  <a:tab algn="l" pos="4079880"/>
                  <a:tab algn="l" pos="4487760"/>
                  <a:tab algn="l" pos="4896000"/>
                  <a:tab algn="l" pos="5303880"/>
                  <a:tab algn="l" pos="5711760"/>
                  <a:tab algn="l" pos="6119640"/>
                  <a:tab algn="l" pos="6527880"/>
                  <a:tab algn="l" pos="6935760"/>
                  <a:tab algn="l" pos="7343640"/>
                  <a:tab algn="l" pos="7751880"/>
                  <a:tab algn="l" pos="8159760"/>
                  <a:tab algn="l" pos="856764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192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924720" y="4087440"/>
              <a:ext cx="1206360" cy="52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1720" rIns="81720" tIns="42480" bIns="42480" anchor="b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657360"/>
                  <a:tab algn="l" pos="816120"/>
                  <a:tab algn="l" pos="1224000"/>
                  <a:tab algn="l" pos="1631880"/>
                  <a:tab algn="l" pos="2039760"/>
                  <a:tab algn="l" pos="2448000"/>
                  <a:tab algn="l" pos="2855880"/>
                  <a:tab algn="l" pos="3263760"/>
                  <a:tab algn="l" pos="3672000"/>
                  <a:tab algn="l" pos="4079880"/>
                  <a:tab algn="l" pos="4487760"/>
                  <a:tab algn="l" pos="4896000"/>
                  <a:tab algn="l" pos="5303880"/>
                  <a:tab algn="l" pos="5711760"/>
                  <a:tab algn="l" pos="6119640"/>
                  <a:tab algn="l" pos="6527880"/>
                  <a:tab algn="l" pos="6935760"/>
                  <a:tab algn="l" pos="7343640"/>
                  <a:tab algn="l" pos="7751880"/>
                  <a:tab algn="l" pos="8159760"/>
                  <a:tab algn="l" pos="856764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1877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604880" y="4087440"/>
              <a:ext cx="2319840" cy="52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1720" rIns="81720" tIns="42480" bIns="42480" anchor="b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657360"/>
                  <a:tab algn="l" pos="1312920"/>
                  <a:tab algn="l" pos="1969920"/>
                  <a:tab algn="l" pos="2039760"/>
                  <a:tab algn="l" pos="2448000"/>
                  <a:tab algn="l" pos="2855880"/>
                  <a:tab algn="l" pos="3263760"/>
                  <a:tab algn="l" pos="3672000"/>
                  <a:tab algn="l" pos="4079880"/>
                  <a:tab algn="l" pos="4487760"/>
                  <a:tab algn="l" pos="4896000"/>
                  <a:tab algn="l" pos="5303880"/>
                  <a:tab algn="l" pos="5711760"/>
                  <a:tab algn="l" pos="6119640"/>
                  <a:tab algn="l" pos="6527880"/>
                  <a:tab algn="l" pos="6935760"/>
                  <a:tab algn="l" pos="7343640"/>
                  <a:tab algn="l" pos="7751880"/>
                  <a:tab algn="l" pos="8159760"/>
                  <a:tab algn="l" pos="8567640"/>
                  <a:tab algn="l" pos="8975880"/>
                  <a:tab algn="l" pos="9383760"/>
                  <a:tab algn="l" pos="979164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 1.325 a 2.768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197760" y="3563640"/>
              <a:ext cx="171396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1720" rIns="81720" tIns="42480" bIns="42480" anchor="b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657360"/>
                  <a:tab algn="l" pos="1312920"/>
                  <a:tab algn="l" pos="1631880"/>
                  <a:tab algn="l" pos="2039760"/>
                  <a:tab algn="l" pos="2448000"/>
                  <a:tab algn="l" pos="2855880"/>
                  <a:tab algn="l" pos="3263760"/>
                  <a:tab algn="l" pos="3672000"/>
                  <a:tab algn="l" pos="4079880"/>
                  <a:tab algn="l" pos="4487760"/>
                  <a:tab algn="l" pos="4896000"/>
                  <a:tab algn="l" pos="5303880"/>
                  <a:tab algn="l" pos="5711760"/>
                  <a:tab algn="l" pos="6119640"/>
                  <a:tab algn="l" pos="6527880"/>
                  <a:tab algn="l" pos="6935760"/>
                  <a:tab algn="l" pos="7343640"/>
                  <a:tab algn="l" pos="7751880"/>
                  <a:tab algn="l" pos="8159760"/>
                  <a:tab algn="l" pos="8567640"/>
                  <a:tab algn="l" pos="8975880"/>
                  <a:tab algn="l" pos="938376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57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131080" y="3563640"/>
              <a:ext cx="106632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1720" rIns="81720" tIns="42480" bIns="42480" anchor="b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657360"/>
                  <a:tab algn="l" pos="816120"/>
                  <a:tab algn="l" pos="1224000"/>
                  <a:tab algn="l" pos="1631880"/>
                  <a:tab algn="l" pos="2039760"/>
                  <a:tab algn="l" pos="2448000"/>
                  <a:tab algn="l" pos="2855880"/>
                  <a:tab algn="l" pos="3263760"/>
                  <a:tab algn="l" pos="3672000"/>
                  <a:tab algn="l" pos="4079880"/>
                  <a:tab algn="l" pos="4487760"/>
                  <a:tab algn="l" pos="4896000"/>
                  <a:tab algn="l" pos="5303880"/>
                  <a:tab algn="l" pos="5711760"/>
                  <a:tab algn="l" pos="6119640"/>
                  <a:tab algn="l" pos="6527880"/>
                  <a:tab algn="l" pos="6935760"/>
                  <a:tab algn="l" pos="7343640"/>
                  <a:tab algn="l" pos="7751880"/>
                  <a:tab algn="l" pos="8159760"/>
                  <a:tab algn="l" pos="856764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1877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924720" y="3563640"/>
              <a:ext cx="120636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1720" rIns="81720" tIns="42480" bIns="42480" anchor="b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657360"/>
                  <a:tab algn="l" pos="816120"/>
                  <a:tab algn="l" pos="1224000"/>
                  <a:tab algn="l" pos="1631880"/>
                  <a:tab algn="l" pos="2039760"/>
                  <a:tab algn="l" pos="2448000"/>
                  <a:tab algn="l" pos="2855880"/>
                  <a:tab algn="l" pos="3263760"/>
                  <a:tab algn="l" pos="3672000"/>
                  <a:tab algn="l" pos="4079880"/>
                  <a:tab algn="l" pos="4487760"/>
                  <a:tab algn="l" pos="4896000"/>
                  <a:tab algn="l" pos="5303880"/>
                  <a:tab algn="l" pos="5711760"/>
                  <a:tab algn="l" pos="6119640"/>
                  <a:tab algn="l" pos="6527880"/>
                  <a:tab algn="l" pos="6935760"/>
                  <a:tab algn="l" pos="7343640"/>
                  <a:tab algn="l" pos="7751880"/>
                  <a:tab algn="l" pos="8159760"/>
                  <a:tab algn="l" pos="856764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182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604880" y="3563640"/>
              <a:ext cx="231984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1720" rIns="81720" tIns="42480" bIns="42480" anchor="b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657360"/>
                  <a:tab algn="l" pos="1312920"/>
                  <a:tab algn="l" pos="1969920"/>
                  <a:tab algn="l" pos="2039760"/>
                  <a:tab algn="l" pos="2448000"/>
                  <a:tab algn="l" pos="2855880"/>
                  <a:tab algn="l" pos="3263760"/>
                  <a:tab algn="l" pos="3672000"/>
                  <a:tab algn="l" pos="4079880"/>
                  <a:tab algn="l" pos="4487760"/>
                  <a:tab algn="l" pos="4896000"/>
                  <a:tab algn="l" pos="5303880"/>
                  <a:tab algn="l" pos="5711760"/>
                  <a:tab algn="l" pos="6119640"/>
                  <a:tab algn="l" pos="6527880"/>
                  <a:tab algn="l" pos="6935760"/>
                  <a:tab algn="l" pos="7343640"/>
                  <a:tab algn="l" pos="7751880"/>
                  <a:tab algn="l" pos="8159760"/>
                  <a:tab algn="l" pos="8567640"/>
                  <a:tab algn="l" pos="8975880"/>
                  <a:tab algn="l" pos="9383760"/>
                  <a:tab algn="l" pos="979164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 694 a 1.325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197760" y="2515320"/>
              <a:ext cx="1713960" cy="104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1720" rIns="81720" tIns="42480" bIns="42480" anchor="t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657360"/>
                  <a:tab algn="l" pos="1312920"/>
                  <a:tab algn="l" pos="1631880"/>
                  <a:tab algn="l" pos="2039760"/>
                  <a:tab algn="l" pos="2448000"/>
                  <a:tab algn="l" pos="2855880"/>
                  <a:tab algn="l" pos="3263760"/>
                  <a:tab algn="l" pos="3672000"/>
                  <a:tab algn="l" pos="4079880"/>
                  <a:tab algn="l" pos="4487760"/>
                  <a:tab algn="l" pos="4896000"/>
                  <a:tab algn="l" pos="5303880"/>
                  <a:tab algn="l" pos="5711760"/>
                  <a:tab algn="l" pos="6119640"/>
                  <a:tab algn="l" pos="6527880"/>
                  <a:tab algn="l" pos="6935760"/>
                  <a:tab algn="l" pos="7343640"/>
                  <a:tab algn="l" pos="7751880"/>
                  <a:tab algn="l" pos="8159760"/>
                  <a:tab algn="l" pos="8567640"/>
                  <a:tab algn="l" pos="8975880"/>
                  <a:tab algn="l" pos="938376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Años que tardó en duplicar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31080" y="2515320"/>
              <a:ext cx="1066320" cy="104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1720" rIns="81720" tIns="42480" bIns="42480" anchor="t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657360"/>
                  <a:tab algn="l" pos="816120"/>
                  <a:tab algn="l" pos="1224000"/>
                  <a:tab algn="l" pos="1631880"/>
                  <a:tab algn="l" pos="2039760"/>
                  <a:tab algn="l" pos="2448000"/>
                  <a:tab algn="l" pos="2855880"/>
                  <a:tab algn="l" pos="3263760"/>
                  <a:tab algn="l" pos="3672000"/>
                  <a:tab algn="l" pos="4079880"/>
                  <a:tab algn="l" pos="4487760"/>
                  <a:tab algn="l" pos="4896000"/>
                  <a:tab algn="l" pos="5303880"/>
                  <a:tab algn="l" pos="5711760"/>
                  <a:tab algn="l" pos="6119640"/>
                  <a:tab algn="l" pos="6527880"/>
                  <a:tab algn="l" pos="6935760"/>
                  <a:tab algn="l" pos="7343640"/>
                  <a:tab algn="l" pos="7751880"/>
                  <a:tab algn="l" pos="8159760"/>
                  <a:tab algn="l" pos="856764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Año final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924720" y="2515320"/>
              <a:ext cx="1206360" cy="104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1720" rIns="81720" tIns="42480" bIns="42480" anchor="t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657360"/>
                  <a:tab algn="l" pos="816120"/>
                  <a:tab algn="l" pos="1224000"/>
                  <a:tab algn="l" pos="1631880"/>
                  <a:tab algn="l" pos="2039760"/>
                  <a:tab algn="l" pos="2448000"/>
                  <a:tab algn="l" pos="2855880"/>
                  <a:tab algn="l" pos="3263760"/>
                  <a:tab algn="l" pos="3672000"/>
                  <a:tab algn="l" pos="4079880"/>
                  <a:tab algn="l" pos="4487760"/>
                  <a:tab algn="l" pos="4896000"/>
                  <a:tab algn="l" pos="5303880"/>
                  <a:tab algn="l" pos="5711760"/>
                  <a:tab algn="l" pos="6119640"/>
                  <a:tab algn="l" pos="6527880"/>
                  <a:tab algn="l" pos="6935760"/>
                  <a:tab algn="l" pos="7343640"/>
                  <a:tab algn="l" pos="7751880"/>
                  <a:tab algn="l" pos="8159760"/>
                  <a:tab algn="l" pos="856764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Año inicial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604880" y="2515320"/>
              <a:ext cx="2319840" cy="104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1720" rIns="81720" tIns="42480" bIns="42480" anchor="t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657360"/>
                  <a:tab algn="l" pos="1312920"/>
                  <a:tab algn="l" pos="1969920"/>
                  <a:tab algn="l" pos="2039760"/>
                  <a:tab algn="l" pos="2448000"/>
                  <a:tab algn="l" pos="2855880"/>
                  <a:tab algn="l" pos="3263760"/>
                  <a:tab algn="l" pos="3672000"/>
                  <a:tab algn="l" pos="4079880"/>
                  <a:tab algn="l" pos="4487760"/>
                  <a:tab algn="l" pos="4896000"/>
                  <a:tab algn="l" pos="5303880"/>
                  <a:tab algn="l" pos="5711760"/>
                  <a:tab algn="l" pos="6119640"/>
                  <a:tab algn="l" pos="6527880"/>
                  <a:tab algn="l" pos="6935760"/>
                  <a:tab algn="l" pos="7343640"/>
                  <a:tab algn="l" pos="7751880"/>
                  <a:tab algn="l" pos="8159760"/>
                  <a:tab algn="l" pos="8567640"/>
                  <a:tab algn="l" pos="8975880"/>
                  <a:tab algn="l" pos="9383760"/>
                  <a:tab algn="l" pos="979164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PIB per cápita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657360"/>
                  <a:tab algn="l" pos="1312920"/>
                  <a:tab algn="l" pos="1969920"/>
                  <a:tab algn="l" pos="2039760"/>
                  <a:tab algn="l" pos="2448000"/>
                  <a:tab algn="l" pos="2855880"/>
                  <a:tab algn="l" pos="3263760"/>
                  <a:tab algn="l" pos="3672000"/>
                  <a:tab algn="l" pos="4079880"/>
                  <a:tab algn="l" pos="4487760"/>
                  <a:tab algn="l" pos="4896000"/>
                  <a:tab algn="l" pos="5303880"/>
                  <a:tab algn="l" pos="5711760"/>
                  <a:tab algn="l" pos="6119640"/>
                  <a:tab algn="l" pos="6527880"/>
                  <a:tab algn="l" pos="6935760"/>
                  <a:tab algn="l" pos="7343640"/>
                  <a:tab algn="l" pos="7751880"/>
                  <a:tab algn="l" pos="8159760"/>
                  <a:tab algn="l" pos="8567640"/>
                  <a:tab algn="l" pos="8975880"/>
                  <a:tab algn="l" pos="9383760"/>
                  <a:tab algn="l" pos="979164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US$ ppp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604880" y="1743120"/>
              <a:ext cx="6305760" cy="77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1720" rIns="81720" tIns="42480" bIns="4248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657360"/>
                  <a:tab algn="l" pos="1312920"/>
                  <a:tab algn="l" pos="1969920"/>
                  <a:tab algn="l" pos="2627280"/>
                  <a:tab algn="l" pos="3282840"/>
                  <a:tab algn="l" pos="3940200"/>
                  <a:tab algn="l" pos="4595760"/>
                  <a:tab algn="l" pos="5253120"/>
                  <a:tab algn="l" pos="5910120"/>
                  <a:tab algn="l" pos="6119640"/>
                  <a:tab algn="l" pos="6527880"/>
                  <a:tab algn="l" pos="6935760"/>
                  <a:tab algn="l" pos="7343640"/>
                  <a:tab algn="l" pos="7751880"/>
                  <a:tab algn="l" pos="8159760"/>
                  <a:tab algn="l" pos="8567640"/>
                  <a:tab algn="l" pos="8975880"/>
                  <a:tab algn="l" pos="9383760"/>
                  <a:tab algn="l" pos="9791640"/>
                  <a:tab algn="l" pos="10199520"/>
                  <a:tab algn="l" pos="106077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La difícil tarea de duplicar nuestro ingreso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604880" y="1743120"/>
              <a:ext cx="63057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604880" y="5658120"/>
              <a:ext cx="6305760" cy="1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604880" y="1743120"/>
              <a:ext cx="1080" cy="39135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910640" y="1743120"/>
              <a:ext cx="1080" cy="39135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604880" y="2515320"/>
              <a:ext cx="6305760" cy="1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604880" y="3563640"/>
              <a:ext cx="63057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3502080" y="5738760"/>
            <a:ext cx="467352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>
              <a:lnSpc>
                <a:spcPct val="75000"/>
              </a:lnSpc>
              <a:spcBef>
                <a:spcPts val="675"/>
              </a:spcBef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en-GB" sz="1100" spc="-1" strike="noStrike">
                <a:solidFill>
                  <a:srgbClr val="808080"/>
                </a:solidFill>
                <a:latin typeface="Arial"/>
              </a:rPr>
              <a:t>“</a:t>
            </a:r>
            <a:r>
              <a:rPr b="0" lang="en-GB" sz="1100" spc="-1" strike="noStrike">
                <a:solidFill>
                  <a:srgbClr val="808080"/>
                </a:solidFill>
                <a:latin typeface="Arial"/>
              </a:rPr>
              <a:t>The World Economy: Historical Statistics”.  A. Maddison, 2007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rot="5400000">
            <a:off x="1315800" y="5314680"/>
            <a:ext cx="190440" cy="349200"/>
          </a:xfrm>
          <a:prstGeom prst="triangle">
            <a:avLst>
              <a:gd name="adj" fmla="val 50000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655560" y="1633680"/>
          <a:ext cx="7688520" cy="52164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2"/>
          </a:graphicData>
        </a:graphic>
      </p:graphicFrame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63440" y="70920"/>
            <a:ext cx="8817120" cy="12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408960"/>
                <a:tab algn="l" pos="10080720"/>
              </a:tabLst>
            </a:pPr>
            <a:r>
              <a:rPr b="1" lang="en-GB" sz="2700" spc="-1" strike="noStrike">
                <a:solidFill>
                  <a:srgbClr val="ff0000"/>
                </a:solidFill>
                <a:latin typeface="Tahoma"/>
              </a:rPr>
              <a:t>COMPOSICION DEL CRECIMIENTO DEL PIB EN DEMOCRACIA: INCIDENCIA (DECLINANTE) DE LA PRODUCTIVIDAD TOTAL DE LOS FACTORES</a:t>
            </a:r>
            <a:endParaRPr b="0" lang="en-US" sz="27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1612800" y="4813200"/>
            <a:ext cx="5950080" cy="11318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1877" y="2181"/>
                </a:moveTo>
                <a:lnTo>
                  <a:pt x="22637" y="2181"/>
                </a:lnTo>
                <a:lnTo>
                  <a:pt x="22637" y="-3544"/>
                </a:lnTo>
                <a:lnTo>
                  <a:pt x="13669" y="-9270"/>
                </a:lnTo>
              </a:path>
            </a:pathLst>
          </a:custGeom>
          <a:gradFill rotWithShape="0">
            <a:gsLst>
              <a:gs pos="0">
                <a:srgbClr val="d1e2f7"/>
              </a:gs>
              <a:gs pos="50000">
                <a:srgbClr val="ffffff"/>
              </a:gs>
              <a:gs pos="100000">
                <a:srgbClr val="d1e2f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510920" y="569880"/>
            <a:ext cx="5156280" cy="9669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2480" bIns="42480" anchor="ctr">
            <a:noAutofit/>
          </a:bodyPr>
          <a:p>
            <a:pPr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2400" spc="-1" strike="noStrike">
                <a:solidFill>
                  <a:srgbClr val="e5ffff"/>
                </a:solidFill>
                <a:latin typeface="Tahoma"/>
              </a:rPr>
              <a:t>Por ello, </a:t>
            </a:r>
            <a:r>
              <a:rPr b="0" lang="en-GB" sz="2400" spc="-1" strike="noStrike" u="sng">
                <a:solidFill>
                  <a:srgbClr val="e5ffff"/>
                </a:solidFill>
                <a:uFillTx/>
                <a:latin typeface="Tahoma"/>
              </a:rPr>
              <a:t>tenemos</a:t>
            </a:r>
            <a:r>
              <a:rPr b="0" lang="en-GB" sz="2400" spc="-1" strike="noStrike">
                <a:solidFill>
                  <a:srgbClr val="e5ffff"/>
                </a:solidFill>
                <a:latin typeface="Tahoma"/>
              </a:rPr>
              <a:t> que revisar</a:t>
            </a:r>
            <a:br>
              <a:rPr sz="2400"/>
            </a:br>
            <a:r>
              <a:rPr b="0" lang="en-GB" sz="2400" spc="-1" strike="noStrike">
                <a:solidFill>
                  <a:srgbClr val="e5ffff"/>
                </a:solidFill>
                <a:latin typeface="Tahoma"/>
              </a:rPr>
              <a:t>nuestra estrategia de desarrollo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14200" y="1464840"/>
            <a:ext cx="7008840" cy="345924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2480" bIns="42480" anchor="t">
            <a:normAutofit/>
          </a:bodyPr>
          <a:p>
            <a:pPr marL="37800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8064360"/>
                <a:tab algn="l" pos="9072720"/>
                <a:tab algn="l" pos="1008072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Dos tendencias marcan el futur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7800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8064360"/>
                <a:tab algn="l" pos="9072720"/>
                <a:tab algn="l" pos="1008072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19000" indent="-315720">
              <a:lnSpc>
                <a:spcPct val="75000"/>
              </a:lnSpc>
              <a:spcBef>
                <a:spcPts val="45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8064360"/>
                <a:tab algn="l" pos="9072720"/>
                <a:tab algn="l" pos="1008072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Avance insoslayable de la globalizació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260360" indent="-252360">
              <a:lnSpc>
                <a:spcPct val="75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8064360"/>
                <a:tab algn="l" pos="9072720"/>
                <a:tab algn="l" pos="1008072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uevos mercados para nuestras exportaciones o nuevos bienes de consum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260360" indent="-252360">
              <a:lnSpc>
                <a:spcPct val="75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8064360"/>
                <a:tab algn="l" pos="9072720"/>
                <a:tab algn="l" pos="1008072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Emergencia de nuevos competidores en mercados ya conquistados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26036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8064360"/>
                <a:tab algn="l" pos="9072720"/>
                <a:tab algn="l" pos="1008072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819000" indent="-315720">
              <a:lnSpc>
                <a:spcPct val="75000"/>
              </a:lnSpc>
              <a:spcBef>
                <a:spcPts val="45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8064360"/>
                <a:tab algn="l" pos="9072720"/>
                <a:tab algn="l" pos="1008072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Tahoma"/>
              </a:rPr>
              <a:t>Mejorar nuestra Productividad Total de los Factores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lvl="2" marL="1260360" indent="-252360">
              <a:lnSpc>
                <a:spcPct val="75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8064360"/>
                <a:tab algn="l" pos="9072720"/>
                <a:tab algn="l" pos="1008072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a calidad del capital human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260360" indent="-252360">
              <a:lnSpc>
                <a:spcPct val="75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8064360"/>
                <a:tab algn="l" pos="9072720"/>
                <a:tab algn="l" pos="1008072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El conocimiento y la </a:t>
            </a:r>
            <a:r>
              <a:rPr b="1" lang="en-GB" sz="1800" spc="-1" strike="noStrike" u="sng">
                <a:solidFill>
                  <a:srgbClr val="ffffff"/>
                </a:solidFill>
                <a:uFillTx/>
                <a:latin typeface="Tahoma"/>
              </a:rPr>
              <a:t>innovació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26036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8064360"/>
                <a:tab algn="l" pos="9072720"/>
                <a:tab algn="l" pos="1008072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26036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8064360"/>
                <a:tab algn="l" pos="9072720"/>
                <a:tab algn="l" pos="1008072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"/>
          <p:cNvSpPr/>
          <p:nvPr/>
        </p:nvSpPr>
        <p:spPr>
          <a:xfrm>
            <a:off x="1711440" y="4883040"/>
            <a:ext cx="5788080" cy="94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>
              <a:lnSpc>
                <a:spcPct val="75000"/>
              </a:lnSpc>
              <a:spcBef>
                <a:spcPts val="913"/>
              </a:spcBef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Proceso mediante el cual ciertos 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productos o procesos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productivos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, desarrollados en base a 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nuevos conocimientos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 o a la combinación novedosa de conocimiento preexistente, son 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introducidos eficazmente en los mercados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, y por lo tanto en la vida social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" name=""/>
          <p:cNvGrpSpPr/>
          <p:nvPr/>
        </p:nvGrpSpPr>
        <p:grpSpPr>
          <a:xfrm>
            <a:off x="539640" y="1198440"/>
            <a:ext cx="7702560" cy="4534200"/>
            <a:chOff x="539640" y="1198440"/>
            <a:chExt cx="7702560" cy="4534200"/>
          </a:xfrm>
        </p:grpSpPr>
        <p:graphicFrame>
          <p:nvGraphicFramePr>
            <p:cNvPr id="149" name=""/>
            <p:cNvGraphicFramePr/>
            <p:nvPr/>
          </p:nvGraphicFramePr>
          <p:xfrm>
            <a:off x="539640" y="1198440"/>
            <a:ext cx="7702560" cy="4534200"/>
          </p:xfrm>
          <a:graphic>
            <a:graphicData uri="http://schemas.openxmlformats.org/presentationml/2006/ole">
              <p:oleObj progId="Excel.Sheet.12" r:id="rId2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539640" y="1198440"/>
                      <a:ext cx="7702560" cy="4534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51" name=""/>
            <p:cNvSpPr/>
            <p:nvPr/>
          </p:nvSpPr>
          <p:spPr>
            <a:xfrm>
              <a:off x="539640" y="1198440"/>
              <a:ext cx="7702560" cy="453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2" name=""/>
          <p:cNvSpPr/>
          <p:nvPr/>
        </p:nvSpPr>
        <p:spPr>
          <a:xfrm>
            <a:off x="5964120" y="5788080"/>
            <a:ext cx="2313000" cy="2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2480" bIns="424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Source: Barros and Lee 200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24000" y="439560"/>
            <a:ext cx="8496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4240"/>
                <a:tab algn="l" pos="7221600"/>
                <a:tab algn="l" pos="788040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en-GB" sz="2200" spc="-1" strike="noStrike">
                <a:solidFill>
                  <a:srgbClr val="ff9900"/>
                </a:solidFill>
                <a:latin typeface="Arial"/>
              </a:rPr>
              <a:t>Años promedio de escolaridad en edad adult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79600" y="618840"/>
            <a:ext cx="7035840" cy="5763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2480" bIns="42480" anchor="t">
            <a:noAutofit/>
          </a:bodyPr>
          <a:p>
            <a:pPr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8064360"/>
                <a:tab algn="l" pos="9072720"/>
                <a:tab algn="l" pos="10080720"/>
              </a:tabLst>
            </a:pPr>
            <a:r>
              <a:rPr b="0" lang="en-GB" sz="2800" spc="-1" strike="noStrike">
                <a:solidFill>
                  <a:srgbClr val="e5ffff"/>
                </a:solidFill>
                <a:latin typeface="Tahoma"/>
              </a:rPr>
              <a:t>Un mayor esfuerzo en I+D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5" name=""/>
          <p:cNvSpPr/>
          <p:nvPr/>
        </p:nvSpPr>
        <p:spPr>
          <a:xfrm>
            <a:off x="1477800" y="1414440"/>
            <a:ext cx="6880320" cy="4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>
              <a:lnSpc>
                <a:spcPct val="75000"/>
              </a:lnSpc>
              <a:spcBef>
                <a:spcPts val="414"/>
              </a:spcBef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424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en-GB" sz="1800" spc="-1" strike="noStrike">
                <a:solidFill>
                  <a:srgbClr val="ff9900"/>
                </a:solidFill>
                <a:latin typeface="Arial"/>
              </a:rPr>
              <a:t>No es correcto afirmar que los países ricos invierten más en I+D porque son ricos… son ricos porque invierten más en I+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438800" y="6572160"/>
            <a:ext cx="8697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 algn="ctr">
              <a:lnSpc>
                <a:spcPct val="75000"/>
              </a:lnSpc>
              <a:spcBef>
                <a:spcPts val="675"/>
              </a:spcBef>
              <a:tabLst>
                <a:tab algn="l" pos="0"/>
                <a:tab algn="l" pos="65736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2004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2"/>
          <a:srcRect l="664" t="0" r="0" b="0"/>
          <a:stretch/>
        </p:blipFill>
        <p:spPr>
          <a:xfrm>
            <a:off x="1685880" y="3087720"/>
            <a:ext cx="5570640" cy="186840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1592280" y="2117880"/>
            <a:ext cx="3200400" cy="42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en-GB" sz="1500" spc="-1" strike="noStrike">
                <a:solidFill>
                  <a:srgbClr val="ff9900"/>
                </a:solidFill>
                <a:latin typeface="Arial"/>
              </a:rPr>
              <a:t>Cómo lo hace Chile en I+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en-GB" sz="900" spc="-1" strike="noStrike">
                <a:solidFill>
                  <a:srgbClr val="ff9900"/>
                </a:solidFill>
                <a:latin typeface="Arial"/>
              </a:rPr>
              <a:t>(% del PIB)</a:t>
            </a:r>
            <a:r>
              <a:rPr b="0" lang="en-GB" sz="900" spc="-1" strike="noStrike">
                <a:solidFill>
                  <a:srgbClr val="ff9900"/>
                </a:solidFill>
                <a:latin typeface="Arial"/>
              </a:rPr>
              <a:t>‏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592280" y="3040200"/>
            <a:ext cx="1440" cy="1879560"/>
          </a:xfrm>
          <a:custGeom>
            <a:avLst/>
            <a:gdLst/>
            <a:ahLst/>
            <a:rect l="l" t="t" r="r" b="b"/>
            <a:pathLst>
              <a:path w="1" h="5756">
                <a:moveTo>
                  <a:pt x="0" y="0"/>
                </a:moveTo>
                <a:lnTo>
                  <a:pt x="0" y="5755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92280" y="4932360"/>
            <a:ext cx="5789520" cy="1440"/>
          </a:xfrm>
          <a:custGeom>
            <a:avLst/>
            <a:gdLst/>
            <a:ahLst/>
            <a:rect l="l" t="t" r="r" b="b"/>
            <a:pathLst>
              <a:path w="17725" h="1">
                <a:moveTo>
                  <a:pt x="0" y="0"/>
                </a:moveTo>
                <a:lnTo>
                  <a:pt x="17724" y="0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1783440" y="4970520"/>
            <a:ext cx="5659560" cy="187920"/>
            <a:chOff x="1783440" y="4970520"/>
            <a:chExt cx="5659560" cy="187920"/>
          </a:xfrm>
        </p:grpSpPr>
        <p:sp>
          <p:nvSpPr>
            <p:cNvPr id="162" name=""/>
            <p:cNvSpPr/>
            <p:nvPr/>
          </p:nvSpPr>
          <p:spPr>
            <a:xfrm>
              <a:off x="1783440" y="4970520"/>
              <a:ext cx="452160" cy="18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2480" bIns="42480" anchor="t">
              <a:spAutoFit/>
            </a:bodyPr>
            <a:p>
              <a:pPr algn="r">
                <a:lnSpc>
                  <a:spcPct val="75000"/>
                </a:lnSpc>
                <a:spcBef>
                  <a:spcPts val="224"/>
                </a:spcBef>
                <a:tabLst>
                  <a:tab algn="l" pos="0"/>
                  <a:tab algn="l" pos="407880"/>
                  <a:tab algn="l" pos="816120"/>
                  <a:tab algn="l" pos="1224000"/>
                  <a:tab algn="l" pos="1631880"/>
                  <a:tab algn="l" pos="2039760"/>
                  <a:tab algn="l" pos="2448000"/>
                  <a:tab algn="l" pos="2855880"/>
                  <a:tab algn="l" pos="3263760"/>
                  <a:tab algn="l" pos="3672000"/>
                  <a:tab algn="l" pos="4079880"/>
                  <a:tab algn="l" pos="4487760"/>
                  <a:tab algn="l" pos="4896000"/>
                  <a:tab algn="l" pos="5303880"/>
                  <a:tab algn="l" pos="5711760"/>
                  <a:tab algn="l" pos="6119640"/>
                  <a:tab algn="l" pos="6527880"/>
                  <a:tab algn="l" pos="6935760"/>
                  <a:tab algn="l" pos="7343640"/>
                  <a:tab algn="l" pos="7751880"/>
                  <a:tab algn="l" pos="815976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Arial"/>
                </a:rPr>
                <a:t>5.0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051000" y="4970520"/>
              <a:ext cx="516240" cy="18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2480" bIns="42480" anchor="t">
              <a:spAutoFit/>
            </a:bodyPr>
            <a:p>
              <a:pPr algn="r">
                <a:lnSpc>
                  <a:spcPct val="75000"/>
                </a:lnSpc>
                <a:spcBef>
                  <a:spcPts val="224"/>
                </a:spcBef>
                <a:tabLst>
                  <a:tab algn="l" pos="0"/>
                  <a:tab algn="l" pos="407880"/>
                  <a:tab algn="l" pos="816120"/>
                  <a:tab algn="l" pos="1224000"/>
                  <a:tab algn="l" pos="1631880"/>
                  <a:tab algn="l" pos="2039760"/>
                  <a:tab algn="l" pos="2448000"/>
                  <a:tab algn="l" pos="2855880"/>
                  <a:tab algn="l" pos="3263760"/>
                  <a:tab algn="l" pos="3672000"/>
                  <a:tab algn="l" pos="4079880"/>
                  <a:tab algn="l" pos="4487760"/>
                  <a:tab algn="l" pos="4896000"/>
                  <a:tab algn="l" pos="5303880"/>
                  <a:tab algn="l" pos="5711760"/>
                  <a:tab algn="l" pos="6119640"/>
                  <a:tab algn="l" pos="6527880"/>
                  <a:tab algn="l" pos="6935760"/>
                  <a:tab algn="l" pos="7343640"/>
                  <a:tab algn="l" pos="7751880"/>
                  <a:tab algn="l" pos="815976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Arial"/>
                </a:rPr>
                <a:t>10.0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334040" y="4970520"/>
              <a:ext cx="516240" cy="18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2480" bIns="42480" anchor="t">
              <a:spAutoFit/>
            </a:bodyPr>
            <a:p>
              <a:pPr algn="r">
                <a:lnSpc>
                  <a:spcPct val="75000"/>
                </a:lnSpc>
                <a:spcBef>
                  <a:spcPts val="224"/>
                </a:spcBef>
                <a:tabLst>
                  <a:tab algn="l" pos="0"/>
                  <a:tab algn="l" pos="407880"/>
                  <a:tab algn="l" pos="816120"/>
                  <a:tab algn="l" pos="1224000"/>
                  <a:tab algn="l" pos="1631880"/>
                  <a:tab algn="l" pos="2039760"/>
                  <a:tab algn="l" pos="2448000"/>
                  <a:tab algn="l" pos="2855880"/>
                  <a:tab algn="l" pos="3263760"/>
                  <a:tab algn="l" pos="3672000"/>
                  <a:tab algn="l" pos="4079880"/>
                  <a:tab algn="l" pos="4487760"/>
                  <a:tab algn="l" pos="4896000"/>
                  <a:tab algn="l" pos="5303880"/>
                  <a:tab algn="l" pos="5711760"/>
                  <a:tab algn="l" pos="6119640"/>
                  <a:tab algn="l" pos="6527880"/>
                  <a:tab algn="l" pos="6935760"/>
                  <a:tab algn="l" pos="7343640"/>
                  <a:tab algn="l" pos="7751880"/>
                  <a:tab algn="l" pos="815976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Arial"/>
                </a:rPr>
                <a:t>15.0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617440" y="4970520"/>
              <a:ext cx="516240" cy="18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2480" bIns="42480" anchor="t">
              <a:spAutoFit/>
            </a:bodyPr>
            <a:p>
              <a:pPr algn="r">
                <a:lnSpc>
                  <a:spcPct val="75000"/>
                </a:lnSpc>
                <a:spcBef>
                  <a:spcPts val="224"/>
                </a:spcBef>
                <a:tabLst>
                  <a:tab algn="l" pos="0"/>
                  <a:tab algn="l" pos="407880"/>
                  <a:tab algn="l" pos="816120"/>
                  <a:tab algn="l" pos="1224000"/>
                  <a:tab algn="l" pos="1631880"/>
                  <a:tab algn="l" pos="2039760"/>
                  <a:tab algn="l" pos="2448000"/>
                  <a:tab algn="l" pos="2855880"/>
                  <a:tab algn="l" pos="3263760"/>
                  <a:tab algn="l" pos="3672000"/>
                  <a:tab algn="l" pos="4079880"/>
                  <a:tab algn="l" pos="4487760"/>
                  <a:tab algn="l" pos="4896000"/>
                  <a:tab algn="l" pos="5303880"/>
                  <a:tab algn="l" pos="5711760"/>
                  <a:tab algn="l" pos="6119640"/>
                  <a:tab algn="l" pos="6527880"/>
                  <a:tab algn="l" pos="6935760"/>
                  <a:tab algn="l" pos="7343640"/>
                  <a:tab algn="l" pos="7751880"/>
                  <a:tab algn="l" pos="815976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Arial"/>
                </a:rPr>
                <a:t>20.0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926760" y="4970520"/>
              <a:ext cx="516240" cy="18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2480" bIns="42480" anchor="t">
              <a:spAutoFit/>
            </a:bodyPr>
            <a:p>
              <a:pPr algn="r">
                <a:lnSpc>
                  <a:spcPct val="75000"/>
                </a:lnSpc>
                <a:spcBef>
                  <a:spcPts val="224"/>
                </a:spcBef>
                <a:tabLst>
                  <a:tab algn="l" pos="0"/>
                  <a:tab algn="l" pos="407880"/>
                  <a:tab algn="l" pos="816120"/>
                  <a:tab algn="l" pos="1224000"/>
                  <a:tab algn="l" pos="1631880"/>
                  <a:tab algn="l" pos="2039760"/>
                  <a:tab algn="l" pos="2448000"/>
                  <a:tab algn="l" pos="2855880"/>
                  <a:tab algn="l" pos="3263760"/>
                  <a:tab algn="l" pos="3672000"/>
                  <a:tab algn="l" pos="4079880"/>
                  <a:tab algn="l" pos="4487760"/>
                  <a:tab algn="l" pos="4896000"/>
                  <a:tab algn="l" pos="5303880"/>
                  <a:tab algn="l" pos="5711760"/>
                  <a:tab algn="l" pos="6119640"/>
                  <a:tab algn="l" pos="6527880"/>
                  <a:tab algn="l" pos="6935760"/>
                  <a:tab algn="l" pos="7343640"/>
                  <a:tab algn="l" pos="7751880"/>
                  <a:tab algn="l" pos="8159760"/>
                </a:tabLst>
              </a:pPr>
              <a:r>
                <a:rPr b="0" lang="en-GB" sz="900" spc="-1" strike="noStrike">
                  <a:solidFill>
                    <a:srgbClr val="ff9900"/>
                  </a:solidFill>
                  <a:latin typeface="Arial"/>
                </a:rPr>
                <a:t>25.0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7440480" y="4883040"/>
            <a:ext cx="66996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2480" bIns="4248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65736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0" lang="en-GB" sz="900" spc="-1" strike="noStrike">
                <a:solidFill>
                  <a:srgbClr val="ff9900"/>
                </a:solidFill>
                <a:latin typeface="Arial"/>
              </a:rPr>
              <a:t>PIB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65736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0" lang="en-GB" sz="900" spc="-1" strike="noStrike">
                <a:solidFill>
                  <a:srgbClr val="ff9900"/>
                </a:solidFill>
                <a:latin typeface="Arial"/>
              </a:rPr>
              <a:t>per cápita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379520" y="4386240"/>
            <a:ext cx="228240" cy="18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2480" bIns="42480" anchor="t">
            <a:spAutoFit/>
          </a:bodyPr>
          <a:p>
            <a:pPr algn="r">
              <a:lnSpc>
                <a:spcPct val="75000"/>
              </a:lnSpc>
              <a:spcBef>
                <a:spcPts val="224"/>
              </a:spcBef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379520" y="3971880"/>
            <a:ext cx="228240" cy="18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2480" bIns="42480" anchor="t">
            <a:spAutoFit/>
          </a:bodyPr>
          <a:p>
            <a:pPr algn="r">
              <a:lnSpc>
                <a:spcPct val="75000"/>
              </a:lnSpc>
              <a:spcBef>
                <a:spcPts val="224"/>
              </a:spcBef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379520" y="3592440"/>
            <a:ext cx="228240" cy="18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2480" bIns="42480" anchor="t">
            <a:spAutoFit/>
          </a:bodyPr>
          <a:p>
            <a:pPr algn="r">
              <a:lnSpc>
                <a:spcPct val="75000"/>
              </a:lnSpc>
              <a:spcBef>
                <a:spcPts val="224"/>
              </a:spcBef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379520" y="3209760"/>
            <a:ext cx="228240" cy="18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2480" bIns="42480" anchor="t">
            <a:spAutoFit/>
          </a:bodyPr>
          <a:p>
            <a:pPr algn="r">
              <a:lnSpc>
                <a:spcPct val="75000"/>
              </a:lnSpc>
              <a:spcBef>
                <a:spcPts val="224"/>
              </a:spcBef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924120" y="2684520"/>
            <a:ext cx="6699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2480" bIns="42480" anchor="t">
            <a:spAutoFit/>
          </a:bodyPr>
          <a:p>
            <a:pPr algn="r">
              <a:lnSpc>
                <a:spcPct val="75000"/>
              </a:lnSpc>
              <a:tabLst>
                <a:tab algn="l" pos="0"/>
                <a:tab algn="l" pos="65736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0" lang="en-GB" sz="900" spc="-1" strike="noStrike">
                <a:solidFill>
                  <a:srgbClr val="ff9900"/>
                </a:solidFill>
                <a:latin typeface="Arial"/>
              </a:rPr>
              <a:t>% del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75000"/>
              </a:lnSpc>
              <a:tabLst>
                <a:tab algn="l" pos="0"/>
                <a:tab algn="l" pos="65736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0" lang="en-GB" sz="900" spc="-1" strike="noStrike">
                <a:solidFill>
                  <a:srgbClr val="ff9900"/>
                </a:solidFill>
                <a:latin typeface="Arial"/>
              </a:rPr>
              <a:t>Ingreso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75000"/>
              </a:lnSpc>
              <a:tabLst>
                <a:tab algn="l" pos="0"/>
                <a:tab algn="l" pos="65736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0" lang="en-GB" sz="900" spc="-1" strike="noStrike">
                <a:solidFill>
                  <a:srgbClr val="ff9900"/>
                </a:solidFill>
                <a:latin typeface="Arial"/>
              </a:rPr>
              <a:t>per cápita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036960" y="5452920"/>
            <a:ext cx="4448160" cy="8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828720"/>
                <a:tab algn="l" pos="1658880"/>
                <a:tab algn="l" pos="2487600"/>
                <a:tab algn="l" pos="3317760"/>
                <a:tab algn="l" pos="4146480"/>
                <a:tab algn="l" pos="4976640"/>
                <a:tab algn="l" pos="5805360"/>
                <a:tab algn="l" pos="6635880"/>
                <a:tab algn="l" pos="7462800"/>
                <a:tab algn="l" pos="8294760"/>
                <a:tab algn="l" pos="91216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en-GB" sz="900" spc="-1" strike="noStrike">
                <a:solidFill>
                  <a:srgbClr val="ff9900"/>
                </a:solidFill>
                <a:latin typeface="Arial"/>
              </a:rPr>
              <a:t>China </a:t>
            </a:r>
            <a:r>
              <a:rPr b="0" lang="en-GB" sz="9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GB" sz="900" spc="-1" strike="noStrike">
                <a:solidFill>
                  <a:srgbClr val="ff9900"/>
                </a:solidFill>
                <a:latin typeface="Arial"/>
              </a:rPr>
              <a:t>  Corea</a:t>
            </a:r>
            <a:r>
              <a:rPr b="0" lang="en-GB" sz="9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GB" sz="900" spc="-1" strike="noStrike">
                <a:solidFill>
                  <a:srgbClr val="ff9900"/>
                </a:solidFill>
                <a:latin typeface="Arial"/>
              </a:rPr>
              <a:t>     Estonia                 Hong Kong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828720"/>
                <a:tab algn="l" pos="1658880"/>
                <a:tab algn="l" pos="2487600"/>
                <a:tab algn="l" pos="3317760"/>
                <a:tab algn="l" pos="4146480"/>
                <a:tab algn="l" pos="4976640"/>
                <a:tab algn="l" pos="5805360"/>
                <a:tab algn="l" pos="6635880"/>
                <a:tab algn="l" pos="7462800"/>
                <a:tab algn="l" pos="8294760"/>
                <a:tab algn="l" pos="91216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en-GB" sz="900" spc="-1" strike="noStrike">
                <a:solidFill>
                  <a:srgbClr val="ff9900"/>
                </a:solidFill>
                <a:latin typeface="Arial"/>
              </a:rPr>
              <a:t>Letonia</a:t>
            </a:r>
            <a:r>
              <a:rPr b="0" lang="en-GB" sz="9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GB" sz="900" spc="-1" strike="noStrike">
                <a:solidFill>
                  <a:srgbClr val="ff9900"/>
                </a:solidFill>
                <a:latin typeface="Arial"/>
              </a:rPr>
              <a:t>   Lituania </a:t>
            </a:r>
            <a:r>
              <a:rPr b="0" lang="en-GB" sz="9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GB" sz="900" spc="-1" strike="noStrike">
                <a:solidFill>
                  <a:srgbClr val="ff9900"/>
                </a:solidFill>
                <a:latin typeface="Arial"/>
              </a:rPr>
              <a:t>     Malasia</a:t>
            </a:r>
            <a:r>
              <a:rPr b="0" lang="en-GB" sz="9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GB" sz="900" spc="-1" strike="noStrike">
                <a:solidFill>
                  <a:srgbClr val="ff9900"/>
                </a:solidFill>
                <a:latin typeface="Arial"/>
              </a:rPr>
              <a:t>        Tailandia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828720"/>
                <a:tab algn="l" pos="1658880"/>
                <a:tab algn="l" pos="2487600"/>
                <a:tab algn="l" pos="3317760"/>
                <a:tab algn="l" pos="4146480"/>
                <a:tab algn="l" pos="4976640"/>
                <a:tab algn="l" pos="5805360"/>
                <a:tab algn="l" pos="6635880"/>
                <a:tab algn="l" pos="7462800"/>
                <a:tab algn="l" pos="8294760"/>
                <a:tab algn="l" pos="91216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en-GB" sz="900" spc="-1" strike="noStrike">
                <a:solidFill>
                  <a:srgbClr val="ff9900"/>
                </a:solidFill>
                <a:latin typeface="Arial"/>
              </a:rPr>
              <a:t>Australia</a:t>
            </a:r>
            <a:r>
              <a:rPr b="0" lang="en-GB" sz="9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GB" sz="900" spc="-1" strike="noStrike">
                <a:solidFill>
                  <a:srgbClr val="ff9900"/>
                </a:solidFill>
                <a:latin typeface="Arial"/>
              </a:rPr>
              <a:t>  Finlandia</a:t>
            </a:r>
            <a:r>
              <a:rPr b="0" lang="en-GB" sz="9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GB" sz="900" spc="-1" strike="noStrike">
                <a:solidFill>
                  <a:srgbClr val="ff9900"/>
                </a:solidFill>
                <a:latin typeface="Arial"/>
              </a:rPr>
              <a:t>    Noruega                 Suecia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828720"/>
                <a:tab algn="l" pos="1658880"/>
                <a:tab algn="l" pos="2487600"/>
                <a:tab algn="l" pos="3317760"/>
                <a:tab algn="l" pos="4146480"/>
                <a:tab algn="l" pos="4976640"/>
                <a:tab algn="l" pos="5805360"/>
                <a:tab algn="l" pos="6635880"/>
                <a:tab algn="l" pos="7462800"/>
                <a:tab algn="l" pos="8294760"/>
                <a:tab algn="l" pos="91216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en-GB" sz="900" spc="-1" strike="noStrike">
                <a:solidFill>
                  <a:srgbClr val="ff9900"/>
                </a:solidFill>
                <a:latin typeface="Arial"/>
              </a:rPr>
              <a:t>Taiwán</a:t>
            </a:r>
            <a:r>
              <a:rPr b="0" lang="en-GB" sz="9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GB" sz="900" spc="-1" strike="noStrike">
                <a:solidFill>
                  <a:srgbClr val="ff9900"/>
                </a:solidFill>
                <a:latin typeface="Arial"/>
              </a:rPr>
              <a:t>  Singapur              Irlanda</a:t>
            </a:r>
            <a:r>
              <a:rPr b="0" lang="en-GB" sz="9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GB" sz="900" spc="-1" strike="noStrike">
                <a:solidFill>
                  <a:srgbClr val="ff9900"/>
                </a:solidFill>
                <a:latin typeface="Arial"/>
              </a:rPr>
              <a:t>         Nva. Zelanda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828720"/>
                <a:tab algn="l" pos="1658880"/>
                <a:tab algn="l" pos="2487600"/>
                <a:tab algn="l" pos="3317760"/>
                <a:tab algn="l" pos="4146480"/>
                <a:tab algn="l" pos="4976640"/>
                <a:tab algn="l" pos="5805360"/>
                <a:tab algn="l" pos="6635880"/>
                <a:tab algn="l" pos="7462800"/>
                <a:tab algn="l" pos="8294760"/>
                <a:tab algn="l" pos="91216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en-GB" sz="900" spc="-1" strike="noStrike">
                <a:solidFill>
                  <a:srgbClr val="ff9900"/>
                </a:solidFill>
                <a:latin typeface="Arial"/>
              </a:rPr>
              <a:t>Eslovenia</a:t>
            </a:r>
            <a:r>
              <a:rPr b="0" lang="en-GB" sz="9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GB" sz="900" spc="-1" strike="noStrike">
                <a:solidFill>
                  <a:srgbClr val="ff9900"/>
                </a:solidFill>
                <a:latin typeface="Arial"/>
              </a:rPr>
              <a:t>  Dinamarca</a:t>
            </a:r>
            <a:r>
              <a:rPr b="0" lang="en-GB" sz="9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GB" sz="9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GB" sz="900" spc="-1" strike="noStrike">
                <a:solidFill>
                  <a:srgbClr val="ff9900"/>
                </a:solidFill>
                <a:latin typeface="Arial"/>
              </a:rPr>
              <a:t>         Tendencia promedio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838760" y="5545080"/>
            <a:ext cx="76320" cy="76320"/>
          </a:xfrm>
          <a:prstGeom prst="ellipse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838760" y="5695920"/>
            <a:ext cx="76320" cy="76320"/>
          </a:xfrm>
          <a:prstGeom prst="ellipse">
            <a:avLst/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775480" y="5545080"/>
            <a:ext cx="75960" cy="7632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775480" y="5695920"/>
            <a:ext cx="75960" cy="76320"/>
          </a:xfrm>
          <a:prstGeom prst="ellipse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927600" y="5545080"/>
            <a:ext cx="75960" cy="76320"/>
          </a:xfrm>
          <a:prstGeom prst="ellipse">
            <a:avLst/>
          </a:pr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7600" y="5695920"/>
            <a:ext cx="75960" cy="76320"/>
          </a:xfrm>
          <a:prstGeom prst="ellipse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000240" y="5543640"/>
            <a:ext cx="76320" cy="75960"/>
          </a:xfrm>
          <a:prstGeom prst="ellipse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000240" y="5695920"/>
            <a:ext cx="76320" cy="76320"/>
          </a:xfrm>
          <a:prstGeom prst="ellipse">
            <a:avLst/>
          </a:pr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307120" y="6197760"/>
            <a:ext cx="527040" cy="1440"/>
          </a:xfrm>
          <a:custGeom>
            <a:avLst/>
            <a:gdLst/>
            <a:ahLst/>
            <a:rect l="l" t="t" r="r" b="b"/>
            <a:pathLst>
              <a:path w="1615" h="1">
                <a:moveTo>
                  <a:pt x="0" y="0"/>
                </a:moveTo>
                <a:lnTo>
                  <a:pt x="1614" y="0"/>
                </a:ln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838760" y="5851440"/>
            <a:ext cx="76320" cy="76320"/>
          </a:xfrm>
          <a:prstGeom prst="ellipse">
            <a:avLst/>
          </a:prstGeom>
          <a:solidFill>
            <a:srgbClr val="33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000240" y="5851440"/>
            <a:ext cx="76320" cy="76320"/>
          </a:xfrm>
          <a:prstGeom prst="ellipse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5800" y="5851440"/>
            <a:ext cx="76320" cy="76320"/>
          </a:xfrm>
          <a:prstGeom prst="ellipse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776920" y="5851440"/>
            <a:ext cx="76320" cy="76320"/>
          </a:xfrm>
          <a:prstGeom prst="ellips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776920" y="5999040"/>
            <a:ext cx="76320" cy="7632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838760" y="5999040"/>
            <a:ext cx="76320" cy="76320"/>
          </a:xfrm>
          <a:prstGeom prst="ellipse">
            <a:avLst/>
          </a:prstGeom>
          <a:solidFill>
            <a:srgbClr val="99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925800" y="5999040"/>
            <a:ext cx="76320" cy="76320"/>
          </a:xfrm>
          <a:prstGeom prst="ellipse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003480" y="5999040"/>
            <a:ext cx="76320" cy="76320"/>
          </a:xfrm>
          <a:prstGeom prst="ellipse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000240" y="6161040"/>
            <a:ext cx="76320" cy="76320"/>
          </a:xfrm>
          <a:prstGeom prst="ellipse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925800" y="6161040"/>
            <a:ext cx="76320" cy="7632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976480" y="3357720"/>
            <a:ext cx="571680" cy="255600"/>
          </a:xfrm>
          <a:prstGeom prst="borderCallout2">
            <a:avLst>
              <a:gd name="adj1" fmla="val 18750"/>
              <a:gd name="adj2" fmla="val -8333"/>
              <a:gd name="adj3" fmla="val 44444"/>
              <a:gd name="adj4" fmla="val 128055"/>
              <a:gd name="adj5" fmla="val 453675"/>
              <a:gd name="adj6" fmla="val 1299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noAutofit/>
          </a:bodyPr>
          <a:p>
            <a:pPr algn="ctr">
              <a:lnSpc>
                <a:spcPct val="75000"/>
              </a:lnSpc>
              <a:spcBef>
                <a:spcPts val="275"/>
              </a:spcBef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Arial"/>
              </a:rPr>
              <a:t>Chile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2936880" y="5672160"/>
            <a:ext cx="4395960" cy="2667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1485720" y="1428840"/>
            <a:ext cx="6699240" cy="7128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2480" bIns="42480" anchor="t">
            <a:norm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Font typeface="Trebuchet MS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8064360"/>
                <a:tab algn="l" pos="9072720"/>
                <a:tab algn="l" pos="1008072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ólo es posible dar un gran salto en educación terciaria (técnica y universitaria) si se eleva la calidad de la educació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2"/>
          <a:srcRect l="13301" t="15386" r="3941" b="47803"/>
          <a:stretch/>
        </p:blipFill>
        <p:spPr>
          <a:xfrm>
            <a:off x="1604880" y="3102120"/>
            <a:ext cx="5570640" cy="1815840"/>
          </a:xfrm>
          <a:prstGeom prst="rect">
            <a:avLst/>
          </a:prstGeom>
          <a:ln w="0">
            <a:noFill/>
          </a:ln>
        </p:spPr>
      </p:pic>
      <p:sp>
        <p:nvSpPr>
          <p:cNvPr id="197" name="PlaceHolder 2"/>
          <p:cNvSpPr>
            <a:spLocks noGrp="1"/>
          </p:cNvSpPr>
          <p:nvPr>
            <p:ph type="title"/>
          </p:nvPr>
        </p:nvSpPr>
        <p:spPr>
          <a:xfrm>
            <a:off x="1495440" y="599760"/>
            <a:ext cx="5967360" cy="5223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2480" bIns="42480" anchor="t">
            <a:noAutofit/>
          </a:bodyPr>
          <a:p>
            <a:pPr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2400" spc="-1" strike="noStrike">
                <a:solidFill>
                  <a:srgbClr val="e5ffff"/>
                </a:solidFill>
                <a:latin typeface="Tahoma"/>
              </a:rPr>
              <a:t>Las brechas en educación </a:t>
            </a:r>
            <a:r>
              <a:rPr b="0" lang="en-GB" sz="1800" spc="-1" strike="noStrike">
                <a:solidFill>
                  <a:srgbClr val="e5ffff"/>
                </a:solidFill>
                <a:latin typeface="Tahoma"/>
              </a:rPr>
              <a:t>(2)</a:t>
            </a:r>
            <a:r>
              <a:rPr b="0" lang="en-GB" sz="1800" spc="-1" strike="noStrike">
                <a:solidFill>
                  <a:srgbClr val="e5ffff"/>
                </a:solidFill>
                <a:latin typeface="Tahoma"/>
              </a:rPr>
              <a:t>‏</a:t>
            </a:r>
            <a:endParaRPr b="0" lang="en-US" sz="1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8" name=""/>
          <p:cNvSpPr/>
          <p:nvPr/>
        </p:nvSpPr>
        <p:spPr>
          <a:xfrm>
            <a:off x="1531800" y="6073920"/>
            <a:ext cx="654696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noAutofit/>
          </a:bodyPr>
          <a:p>
            <a:pPr>
              <a:lnSpc>
                <a:spcPct val="93000"/>
              </a:lnSpc>
              <a:spcBef>
                <a:spcPts val="275"/>
              </a:spcBef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Brechas similares de desempeño se observan en las pruebas de Matemáticas y Ciencias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569960" y="2305080"/>
            <a:ext cx="36846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2480" bIns="42480" anchor="t">
            <a:spAutoFit/>
          </a:bodyPr>
          <a:p>
            <a:pPr>
              <a:lnSpc>
                <a:spcPct val="75000"/>
              </a:lnSpc>
              <a:spcBef>
                <a:spcPts val="363"/>
              </a:spcBef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Resultados Prueba PISA y PIB per cápita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312"/>
              </a:spcBef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(Comprensión Lectora)</a:t>
            </a: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617840" y="4884840"/>
            <a:ext cx="5562360" cy="1440"/>
          </a:xfrm>
          <a:custGeom>
            <a:avLst/>
            <a:gdLst/>
            <a:ahLst/>
            <a:rect l="l" t="t" r="r" b="b"/>
            <a:pathLst>
              <a:path w="17034" h="1">
                <a:moveTo>
                  <a:pt x="0" y="0"/>
                </a:moveTo>
                <a:lnTo>
                  <a:pt x="17033" y="0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603440" y="3081240"/>
            <a:ext cx="1440" cy="1805040"/>
          </a:xfrm>
          <a:custGeom>
            <a:avLst/>
            <a:gdLst/>
            <a:ahLst/>
            <a:rect l="l" t="t" r="r" b="b"/>
            <a:pathLst>
              <a:path w="1" h="5524">
                <a:moveTo>
                  <a:pt x="0" y="0"/>
                </a:moveTo>
                <a:lnTo>
                  <a:pt x="0" y="5523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1180800" y="2835360"/>
            <a:ext cx="522360" cy="2066040"/>
            <a:chOff x="1180800" y="2835360"/>
            <a:chExt cx="522360" cy="2066040"/>
          </a:xfrm>
        </p:grpSpPr>
        <p:sp>
          <p:nvSpPr>
            <p:cNvPr id="203" name=""/>
            <p:cNvSpPr/>
            <p:nvPr/>
          </p:nvSpPr>
          <p:spPr>
            <a:xfrm>
              <a:off x="1276200" y="4713480"/>
              <a:ext cx="356040" cy="18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2480" bIns="42480" anchor="t">
              <a:spAutoFit/>
            </a:bodyPr>
            <a:p>
              <a:pPr algn="r">
                <a:lnSpc>
                  <a:spcPct val="75000"/>
                </a:lnSpc>
                <a:spcBef>
                  <a:spcPts val="224"/>
                </a:spcBef>
                <a:tabLst>
                  <a:tab algn="l" pos="0"/>
                  <a:tab algn="l" pos="407880"/>
                  <a:tab algn="l" pos="816120"/>
                  <a:tab algn="l" pos="1224000"/>
                  <a:tab algn="l" pos="1631880"/>
                  <a:tab algn="l" pos="2039760"/>
                  <a:tab algn="l" pos="2448000"/>
                  <a:tab algn="l" pos="2855880"/>
                  <a:tab algn="l" pos="3263760"/>
                  <a:tab algn="l" pos="3672000"/>
                  <a:tab algn="l" pos="4079880"/>
                  <a:tab algn="l" pos="4487760"/>
                  <a:tab algn="l" pos="4896000"/>
                  <a:tab algn="l" pos="5303880"/>
                  <a:tab algn="l" pos="5711760"/>
                  <a:tab algn="l" pos="6119640"/>
                  <a:tab algn="l" pos="6527880"/>
                  <a:tab algn="l" pos="6935760"/>
                  <a:tab algn="l" pos="7343640"/>
                  <a:tab algn="l" pos="7751880"/>
                  <a:tab algn="l" pos="815976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Arial"/>
                </a:rPr>
                <a:t>4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276200" y="4198320"/>
              <a:ext cx="356040" cy="18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2480" bIns="42480" anchor="t">
              <a:spAutoFit/>
            </a:bodyPr>
            <a:p>
              <a:pPr algn="r">
                <a:lnSpc>
                  <a:spcPct val="75000"/>
                </a:lnSpc>
                <a:spcBef>
                  <a:spcPts val="224"/>
                </a:spcBef>
                <a:tabLst>
                  <a:tab algn="l" pos="0"/>
                  <a:tab algn="l" pos="407880"/>
                  <a:tab algn="l" pos="816120"/>
                  <a:tab algn="l" pos="1224000"/>
                  <a:tab algn="l" pos="1631880"/>
                  <a:tab algn="l" pos="2039760"/>
                  <a:tab algn="l" pos="2448000"/>
                  <a:tab algn="l" pos="2855880"/>
                  <a:tab algn="l" pos="3263760"/>
                  <a:tab algn="l" pos="3672000"/>
                  <a:tab algn="l" pos="4079880"/>
                  <a:tab algn="l" pos="4487760"/>
                  <a:tab algn="l" pos="4896000"/>
                  <a:tab algn="l" pos="5303880"/>
                  <a:tab algn="l" pos="5711760"/>
                  <a:tab algn="l" pos="6119640"/>
                  <a:tab algn="l" pos="6527880"/>
                  <a:tab algn="l" pos="6935760"/>
                  <a:tab algn="l" pos="7343640"/>
                  <a:tab algn="l" pos="7751880"/>
                  <a:tab algn="l" pos="815976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Arial"/>
                </a:rPr>
                <a:t>45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276200" y="3664440"/>
              <a:ext cx="356040" cy="18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2480" bIns="42480" anchor="t">
              <a:spAutoFit/>
            </a:bodyPr>
            <a:p>
              <a:pPr algn="r">
                <a:lnSpc>
                  <a:spcPct val="75000"/>
                </a:lnSpc>
                <a:spcBef>
                  <a:spcPts val="224"/>
                </a:spcBef>
                <a:tabLst>
                  <a:tab algn="l" pos="0"/>
                  <a:tab algn="l" pos="407880"/>
                  <a:tab algn="l" pos="816120"/>
                  <a:tab algn="l" pos="1224000"/>
                  <a:tab algn="l" pos="1631880"/>
                  <a:tab algn="l" pos="2039760"/>
                  <a:tab algn="l" pos="2448000"/>
                  <a:tab algn="l" pos="2855880"/>
                  <a:tab algn="l" pos="3263760"/>
                  <a:tab algn="l" pos="3672000"/>
                  <a:tab algn="l" pos="4079880"/>
                  <a:tab algn="l" pos="4487760"/>
                  <a:tab algn="l" pos="4896000"/>
                  <a:tab algn="l" pos="5303880"/>
                  <a:tab algn="l" pos="5711760"/>
                  <a:tab algn="l" pos="6119640"/>
                  <a:tab algn="l" pos="6527880"/>
                  <a:tab algn="l" pos="6935760"/>
                  <a:tab algn="l" pos="7343640"/>
                  <a:tab algn="l" pos="7751880"/>
                  <a:tab algn="l" pos="815976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Arial"/>
                </a:rPr>
                <a:t>5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276200" y="3118680"/>
              <a:ext cx="356040" cy="18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2480" bIns="42480" anchor="t">
              <a:spAutoFit/>
            </a:bodyPr>
            <a:p>
              <a:pPr algn="r">
                <a:lnSpc>
                  <a:spcPct val="75000"/>
                </a:lnSpc>
                <a:spcBef>
                  <a:spcPts val="224"/>
                </a:spcBef>
                <a:tabLst>
                  <a:tab algn="l" pos="0"/>
                  <a:tab algn="l" pos="407880"/>
                  <a:tab algn="l" pos="816120"/>
                  <a:tab algn="l" pos="1224000"/>
                  <a:tab algn="l" pos="1631880"/>
                  <a:tab algn="l" pos="2039760"/>
                  <a:tab algn="l" pos="2448000"/>
                  <a:tab algn="l" pos="2855880"/>
                  <a:tab algn="l" pos="3263760"/>
                  <a:tab algn="l" pos="3672000"/>
                  <a:tab algn="l" pos="4079880"/>
                  <a:tab algn="l" pos="4487760"/>
                  <a:tab algn="l" pos="4896000"/>
                  <a:tab algn="l" pos="5303880"/>
                  <a:tab algn="l" pos="5711760"/>
                  <a:tab algn="l" pos="6119640"/>
                  <a:tab algn="l" pos="6527880"/>
                  <a:tab algn="l" pos="6935760"/>
                  <a:tab algn="l" pos="7343640"/>
                  <a:tab algn="l" pos="7751880"/>
                  <a:tab algn="l" pos="815976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Arial"/>
                </a:rPr>
                <a:t>55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180800" y="2835360"/>
              <a:ext cx="522360" cy="18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2480" bIns="42480" anchor="t">
              <a:spAutoFit/>
            </a:bodyPr>
            <a:p>
              <a:pPr algn="r">
                <a:lnSpc>
                  <a:spcPct val="75000"/>
                </a:lnSpc>
                <a:tabLst>
                  <a:tab algn="l" pos="0"/>
                  <a:tab algn="l" pos="407880"/>
                  <a:tab algn="l" pos="816120"/>
                  <a:tab algn="l" pos="1224000"/>
                  <a:tab algn="l" pos="1631880"/>
                  <a:tab algn="l" pos="2039760"/>
                  <a:tab algn="l" pos="2448000"/>
                  <a:tab algn="l" pos="2855880"/>
                  <a:tab algn="l" pos="3263760"/>
                  <a:tab algn="l" pos="3672000"/>
                  <a:tab algn="l" pos="4079880"/>
                  <a:tab algn="l" pos="4487760"/>
                  <a:tab algn="l" pos="4896000"/>
                  <a:tab algn="l" pos="5303880"/>
                  <a:tab algn="l" pos="5711760"/>
                  <a:tab algn="l" pos="6119640"/>
                  <a:tab algn="l" pos="6527880"/>
                  <a:tab algn="l" pos="6935760"/>
                  <a:tab algn="l" pos="7343640"/>
                  <a:tab algn="l" pos="7751880"/>
                  <a:tab algn="l" pos="815976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Arial"/>
                </a:rPr>
                <a:t>Puntos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1594440" y="4923000"/>
            <a:ext cx="5632200" cy="187920"/>
            <a:chOff x="1594440" y="4923000"/>
            <a:chExt cx="5632200" cy="187920"/>
          </a:xfrm>
        </p:grpSpPr>
        <p:sp>
          <p:nvSpPr>
            <p:cNvPr id="209" name=""/>
            <p:cNvSpPr/>
            <p:nvPr/>
          </p:nvSpPr>
          <p:spPr>
            <a:xfrm>
              <a:off x="1594440" y="4923000"/>
              <a:ext cx="452160" cy="18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2480" bIns="42480" anchor="t">
              <a:spAutoFit/>
            </a:bodyPr>
            <a:p>
              <a:pPr algn="r">
                <a:lnSpc>
                  <a:spcPct val="75000"/>
                </a:lnSpc>
                <a:spcBef>
                  <a:spcPts val="224"/>
                </a:spcBef>
                <a:tabLst>
                  <a:tab algn="l" pos="0"/>
                  <a:tab algn="l" pos="407880"/>
                  <a:tab algn="l" pos="816120"/>
                  <a:tab algn="l" pos="1224000"/>
                  <a:tab algn="l" pos="1631880"/>
                  <a:tab algn="l" pos="2039760"/>
                  <a:tab algn="l" pos="2448000"/>
                  <a:tab algn="l" pos="2855880"/>
                  <a:tab algn="l" pos="3263760"/>
                  <a:tab algn="l" pos="3672000"/>
                  <a:tab algn="l" pos="4079880"/>
                  <a:tab algn="l" pos="4487760"/>
                  <a:tab algn="l" pos="4896000"/>
                  <a:tab algn="l" pos="5303880"/>
                  <a:tab algn="l" pos="5711760"/>
                  <a:tab algn="l" pos="6119640"/>
                  <a:tab algn="l" pos="6527880"/>
                  <a:tab algn="l" pos="6935760"/>
                  <a:tab algn="l" pos="7343640"/>
                  <a:tab algn="l" pos="7751880"/>
                  <a:tab algn="l" pos="815976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Arial"/>
                </a:rPr>
                <a:t>5.0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863080" y="4923000"/>
              <a:ext cx="516240" cy="18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2480" bIns="42480" anchor="t">
              <a:spAutoFit/>
            </a:bodyPr>
            <a:p>
              <a:pPr algn="r">
                <a:lnSpc>
                  <a:spcPct val="75000"/>
                </a:lnSpc>
                <a:spcBef>
                  <a:spcPts val="224"/>
                </a:spcBef>
                <a:tabLst>
                  <a:tab algn="l" pos="0"/>
                  <a:tab algn="l" pos="407880"/>
                  <a:tab algn="l" pos="816120"/>
                  <a:tab algn="l" pos="1224000"/>
                  <a:tab algn="l" pos="1631880"/>
                  <a:tab algn="l" pos="2039760"/>
                  <a:tab algn="l" pos="2448000"/>
                  <a:tab algn="l" pos="2855880"/>
                  <a:tab algn="l" pos="3263760"/>
                  <a:tab algn="l" pos="3672000"/>
                  <a:tab algn="l" pos="4079880"/>
                  <a:tab algn="l" pos="4487760"/>
                  <a:tab algn="l" pos="4896000"/>
                  <a:tab algn="l" pos="5303880"/>
                  <a:tab algn="l" pos="5711760"/>
                  <a:tab algn="l" pos="6119640"/>
                  <a:tab algn="l" pos="6527880"/>
                  <a:tab algn="l" pos="6935760"/>
                  <a:tab algn="l" pos="7343640"/>
                  <a:tab algn="l" pos="7751880"/>
                  <a:tab algn="l" pos="815976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Arial"/>
                </a:rPr>
                <a:t>10.0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145760" y="4923000"/>
              <a:ext cx="516240" cy="18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2480" bIns="42480" anchor="t">
              <a:spAutoFit/>
            </a:bodyPr>
            <a:p>
              <a:pPr algn="r">
                <a:lnSpc>
                  <a:spcPct val="75000"/>
                </a:lnSpc>
                <a:spcBef>
                  <a:spcPts val="224"/>
                </a:spcBef>
                <a:tabLst>
                  <a:tab algn="l" pos="0"/>
                  <a:tab algn="l" pos="407880"/>
                  <a:tab algn="l" pos="816120"/>
                  <a:tab algn="l" pos="1224000"/>
                  <a:tab algn="l" pos="1631880"/>
                  <a:tab algn="l" pos="2039760"/>
                  <a:tab algn="l" pos="2448000"/>
                  <a:tab algn="l" pos="2855880"/>
                  <a:tab algn="l" pos="3263760"/>
                  <a:tab algn="l" pos="3672000"/>
                  <a:tab algn="l" pos="4079880"/>
                  <a:tab algn="l" pos="4487760"/>
                  <a:tab algn="l" pos="4896000"/>
                  <a:tab algn="l" pos="5303880"/>
                  <a:tab algn="l" pos="5711760"/>
                  <a:tab algn="l" pos="6119640"/>
                  <a:tab algn="l" pos="6527880"/>
                  <a:tab algn="l" pos="6935760"/>
                  <a:tab algn="l" pos="7343640"/>
                  <a:tab algn="l" pos="7751880"/>
                  <a:tab algn="l" pos="815976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Arial"/>
                </a:rPr>
                <a:t>15.0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428800" y="4923000"/>
              <a:ext cx="516240" cy="18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2480" bIns="42480" anchor="t">
              <a:spAutoFit/>
            </a:bodyPr>
            <a:p>
              <a:pPr algn="r">
                <a:lnSpc>
                  <a:spcPct val="75000"/>
                </a:lnSpc>
                <a:spcBef>
                  <a:spcPts val="224"/>
                </a:spcBef>
                <a:tabLst>
                  <a:tab algn="l" pos="0"/>
                  <a:tab algn="l" pos="407880"/>
                  <a:tab algn="l" pos="816120"/>
                  <a:tab algn="l" pos="1224000"/>
                  <a:tab algn="l" pos="1631880"/>
                  <a:tab algn="l" pos="2039760"/>
                  <a:tab algn="l" pos="2448000"/>
                  <a:tab algn="l" pos="2855880"/>
                  <a:tab algn="l" pos="3263760"/>
                  <a:tab algn="l" pos="3672000"/>
                  <a:tab algn="l" pos="4079880"/>
                  <a:tab algn="l" pos="4487760"/>
                  <a:tab algn="l" pos="4896000"/>
                  <a:tab algn="l" pos="5303880"/>
                  <a:tab algn="l" pos="5711760"/>
                  <a:tab algn="l" pos="6119640"/>
                  <a:tab algn="l" pos="6527880"/>
                  <a:tab algn="l" pos="6935760"/>
                  <a:tab algn="l" pos="7343640"/>
                  <a:tab algn="l" pos="7751880"/>
                  <a:tab algn="l" pos="815976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Arial"/>
                </a:rPr>
                <a:t>20.0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710400" y="4923000"/>
              <a:ext cx="516240" cy="18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2480" bIns="42480" anchor="t">
              <a:spAutoFit/>
            </a:bodyPr>
            <a:p>
              <a:pPr algn="r">
                <a:lnSpc>
                  <a:spcPct val="75000"/>
                </a:lnSpc>
                <a:spcBef>
                  <a:spcPts val="224"/>
                </a:spcBef>
                <a:tabLst>
                  <a:tab algn="l" pos="0"/>
                  <a:tab algn="l" pos="407880"/>
                  <a:tab algn="l" pos="816120"/>
                  <a:tab algn="l" pos="1224000"/>
                  <a:tab algn="l" pos="1631880"/>
                  <a:tab algn="l" pos="2039760"/>
                  <a:tab algn="l" pos="2448000"/>
                  <a:tab algn="l" pos="2855880"/>
                  <a:tab algn="l" pos="3263760"/>
                  <a:tab algn="l" pos="3672000"/>
                  <a:tab algn="l" pos="4079880"/>
                  <a:tab algn="l" pos="4487760"/>
                  <a:tab algn="l" pos="4896000"/>
                  <a:tab algn="l" pos="5303880"/>
                  <a:tab algn="l" pos="5711760"/>
                  <a:tab algn="l" pos="6119640"/>
                  <a:tab algn="l" pos="6527880"/>
                  <a:tab algn="l" pos="6935760"/>
                  <a:tab algn="l" pos="7343640"/>
                  <a:tab algn="l" pos="7751880"/>
                  <a:tab algn="l" pos="815976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Arial"/>
                </a:rPr>
                <a:t>25.0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4" name=""/>
          <p:cNvSpPr/>
          <p:nvPr/>
        </p:nvSpPr>
        <p:spPr>
          <a:xfrm>
            <a:off x="2887560" y="4440240"/>
            <a:ext cx="328680" cy="355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7323840" y="4791240"/>
            <a:ext cx="66996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2480" bIns="4248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65736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PIB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65736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per cápita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71920" y="4325760"/>
            <a:ext cx="622080" cy="228600"/>
          </a:xfrm>
          <a:prstGeom prst="borderCallout2">
            <a:avLst>
              <a:gd name="adj1" fmla="val 18750"/>
              <a:gd name="adj2" fmla="val -8333"/>
              <a:gd name="adj3" fmla="val 50000"/>
              <a:gd name="adj4" fmla="val -46939"/>
              <a:gd name="adj5" fmla="val 120680"/>
              <a:gd name="adj6" fmla="val -8374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noAutofit/>
          </a:bodyPr>
          <a:p>
            <a:pPr algn="ctr">
              <a:lnSpc>
                <a:spcPct val="75000"/>
              </a:lnSpc>
              <a:spcBef>
                <a:spcPts val="275"/>
              </a:spcBef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Arial"/>
              </a:rPr>
              <a:t>Chile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963880" y="4630680"/>
            <a:ext cx="88920" cy="88920"/>
          </a:xfrm>
          <a:prstGeom prst="ellipse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3025800" y="5329080"/>
            <a:ext cx="4484160" cy="468000"/>
            <a:chOff x="3025800" y="5329080"/>
            <a:chExt cx="4484160" cy="468000"/>
          </a:xfrm>
        </p:grpSpPr>
        <p:sp>
          <p:nvSpPr>
            <p:cNvPr id="219" name=""/>
            <p:cNvSpPr/>
            <p:nvPr/>
          </p:nvSpPr>
          <p:spPr>
            <a:xfrm>
              <a:off x="3064320" y="5329080"/>
              <a:ext cx="4445640" cy="46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1720" rIns="81720" tIns="42480" bIns="4248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828720"/>
                  <a:tab algn="l" pos="1658880"/>
                  <a:tab algn="l" pos="2487600"/>
                  <a:tab algn="l" pos="3317760"/>
                  <a:tab algn="l" pos="4146480"/>
                  <a:tab algn="l" pos="4976640"/>
                  <a:tab algn="l" pos="5805360"/>
                  <a:tab algn="l" pos="6635880"/>
                  <a:tab algn="l" pos="7462800"/>
                  <a:tab algn="l" pos="8294760"/>
                  <a:tab algn="l" pos="9121680"/>
                  <a:tab algn="l" pos="9383760"/>
                  <a:tab algn="l" pos="9791640"/>
                  <a:tab algn="l" pos="10199520"/>
                  <a:tab algn="l" pos="1060776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Arial"/>
                </a:rPr>
                <a:t>Australia </a:t>
              </a:r>
              <a:r>
                <a:rPr b="0" lang="en-GB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GB" sz="900" spc="-1" strike="noStrike">
                  <a:solidFill>
                    <a:srgbClr val="000000"/>
                  </a:solidFill>
                  <a:latin typeface="Arial"/>
                </a:rPr>
                <a:t>Canadá</a:t>
              </a:r>
              <a:r>
                <a:rPr b="0" lang="en-GB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GB" sz="900" spc="-1" strike="noStrike">
                  <a:solidFill>
                    <a:srgbClr val="000000"/>
                  </a:solidFill>
                  <a:latin typeface="Arial"/>
                </a:rPr>
                <a:t>Corea</a:t>
              </a:r>
              <a:r>
                <a:rPr b="0" lang="en-GB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GB" sz="900" spc="-1" strike="noStrike">
                  <a:solidFill>
                    <a:srgbClr val="000000"/>
                  </a:solidFill>
                  <a:latin typeface="Arial"/>
                </a:rPr>
                <a:t>     Dinamarca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828720"/>
                  <a:tab algn="l" pos="1658880"/>
                  <a:tab algn="l" pos="2487600"/>
                  <a:tab algn="l" pos="3317760"/>
                  <a:tab algn="l" pos="4146480"/>
                  <a:tab algn="l" pos="4976640"/>
                  <a:tab algn="l" pos="5805360"/>
                  <a:tab algn="l" pos="6635880"/>
                  <a:tab algn="l" pos="7462800"/>
                  <a:tab algn="l" pos="8294760"/>
                  <a:tab algn="l" pos="9121680"/>
                  <a:tab algn="l" pos="9383760"/>
                  <a:tab algn="l" pos="9791640"/>
                  <a:tab algn="l" pos="10199520"/>
                  <a:tab algn="l" pos="1060776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Arial"/>
                </a:rPr>
                <a:t>Finlandia</a:t>
              </a:r>
              <a:r>
                <a:rPr b="0" lang="en-GB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GB" sz="900" spc="-1" strike="noStrike">
                  <a:solidFill>
                    <a:srgbClr val="000000"/>
                  </a:solidFill>
                  <a:latin typeface="Arial"/>
                </a:rPr>
                <a:t>Letonia </a:t>
              </a:r>
              <a:r>
                <a:rPr b="0" lang="en-GB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GB" sz="900" spc="-1" strike="noStrike">
                  <a:solidFill>
                    <a:srgbClr val="000000"/>
                  </a:solidFill>
                  <a:latin typeface="Arial"/>
                </a:rPr>
                <a:t>Nva. Zelanda</a:t>
              </a:r>
              <a:r>
                <a:rPr b="0" lang="en-GB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GB" sz="900" spc="-1" strike="noStrike">
                  <a:solidFill>
                    <a:srgbClr val="000000"/>
                  </a:solidFill>
                  <a:latin typeface="Arial"/>
                </a:rPr>
                <a:t>     Suecia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828720"/>
                  <a:tab algn="l" pos="1658880"/>
                  <a:tab algn="l" pos="2487600"/>
                  <a:tab algn="l" pos="3317760"/>
                  <a:tab algn="l" pos="4146480"/>
                  <a:tab algn="l" pos="4976640"/>
                  <a:tab algn="l" pos="5805360"/>
                  <a:tab algn="l" pos="6635880"/>
                  <a:tab algn="l" pos="7462800"/>
                  <a:tab algn="l" pos="8294760"/>
                  <a:tab algn="l" pos="9121680"/>
                  <a:tab algn="l" pos="9383760"/>
                  <a:tab algn="l" pos="9791640"/>
                  <a:tab algn="l" pos="10199520"/>
                  <a:tab algn="l" pos="1060776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Arial"/>
                </a:rPr>
                <a:t>Tailandia </a:t>
              </a:r>
              <a:r>
                <a:rPr b="0" lang="en-GB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GB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GB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GB" sz="900" spc="-1" strike="noStrike">
                  <a:solidFill>
                    <a:srgbClr val="000000"/>
                  </a:solidFill>
                  <a:latin typeface="Arial"/>
                </a:rPr>
                <a:t>     Tendencia promedio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867560" y="5425200"/>
              <a:ext cx="76320" cy="7596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867560" y="5574600"/>
              <a:ext cx="76320" cy="75960"/>
            </a:xfrm>
            <a:prstGeom prst="ellipse">
              <a:avLst/>
            </a:prstGeom>
            <a:solidFill>
              <a:srgbClr val="ff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963040" y="5423760"/>
              <a:ext cx="76320" cy="7596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963040" y="5568840"/>
              <a:ext cx="76320" cy="75960"/>
            </a:xfrm>
            <a:prstGeom prst="ellipse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958200" y="5423760"/>
              <a:ext cx="76320" cy="75960"/>
            </a:xfrm>
            <a:prstGeom prst="ellipse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958200" y="5574600"/>
              <a:ext cx="76320" cy="75960"/>
            </a:xfrm>
            <a:prstGeom prst="ellipse">
              <a:avLst/>
            </a:pr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025800" y="5416560"/>
              <a:ext cx="76320" cy="759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025800" y="5568840"/>
              <a:ext cx="76320" cy="75960"/>
            </a:xfrm>
            <a:prstGeom prst="ellipse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025800" y="5721120"/>
              <a:ext cx="76320" cy="75960"/>
            </a:xfrm>
            <a:prstGeom prst="ellipse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513760" y="5767200"/>
              <a:ext cx="526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7:41:37Z</dcterms:created>
  <dc:creator>Preferred Customer</dc:creator>
  <dc:description/>
  <dc:language>en-US</dc:language>
  <cp:lastModifiedBy>Del Rio &amp; Morgan Ltda.</cp:lastModifiedBy>
  <dcterms:modified xsi:type="dcterms:W3CDTF">2009-11-19T19:35:18Z</dcterms:modified>
  <cp:revision>3</cp:revision>
  <dc:subject/>
  <dc:title>POLITICAS DE FOMENTO E INNOVACION</dc:title>
</cp:coreProperties>
</file>