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xMode val="edge"/>
          <c:yMode val="edge"/>
          <c:x val="0.000764104087956907"/>
          <c:y val="0.0199637023593466"/>
          <c:w val="0.999235895912043"/>
          <c:h val="0.939044996557982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% CRECIMIENTO DEL PIB</c:v>
                </c:pt>
              </c:strCache>
            </c:strRef>
          </c:tx>
          <c:spPr>
            <a:solidFill>
              <a:srgbClr val="004586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.58</c:v>
                </c:pt>
                <c:pt idx="1">
                  <c:v>5.43</c:v>
                </c:pt>
                <c:pt idx="2">
                  <c:v>4.24</c:v>
                </c:pt>
                <c:pt idx="3">
                  <c:v>4.46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PTF</c:v>
                </c:pt>
              </c:strCache>
            </c:strRef>
          </c:tx>
          <c:spPr>
            <a:solidFill>
              <a:srgbClr val="ff420e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6</c:v>
                </c:pt>
                <c:pt idx="1">
                  <c:v>2.05</c:v>
                </c:pt>
                <c:pt idx="2">
                  <c:v>1</c:v>
                </c:pt>
                <c:pt idx="3">
                  <c:v>0.44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APITAL</c:v>
                </c:pt>
              </c:strCache>
            </c:strRef>
          </c:tx>
          <c:spPr>
            <a:solidFill>
              <a:srgbClr val="ffd320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1.91</c:v>
                </c:pt>
                <c:pt idx="1">
                  <c:v>2.78</c:v>
                </c:pt>
                <c:pt idx="2">
                  <c:v>1.73</c:v>
                </c:pt>
                <c:pt idx="3">
                  <c:v>2.62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TRABAJO</c:v>
                </c:pt>
              </c:strCache>
            </c:strRef>
          </c:tx>
          <c:spPr>
            <a:solidFill>
              <a:srgbClr val="579d1c"/>
            </a:solidFill>
            <a:ln w="0">
              <a:solidFill>
                <a:srgbClr val="000000"/>
              </a:solidFill>
            </a:ln>
          </c:spPr>
          <c:invertIfNegative val="0"/>
          <c:dLbls>
            <c:txPr>
              <a:bodyPr wrap="none"/>
              <a:lstStyle/>
              <a:p>
                <a:pPr>
                  <a:defRPr b="0" sz="658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 AYLWIN, 90-94</c:v>
                </c:pt>
                <c:pt idx="1">
                  <c:v>FREI, 94-2000</c:v>
                </c:pt>
                <c:pt idx="2">
                  <c:v>LAGOS, 2000-06</c:v>
                </c:pt>
                <c:pt idx="3">
                  <c:v>BACHELET, 06-07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09</c:v>
                </c:pt>
                <c:pt idx="1">
                  <c:v>0.6</c:v>
                </c:pt>
                <c:pt idx="2">
                  <c:v>1.52</c:v>
                </c:pt>
                <c:pt idx="3">
                  <c:v>1.4</c:v>
                </c:pt>
              </c:numCache>
            </c:numRef>
          </c:val>
        </c:ser>
        <c:gapWidth val="100"/>
        <c:overlap val="0"/>
        <c:axId val="24038068"/>
        <c:axId val="77804517"/>
      </c:barChart>
      <c:catAx>
        <c:axId val="2403806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low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1" sz="1299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04517"/>
        <c:crossesAt val="0"/>
        <c:auto val="1"/>
        <c:lblAlgn val="ctr"/>
        <c:lblOffset val="100"/>
        <c:noMultiLvlLbl val="0"/>
      </c:catAx>
      <c:valAx>
        <c:axId val="77804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0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877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38068"/>
        <c:crosses val="min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layout>
        <c:manualLayout>
          <c:xMode val="edge"/>
          <c:yMode val="edge"/>
          <c:x val="0.734898331706075"/>
          <c:y val="0.086551098316540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1" sz="13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0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AAAF-3575-490D-BBF0-9F44EED42ED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8840" rIns="78840" tIns="41040" bIns="4104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35040"/>
                <a:tab algn="l" pos="1270080"/>
                <a:tab algn="l" pos="1903320"/>
                <a:tab algn="l" pos="2538360"/>
                <a:tab algn="l" pos="2755800"/>
                <a:tab algn="l" pos="3149640"/>
                <a:tab algn="l" pos="3543480"/>
                <a:tab algn="l" pos="3936960"/>
                <a:tab algn="l" pos="4330800"/>
                <a:tab algn="l" pos="4724280"/>
                <a:tab algn="l" pos="5118120"/>
                <a:tab algn="l" pos="5511960"/>
                <a:tab algn="l" pos="5905440"/>
                <a:tab algn="l" pos="6299280"/>
                <a:tab algn="l" pos="6692760"/>
                <a:tab algn="l" pos="7086600"/>
                <a:tab algn="l" pos="7480440"/>
                <a:tab algn="l" pos="7873920"/>
                <a:tab algn="l" pos="8267760"/>
                <a:tab algn="l" pos="8661240"/>
                <a:tab algn="l" pos="9055080"/>
                <a:tab algn="l" pos="9448920"/>
                <a:tab algn="l" pos="9842400"/>
                <a:tab algn="l" pos="10236240"/>
              </a:tabLst>
            </a:pPr>
            <a:fld id="{F0186470-5C5B-4394-9762-2DEF48145F29}" type="slidenum">
              <a:rPr b="0" lang="en-GB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3000" y="685800"/>
            <a:ext cx="45734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EC0D-602E-4693-986A-712DD0DCC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D18D-C391-4B1B-848D-A28126C0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F793-4D83-47A9-84A4-91397260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E498-7D4A-4E9D-B9B7-61F91007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A6E90-9AED-42A0-86CD-84625C231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23730-F118-47FC-B947-81CC8A88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78E4-744D-4F62-8952-687268B80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82D5-9639-43D1-9B25-133F14B6F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F72F-B2CD-44E3-AE38-3EBEFC1B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4E10-2458-4B95-A855-459797D4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319D-9544-495B-9771-03766238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CA2-2D9A-4201-99D6-1D94A527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E0D5-ED29-43F7-84D0-96CF7B80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2E3B1-0E33-48D0-94E1-16F7033E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0C41-2A4F-4654-8F69-AEE5C2F93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83552-EC1D-4790-BF03-B42A0438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87E2E-4D20-45C6-B7BA-4C74E4C3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41A8-607A-4DE6-98AA-0AE44950B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7403-C01C-4BE6-8CFF-70BE6D96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6B63-BDB6-4E17-AF36-71E5E3FD6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899A-B67A-4ABE-9A19-71384F38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0395-C8F9-4C48-A8AC-B0742E1CE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FCF9-03CD-4432-93EA-BDF918BA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8998-885E-4EFB-8FFF-6600995E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A138-7A78-485D-A303-1109AC5D3DD3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D591-1404-4E24-BBAC-7B9E5016C2CE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1484280"/>
            <a:ext cx="77724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POLITICAS DE FOMENTO E INOVACION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Tahoma"/>
              </a:rPr>
              <a:t>Alejandro Ferrei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189000"/>
          <a:ext cx="9144000" cy="180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592280" y="5148360"/>
            <a:ext cx="5927760" cy="466560"/>
          </a:xfrm>
          <a:prstGeom prst="rightArrow">
            <a:avLst>
              <a:gd name="adj1" fmla="val 68028"/>
              <a:gd name="adj2" fmla="val 137464"/>
            </a:avLst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79600" y="618840"/>
            <a:ext cx="7035840" cy="57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e5ffff"/>
                </a:solidFill>
                <a:latin typeface="Tahoma"/>
              </a:rPr>
              <a:t>Un mayor esfuerzo en I+D 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(2)</a:t>
            </a:r>
            <a:r>
              <a:rPr b="0" lang="en-GB" sz="2000" spc="-1" strike="noStrike">
                <a:solidFill>
                  <a:srgbClr val="e5ffff"/>
                </a:solidFill>
                <a:latin typeface="Tahoma"/>
              </a:rPr>
              <a:t>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477800" y="1371600"/>
            <a:ext cx="6880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41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Ya no basta con afirmar que los países ricos invierten más en I+D porque son ricos… son, y serán ricos, porque invierten más en I+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65200" y="5837400"/>
            <a:ext cx="6086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marL="309600" indent="-309600">
              <a:lnSpc>
                <a:spcPct val="93000"/>
              </a:lnSpc>
              <a:spcBef>
                <a:spcPts val="275"/>
              </a:spcBef>
              <a:buClr>
                <a:srgbClr val="000000"/>
              </a:buClr>
              <a:buFont typeface="Trebuchet MS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a inversión pública se debe duplicar (hasta 0,9 % del PIB)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Bef>
                <a:spcPts val="275"/>
              </a:spcBef>
              <a:buClr>
                <a:srgbClr val="000000"/>
              </a:buClr>
              <a:buFont typeface="Trebuchet MS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Los privados deben quintuplicar su esfuerzo hasta 1,4 % del PIB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589040" y="4419720"/>
            <a:ext cx="665280" cy="759960"/>
            <a:chOff x="1589040" y="4419720"/>
            <a:chExt cx="665280" cy="759960"/>
          </a:xfrm>
        </p:grpSpPr>
        <p:sp>
          <p:nvSpPr>
            <p:cNvPr id="235" name=""/>
            <p:cNvSpPr/>
            <p:nvPr/>
          </p:nvSpPr>
          <p:spPr>
            <a:xfrm>
              <a:off x="1589040" y="4419720"/>
              <a:ext cx="665280" cy="36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89040" y="4464360"/>
              <a:ext cx="665280" cy="2685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89040" y="4748760"/>
              <a:ext cx="665280" cy="43092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6130800" y="2836800"/>
            <a:ext cx="669600" cy="2343240"/>
            <a:chOff x="6130800" y="2836800"/>
            <a:chExt cx="669600" cy="2343240"/>
          </a:xfrm>
        </p:grpSpPr>
        <p:sp>
          <p:nvSpPr>
            <p:cNvPr id="239" name=""/>
            <p:cNvSpPr/>
            <p:nvPr/>
          </p:nvSpPr>
          <p:spPr>
            <a:xfrm>
              <a:off x="6131880" y="4316400"/>
              <a:ext cx="665640" cy="8636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34760" y="2955960"/>
              <a:ext cx="665640" cy="13485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130800" y="2836800"/>
              <a:ext cx="665280" cy="10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1487520" y="5272200"/>
            <a:ext cx="869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21360" y="5283360"/>
            <a:ext cx="8701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202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38800" y="6572160"/>
            <a:ext cx="869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500120" y="2068560"/>
            <a:ext cx="32004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versión en I+D en Chil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(% del PIB)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535040" y="4135320"/>
            <a:ext cx="85104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0,68%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916600" y="2444760"/>
            <a:ext cx="1098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1363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2,3%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240680" y="4529160"/>
            <a:ext cx="174600" cy="181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240680" y="4768920"/>
            <a:ext cx="174600" cy="1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240680" y="5006880"/>
            <a:ext cx="174600" cy="1825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445160" y="4468680"/>
            <a:ext cx="638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úblic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476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589720" y="4660920"/>
            <a:ext cx="58572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695920" y="3483000"/>
            <a:ext cx="49536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x5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49640" y="4325760"/>
            <a:ext cx="3898800" cy="432000"/>
          </a:xfrm>
          <a:custGeom>
            <a:avLst/>
            <a:gdLst/>
            <a:ahLst/>
            <a:rect l="l" t="t" r="r" b="b"/>
            <a:pathLst>
              <a:path w="11940" h="1324">
                <a:moveTo>
                  <a:pt x="0" y="1323"/>
                </a:moveTo>
                <a:lnTo>
                  <a:pt x="11939" y="0"/>
                </a:lnTo>
              </a:path>
            </a:pathLst>
          </a:cu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262240" y="2967120"/>
            <a:ext cx="3886200" cy="1498680"/>
          </a:xfrm>
          <a:custGeom>
            <a:avLst/>
            <a:gdLst/>
            <a:ahLst/>
            <a:rect l="l" t="t" r="r" b="b"/>
            <a:pathLst>
              <a:path w="11901" h="4590">
                <a:moveTo>
                  <a:pt x="0" y="4589"/>
                </a:moveTo>
                <a:lnTo>
                  <a:pt x="11900" y="0"/>
                </a:ln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479240" y="599760"/>
            <a:ext cx="6985080" cy="522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Las brechas en educación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461960" y="1383840"/>
            <a:ext cx="6842160" cy="12826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ivel educacional promedio de nuestra fuerza de trabajo está por debajo de lo que corresponde por nuestro nivel de ingreso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xiste un fuerte déficit de cobertura en educación terciari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"/>
          <p:cNvSpPr/>
          <p:nvPr/>
        </p:nvSpPr>
        <p:spPr>
          <a:xfrm>
            <a:off x="1603440" y="5997600"/>
            <a:ext cx="5180040" cy="360"/>
          </a:xfrm>
          <a:custGeom>
            <a:avLst/>
            <a:gdLst/>
            <a:ahLst/>
            <a:rect l="l" t="t" r="r" b="b"/>
            <a:pathLst>
              <a:path w="15867" h="1">
                <a:moveTo>
                  <a:pt x="0" y="0"/>
                </a:moveTo>
                <a:lnTo>
                  <a:pt x="15866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598760" y="3332160"/>
            <a:ext cx="1440" cy="2660760"/>
          </a:xfrm>
          <a:custGeom>
            <a:avLst/>
            <a:gdLst/>
            <a:ahLst/>
            <a:rect l="l" t="t" r="r" b="b"/>
            <a:pathLst>
              <a:path w="1" h="8143">
                <a:moveTo>
                  <a:pt x="0" y="8142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57520" y="5510160"/>
            <a:ext cx="323640" cy="4795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625840" y="5075280"/>
            <a:ext cx="323640" cy="9144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463920" y="5380200"/>
            <a:ext cx="325440" cy="609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02000" y="5307120"/>
            <a:ext cx="324000" cy="68256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129280" y="5380200"/>
            <a:ext cx="323640" cy="609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52960" y="5248440"/>
            <a:ext cx="324000" cy="74124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04920" y="5016600"/>
            <a:ext cx="324000" cy="9730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73240" y="3971880"/>
            <a:ext cx="324000" cy="2017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522680"/>
            <a:ext cx="323640" cy="1467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51200" y="4654440"/>
            <a:ext cx="324000" cy="13352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475240" y="4262400"/>
            <a:ext cx="324000" cy="17272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99280" y="4334040"/>
            <a:ext cx="323640" cy="1655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92200" y="2695680"/>
            <a:ext cx="5546880" cy="2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orcentaje de matrícula en educación terciari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674720" y="3379680"/>
            <a:ext cx="1130400" cy="309600"/>
            <a:chOff x="1674720" y="3379680"/>
            <a:chExt cx="1130400" cy="309600"/>
          </a:xfrm>
        </p:grpSpPr>
        <p:sp>
          <p:nvSpPr>
            <p:cNvPr id="274" name=""/>
            <p:cNvSpPr/>
            <p:nvPr/>
          </p:nvSpPr>
          <p:spPr>
            <a:xfrm>
              <a:off x="1907280" y="3382200"/>
              <a:ext cx="290520" cy="13608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75560" y="3379680"/>
              <a:ext cx="290520" cy="1360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674720" y="3501360"/>
              <a:ext cx="113040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 algn="ctr">
                <a:lnSpc>
                  <a:spcPct val="75000"/>
                </a:lnSpc>
                <a:spcBef>
                  <a:spcPts val="561"/>
                </a:spcBef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991  200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1560600" y="6072120"/>
            <a:ext cx="52243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hile           Corea        Estonia        Irlanda       Letonia      Lituania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04960" y="550080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8840" y="503568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83000" y="511164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06640" y="398772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8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19640" y="538956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63800" y="454968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6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38640" y="534024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583160" y="467352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5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78520" y="5397480"/>
            <a:ext cx="430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11880" y="4292640"/>
            <a:ext cx="428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7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907240" y="5292720"/>
            <a:ext cx="428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249960" y="4378320"/>
            <a:ext cx="428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73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98720" y="3219480"/>
            <a:ext cx="733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2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5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8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4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7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76000" y="604800"/>
            <a:ext cx="6156360" cy="657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¿Está preparado Chile para este desafío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4320" y="1432080"/>
            <a:ext cx="6783480" cy="122688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l año  2007 Chile ocupó el lugar 26 en el ranking de competitividad global del Foro Económico Mundi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in embargo, urge superar algunas debilidades que afectan con especial fuerza a la innovación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"/>
          <p:cNvSpPr/>
          <p:nvPr/>
        </p:nvSpPr>
        <p:spPr>
          <a:xfrm>
            <a:off x="3886200" y="3868560"/>
            <a:ext cx="382680" cy="216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886200" y="4121280"/>
            <a:ext cx="1257480" cy="21564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86200" y="4373640"/>
            <a:ext cx="1320840" cy="216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86200" y="4626000"/>
            <a:ext cx="1576440" cy="21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886200" y="4879800"/>
            <a:ext cx="1828800" cy="21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5130720"/>
            <a:ext cx="1841400" cy="21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5383080"/>
            <a:ext cx="2031840" cy="21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86200" y="5635800"/>
            <a:ext cx="2095560" cy="2156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86200" y="5888160"/>
            <a:ext cx="2946240" cy="217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62440" y="6154560"/>
            <a:ext cx="3441600" cy="1800"/>
          </a:xfrm>
          <a:custGeom>
            <a:avLst/>
            <a:gdLst/>
            <a:ahLst/>
            <a:rect l="l" t="t" r="r" b="b"/>
            <a:pathLst>
              <a:path w="10540" h="1">
                <a:moveTo>
                  <a:pt x="0" y="0"/>
                </a:moveTo>
                <a:lnTo>
                  <a:pt x="10539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849840" y="3678120"/>
            <a:ext cx="1440" cy="2476440"/>
          </a:xfrm>
          <a:custGeom>
            <a:avLst/>
            <a:gdLst/>
            <a:ahLst/>
            <a:rect l="l" t="t" r="r" b="b"/>
            <a:pathLst>
              <a:path w="1" h="7584">
                <a:moveTo>
                  <a:pt x="0" y="7583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335000" y="6111720"/>
            <a:ext cx="82404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osició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n el ranki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09880" y="616284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844320" y="6162840"/>
            <a:ext cx="29232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527840" y="3824280"/>
            <a:ext cx="220320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Macroeconomí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ficiencia de los mercad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550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stitucione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711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fisticación de negocio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fraestructur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Preparación tecnológic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novació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d. Superior y Capacitación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638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alud y Ed. Primaria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spcBef>
                <a:spcPts val="312"/>
              </a:spcBef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044600" y="3857760"/>
            <a:ext cx="241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0280" y="411624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01040" y="437040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93000" y="462456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420880" y="487980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13680" y="512604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603400" y="537840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3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80440" y="563256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517800" y="5886360"/>
            <a:ext cx="319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Arial"/>
              </a:rPr>
              <a:t>5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90760" y="2814480"/>
            <a:ext cx="6105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esempeño de Chile en el ranking de Competitividad Glob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el Foro Económico Mundial (WEF)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61600" y="3449520"/>
            <a:ext cx="61236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actor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2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0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1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4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387000"/>
            <a:ext cx="823284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23284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Fallas de mercado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) Falta de aprobiabilidad exclusiva del esfuerz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) Dificultades en el acceso al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inanciamiento. “Una idea no sirve de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garantía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) Las tasas de fracaso, propias del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ceso de ensayo y error, suponen un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iesgo demasiado alto para la inversión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ivada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n consecuencia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1) La I+D en los países emergentes se da en niveles muy inferiores al socialmente dese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2) El Estado debe subsidiar si quiere obtener niveles de I+D que favorezcan un desarrollo más acelera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3) El debate entre la neutralidad y la selectiv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556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57200" y="2318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500" spc="-1" strike="noStrike">
                <a:solidFill>
                  <a:srgbClr val="ffd320"/>
                </a:solidFill>
                <a:latin typeface="Arial"/>
              </a:rPr>
              <a:t>Competitividad en Clusters</a:t>
            </a:r>
            <a:br>
              <a:rPr sz="2500"/>
            </a:br>
            <a:r>
              <a:rPr b="1" lang="en-GB" sz="2500" spc="-1" strike="noStrike">
                <a:solidFill>
                  <a:srgbClr val="ffd320"/>
                </a:solidFill>
                <a:latin typeface="Tahoma"/>
              </a:rPr>
              <a:t>Resultado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2"/>
          <a:srcRect l="0" t="8606" r="0" b="0"/>
          <a:stretch/>
        </p:blipFill>
        <p:spPr>
          <a:xfrm>
            <a:off x="0" y="1380960"/>
            <a:ext cx="9144000" cy="547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387000"/>
            <a:ext cx="823284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976400"/>
            <a:ext cx="823284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300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Vincular los mundos del conocimiento y del emprendimiento y estimular la investigación aplica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Políticas públicas específic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neficios tributarios a la I + 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ondos concursa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onsorcios tecnológicos (empresas, universidades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536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decuada protección de la propiedad intelectua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¿Desafío cultural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387000"/>
            <a:ext cx="823284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77480" y="1600200"/>
            <a:ext cx="4500360" cy="488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Tolerancia sistémica a la falla: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 Nadie innova a la primera.Revisar leyes de quiebra, evaluación de riesgo de crédito, sistemas de financiamiento. Estimular la falla inteligente y pedagógic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62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nversión en Investigació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 no es gratis ni espontáne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2080" y="1600200"/>
            <a:ext cx="401616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d32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d320"/>
                </a:solidFill>
                <a:latin typeface="Tahoma"/>
              </a:rPr>
              <a:t>Gasto en I + D como porcentaje del PI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OECD: 2,4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Israel: 4,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Chile: 0,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Brasil: 1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3004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d320"/>
                </a:solidFill>
                <a:latin typeface="Tahoma"/>
              </a:rPr>
              <a:t>Finlandia: 3,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d320"/>
                </a:solidFill>
                <a:latin typeface="Tahoma"/>
              </a:rPr>
              <a:t>Inversión en I + D, ¿lujo o necesidad del desarroll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87000"/>
              </a:lnSpc>
              <a:spcBef>
                <a:spcPts val="700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37760"/>
            <a:ext cx="82328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 </a:t>
            </a:r>
            <a:r>
              <a:rPr b="0" lang="en-GB" sz="4400" spc="-1" strike="noStrike">
                <a:solidFill>
                  <a:srgbClr val="ffd320"/>
                </a:solidFill>
                <a:latin typeface="Tahoma"/>
              </a:rPr>
              <a:t>El nuevo desafío: la innovació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2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6240" indent="0">
              <a:lnSpc>
                <a:spcPct val="87000"/>
              </a:lnSpc>
              <a:spcBef>
                <a:spcPts val="7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La innovación en América Latina requie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ondiciones transversales básicas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stabilidad institucional que ofrezca horizontes de planificación de largo plaz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Infraestructuras físicas e instiucion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Capital hum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87000"/>
              </a:lnSpc>
              <a:spcBef>
                <a:spcPts val="700"/>
              </a:spcBef>
              <a:buClr>
                <a:srgbClr val="ccecff"/>
              </a:buClr>
              <a:buSzPct val="6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Foco: no es posible innovar y ser buenos en todo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El desafío de la selección inteligente (evitar captura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¿En qué áreas se puede ser líder con un esfuerzo marginal abordabl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7520">
              <a:lnSpc>
                <a:spcPct val="87000"/>
              </a:lnSpc>
              <a:spcBef>
                <a:spcPts val="612"/>
              </a:spcBef>
              <a:buClr>
                <a:srgbClr val="0088e4"/>
              </a:buClr>
              <a:buSzPct val="65000"/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antener políticas transversales o neutr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37760"/>
            <a:ext cx="823284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4000" spc="-1" strike="noStrike">
                <a:solidFill>
                  <a:srgbClr val="ffd320"/>
                </a:solidFill>
                <a:latin typeface="Tahoma"/>
              </a:rPr>
              <a:t>3.- El nuevo desafío: la innova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46808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ficiencia es necesaria: pero no es suficiente: siempre pueden otros igualar nuestros bajos cost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Un aumento sostenido de la PTF (país), y de la competitividad empresarial se puede lograr innovand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Innovación empresarial es la transformación de conocimiento en negocio y utilidad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Es un cambio cualitativo en procesos, productos o servici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87000"/>
              </a:lnSpc>
              <a:spcBef>
                <a:spcPts val="799"/>
              </a:spcBef>
              <a:buClr>
                <a:srgbClr val="99ff99"/>
              </a:buClr>
              <a:buSzPct val="6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La innovación siempre y sólo se da a nivel empresarial: el Estado favorece condiciones de entorn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846000"/>
            <a:ext cx="914400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53452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9900"/>
                </a:solidFill>
                <a:latin typeface="Arial"/>
              </a:rPr>
              <a:t>Chile necesita seguir creciendo para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53452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900" spc="-1" strike="noStrike">
                <a:solidFill>
                  <a:srgbClr val="ff9900"/>
                </a:solidFill>
                <a:latin typeface="Arial"/>
              </a:rPr>
              <a:t>alcanzar el desarroll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68200"/>
            <a:ext cx="91440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53452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900" spc="-1" strike="noStrike">
                <a:solidFill>
                  <a:srgbClr val="ff9900"/>
                </a:solidFill>
                <a:latin typeface="Arial"/>
              </a:rPr>
              <a:t>Un gran desafí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1040" y="3917880"/>
            <a:ext cx="2657520" cy="6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200" spc="-1" strike="noStrike">
                <a:solidFill>
                  <a:srgbClr val="dd0601"/>
                </a:solidFill>
                <a:latin typeface="Arial"/>
              </a:rPr>
              <a:t>CHIL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S$12.73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2520" y="4624560"/>
            <a:ext cx="2468520" cy="1406520"/>
          </a:xfrm>
          <a:prstGeom prst="cube">
            <a:avLst>
              <a:gd name="adj" fmla="val 19453"/>
            </a:avLst>
          </a:prstGeom>
          <a:solidFill>
            <a:srgbClr val="f1f8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52960" y="3492360"/>
            <a:ext cx="2600280" cy="2540160"/>
          </a:xfrm>
          <a:prstGeom prst="cube">
            <a:avLst>
              <a:gd name="adj" fmla="val 13990"/>
            </a:avLst>
          </a:prstGeom>
          <a:solidFill>
            <a:srgbClr val="f6ff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65280" y="4892760"/>
            <a:ext cx="195876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Malas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1.91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Leto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3.87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Argentin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4.838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Litua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5.443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sto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17.802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42040" y="2014560"/>
            <a:ext cx="2600280" cy="4021200"/>
          </a:xfrm>
          <a:prstGeom prst="cube">
            <a:avLst>
              <a:gd name="adj" fmla="val 13990"/>
            </a:avLst>
          </a:prstGeom>
          <a:solidFill>
            <a:srgbClr val="fef4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9760" y="6075360"/>
            <a:ext cx="44928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Cifras de PIB per cápita en dólares ppp. FMI, sep. 200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324240" y="4680000"/>
            <a:ext cx="2346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Core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1.887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sloven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3.159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Nva. Zeland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5.65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spañ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7.542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Taiwán 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9.244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Singapur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29.743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00720" y="4254480"/>
            <a:ext cx="2346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Franc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0.150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Suec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1.264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Reino Unido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1.585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Austral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2.127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Finlandia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2.822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Hong Kong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5.396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Canadá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35.779)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14300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EE. UU.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	</a:t>
            </a:r>
            <a:r>
              <a:rPr b="1" lang="en-GB" sz="1300" spc="-1" strike="noStrike">
                <a:solidFill>
                  <a:srgbClr val="2e3ca4"/>
                </a:solidFill>
                <a:latin typeface="Arial"/>
              </a:rPr>
              <a:t>(43.236</a:t>
            </a: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en-GB" sz="1300" spc="-1" strike="noStrike">
                <a:solidFill>
                  <a:srgbClr val="333399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9360" y="4941720"/>
            <a:ext cx="6891480" cy="1225800"/>
          </a:xfrm>
          <a:prstGeom prst="rect">
            <a:avLst/>
          </a:prstGeom>
          <a:gradFill rotWithShape="0">
            <a:gsLst>
              <a:gs pos="0">
                <a:srgbClr val="c9e4f7"/>
              </a:gs>
              <a:gs pos="50000">
                <a:srgbClr val="ffffff"/>
              </a:gs>
              <a:gs pos="100000">
                <a:srgbClr val="c9e4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68160" y="693360"/>
            <a:ext cx="7056360" cy="8175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Lo hemos hecho bien…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41160" y="1477800"/>
            <a:ext cx="6311880" cy="166392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-3780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ntre 1988 y 2004, Chile prácticamente duplicó su ingreso per cápit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Consolidación de reformas estructural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-378000"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conomía abierta con buen desempeño del mercado y las institucion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587600" y="3301920"/>
            <a:ext cx="64468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ero no es suficient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49440" y="3774960"/>
            <a:ext cx="66387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marL="309600" indent="-309600">
              <a:lnSpc>
                <a:spcPct val="93000"/>
              </a:lnSpc>
              <a:spcBef>
                <a:spcPts val="414"/>
              </a:spcBef>
              <a:buClr>
                <a:srgbClr val="000000"/>
              </a:buClr>
              <a:buFont typeface="Trebuchet MS"/>
              <a:buChar char="•"/>
              <a:tabLst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lcanzar el desarrollo requiere de un esfuerzo de crecimiento más prolongado en el tiemp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1640" y="4950000"/>
            <a:ext cx="6588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Volver a duplicar</a:t>
            </a:r>
            <a:br>
              <a:rPr sz="2200"/>
            </a:b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uestro ingreso per cápita en los próximos 15 años es una meta alcanzable…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88200" y="4276800"/>
            <a:ext cx="1488960" cy="588960"/>
          </a:xfrm>
          <a:custGeom>
            <a:avLst/>
            <a:gdLst/>
            <a:ahLst/>
            <a:rect l="l" t="t" r="r" b="b"/>
            <a:pathLst>
              <a:path w="4560" h="1804">
                <a:moveTo>
                  <a:pt x="0" y="0"/>
                </a:moveTo>
                <a:lnTo>
                  <a:pt x="4559" y="180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5320" y="4869000"/>
            <a:ext cx="6081840" cy="1440"/>
          </a:xfrm>
          <a:custGeom>
            <a:avLst/>
            <a:gdLst/>
            <a:ahLst/>
            <a:rect l="l" t="t" r="r" b="b"/>
            <a:pathLst>
              <a:path w="18624" h="1">
                <a:moveTo>
                  <a:pt x="0" y="0"/>
                </a:moveTo>
                <a:lnTo>
                  <a:pt x="18623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94000" y="712440"/>
            <a:ext cx="6246720" cy="522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…</a:t>
            </a: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pero muy exigente vista nuestra historia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04880" y="1743120"/>
            <a:ext cx="6306840" cy="3916080"/>
            <a:chOff x="1604880" y="1743120"/>
            <a:chExt cx="6306840" cy="3916080"/>
          </a:xfrm>
        </p:grpSpPr>
        <p:sp>
          <p:nvSpPr>
            <p:cNvPr id="113" name=""/>
            <p:cNvSpPr/>
            <p:nvPr/>
          </p:nvSpPr>
          <p:spPr>
            <a:xfrm>
              <a:off x="6197760" y="5134680"/>
              <a:ext cx="17139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1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131080" y="5134680"/>
              <a:ext cx="106632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20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924720" y="5134680"/>
              <a:ext cx="120636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198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04880" y="5134680"/>
              <a:ext cx="2319840" cy="52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ff0000"/>
                  </a:solidFill>
                  <a:latin typeface="Arial"/>
                  <a:ea typeface="Arial"/>
                </a:rPr>
                <a:t>De 5.781 a 11.5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197760" y="4609440"/>
              <a:ext cx="171396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6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31080" y="4609440"/>
              <a:ext cx="106632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8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924720" y="4609440"/>
              <a:ext cx="120636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04880" y="4609440"/>
              <a:ext cx="2319840" cy="52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2.769 a 5.78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97760" y="4087440"/>
              <a:ext cx="171396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31080" y="4087440"/>
              <a:ext cx="106632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924720" y="4087440"/>
              <a:ext cx="120636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7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04880" y="4087440"/>
              <a:ext cx="2319840" cy="52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1.325 a 2.76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197760" y="3563640"/>
              <a:ext cx="171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31080" y="3563640"/>
              <a:ext cx="106632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7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924720" y="3563640"/>
              <a:ext cx="12063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82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604880" y="3563640"/>
              <a:ext cx="231984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b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 694 a 1.32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97760" y="2515320"/>
              <a:ext cx="171396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ños que tardó en duplica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31080" y="2515320"/>
              <a:ext cx="106632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ño fin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924720" y="2515320"/>
              <a:ext cx="120636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ño inicia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604880" y="2515320"/>
              <a:ext cx="2319840" cy="104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B per cápita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$ pp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04880" y="1743120"/>
              <a:ext cx="6305760" cy="77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657360"/>
                  <a:tab algn="l" pos="1312920"/>
                  <a:tab algn="l" pos="1969920"/>
                  <a:tab algn="l" pos="2627280"/>
                  <a:tab algn="l" pos="3282840"/>
                  <a:tab algn="l" pos="3940200"/>
                  <a:tab algn="l" pos="4595760"/>
                  <a:tab algn="l" pos="5253120"/>
                  <a:tab algn="l" pos="591012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  <a:tab algn="l" pos="8567640"/>
                  <a:tab algn="l" pos="89758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 difícil tarea de duplicar nuestro ingres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04880" y="1743120"/>
              <a:ext cx="63057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04880" y="5658120"/>
              <a:ext cx="63057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604880" y="1743120"/>
              <a:ext cx="1080" cy="3913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10640" y="1743120"/>
              <a:ext cx="1080" cy="3913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604880" y="2515320"/>
              <a:ext cx="63057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04880" y="3563640"/>
              <a:ext cx="6305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3502080" y="5738760"/>
            <a:ext cx="46735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808080"/>
                </a:solidFill>
                <a:latin typeface="Arial"/>
              </a:rPr>
              <a:t>“</a:t>
            </a:r>
            <a:r>
              <a:rPr b="0" lang="en-GB" sz="1100" spc="-1" strike="noStrike">
                <a:solidFill>
                  <a:srgbClr val="808080"/>
                </a:solidFill>
                <a:latin typeface="Arial"/>
              </a:rPr>
              <a:t>The World Economy: Historical Statistics”.  A. Maddison, 2007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rot="5400000">
            <a:off x="1315800" y="5314680"/>
            <a:ext cx="190440" cy="349200"/>
          </a:xfrm>
          <a:prstGeom prst="triangle">
            <a:avLst>
              <a:gd name="adj" fmla="val 50000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55560" y="1633680"/>
          <a:ext cx="7688520" cy="52164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3440" y="70920"/>
            <a:ext cx="8817120" cy="123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686800"/>
                <a:tab algn="l" pos="9408960"/>
                <a:tab algn="l" pos="10080720"/>
              </a:tabLst>
            </a:pPr>
            <a:r>
              <a:rPr b="1" lang="en-GB" sz="2700" spc="-1" strike="noStrike">
                <a:solidFill>
                  <a:srgbClr val="ff0000"/>
                </a:solidFill>
                <a:latin typeface="Tahoma"/>
              </a:rPr>
              <a:t>COMPOSICION DEL CRECIMIENTO DEL PIB EN DEMOCRACIA: INCIDENCIA (DECLINANTE) DE LA PRODUCTIVIDAD TOTAL DE LOS FACTORES</a:t>
            </a:r>
            <a:endParaRPr b="0" lang="en-US" sz="27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612800" y="4813200"/>
            <a:ext cx="5950080" cy="1131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1877" y="2181"/>
                </a:moveTo>
                <a:lnTo>
                  <a:pt x="22637" y="2181"/>
                </a:lnTo>
                <a:lnTo>
                  <a:pt x="22637" y="-3544"/>
                </a:lnTo>
                <a:lnTo>
                  <a:pt x="13669" y="-9270"/>
                </a:lnTo>
              </a:path>
            </a:pathLst>
          </a:custGeom>
          <a:gradFill rotWithShape="0">
            <a:gsLst>
              <a:gs pos="0">
                <a:srgbClr val="d1e2f7"/>
              </a:gs>
              <a:gs pos="50000">
                <a:srgbClr val="ffffff"/>
              </a:gs>
              <a:gs pos="100000">
                <a:srgbClr val="d1e2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10920" y="569880"/>
            <a:ext cx="5156280" cy="9669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Por ello, </a:t>
            </a:r>
            <a:r>
              <a:rPr b="0" lang="en-GB" sz="2400" spc="-1" strike="noStrike" u="sng">
                <a:solidFill>
                  <a:srgbClr val="e5ffff"/>
                </a:solidFill>
                <a:uFillTx/>
                <a:latin typeface="Tahoma"/>
              </a:rPr>
              <a:t>tenemos</a:t>
            </a: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 que revisar</a:t>
            </a:r>
            <a:br>
              <a:rPr sz="2400"/>
            </a:b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nuestra estrategia de desarrollo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200" y="1464840"/>
            <a:ext cx="7008840" cy="345924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1800" spc="-1" strike="noStrike">
                <a:solidFill>
                  <a:srgbClr val="ffffff"/>
                </a:solidFill>
                <a:latin typeface="Tahoma"/>
              </a:rPr>
              <a:t>Dos tendencias marcan el futur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7800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75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Avance insoslayable de la globaliz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uevos mercados para nuestras exportaciones o nuevos bienes de consum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mergencia de nuevos competidores en mercados ya conquistados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9000" indent="-315720">
              <a:lnSpc>
                <a:spcPct val="75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Tahoma"/>
              </a:rPr>
              <a:t>Mejorar nuestra Productividad Total de los Factores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a calidad del capital huma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-252360">
              <a:lnSpc>
                <a:spcPct val="75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El conocimiento y la </a:t>
            </a:r>
            <a:r>
              <a:rPr b="1" lang="en-GB" sz="1800" spc="-1" strike="noStrike" u="sng">
                <a:solidFill>
                  <a:srgbClr val="ffffff"/>
                </a:solidFill>
                <a:uFillTx/>
                <a:latin typeface="Tahoma"/>
              </a:rPr>
              <a:t>innov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260360" indent="0">
              <a:lnSpc>
                <a:spcPct val="75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711440" y="4883040"/>
            <a:ext cx="5788080" cy="9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91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oceso mediante el cual ciertos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os o proces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iv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desarrollados en base a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nuevos conocimient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o a la combinación novedosa de conocimiento preexistente, son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roducidos eficazmente en los mercados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, y por lo tanto en la vida social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539640" y="1198440"/>
            <a:ext cx="7702560" cy="4534200"/>
            <a:chOff x="539640" y="1198440"/>
            <a:chExt cx="7702560" cy="4534200"/>
          </a:xfrm>
        </p:grpSpPr>
        <p:graphicFrame>
          <p:nvGraphicFramePr>
            <p:cNvPr id="149" name=""/>
            <p:cNvGraphicFramePr/>
            <p:nvPr/>
          </p:nvGraphicFramePr>
          <p:xfrm>
            <a:off x="539640" y="1198440"/>
            <a:ext cx="7702560" cy="453420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39640" y="1198440"/>
                      <a:ext cx="7702560" cy="4534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"/>
            <p:cNvSpPr/>
            <p:nvPr/>
          </p:nvSpPr>
          <p:spPr>
            <a:xfrm>
              <a:off x="539640" y="1198440"/>
              <a:ext cx="7702560" cy="453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5964120" y="5788080"/>
            <a:ext cx="231300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urce: Barros and Lee 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4000" y="439560"/>
            <a:ext cx="849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7221600"/>
                <a:tab algn="l" pos="788040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2200" spc="-1" strike="noStrike">
                <a:solidFill>
                  <a:srgbClr val="ff9900"/>
                </a:solidFill>
                <a:latin typeface="Arial"/>
              </a:rPr>
              <a:t>Años promedio de escolaridad en edad adult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9600" y="618840"/>
            <a:ext cx="7035840" cy="576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2800" spc="-1" strike="noStrike">
                <a:solidFill>
                  <a:srgbClr val="e5ffff"/>
                </a:solidFill>
                <a:latin typeface="Tahoma"/>
              </a:rPr>
              <a:t>Un mayor esfuerzo en I+D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477800" y="1414440"/>
            <a:ext cx="6880320" cy="49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414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56424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800" spc="-1" strike="noStrike">
                <a:solidFill>
                  <a:srgbClr val="ff9900"/>
                </a:solidFill>
                <a:latin typeface="Arial"/>
              </a:rPr>
              <a:t>No es correcto afirmar que los países ricos invierten más en I+D porque son ricos… son ricos porque invierten más en I+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38800" y="6572160"/>
            <a:ext cx="869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 algn="ctr">
              <a:lnSpc>
                <a:spcPct val="75000"/>
              </a:lnSpc>
              <a:spcBef>
                <a:spcPts val="675"/>
              </a:spcBef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rcRect l="664" t="0" r="0" b="0"/>
          <a:stretch/>
        </p:blipFill>
        <p:spPr>
          <a:xfrm>
            <a:off x="1685880" y="3087720"/>
            <a:ext cx="5570640" cy="18684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592280" y="2117880"/>
            <a:ext cx="3200400" cy="4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ff9900"/>
                </a:solidFill>
                <a:latin typeface="Arial"/>
              </a:rPr>
              <a:t>Cómo lo hace Chile en I+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(% del PIB)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‏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92280" y="3040200"/>
            <a:ext cx="1440" cy="1879560"/>
          </a:xfrm>
          <a:custGeom>
            <a:avLst/>
            <a:gdLst/>
            <a:ahLst/>
            <a:rect l="l" t="t" r="r" b="b"/>
            <a:pathLst>
              <a:path w="1" h="5756">
                <a:moveTo>
                  <a:pt x="0" y="0"/>
                </a:moveTo>
                <a:lnTo>
                  <a:pt x="0" y="5755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92280" y="4932360"/>
            <a:ext cx="5789520" cy="1440"/>
          </a:xfrm>
          <a:custGeom>
            <a:avLst/>
            <a:gdLst/>
            <a:ahLst/>
            <a:rect l="l" t="t" r="r" b="b"/>
            <a:pathLst>
              <a:path w="17725" h="1">
                <a:moveTo>
                  <a:pt x="0" y="0"/>
                </a:moveTo>
                <a:lnTo>
                  <a:pt x="17724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783440" y="4970520"/>
            <a:ext cx="5659560" cy="187920"/>
            <a:chOff x="1783440" y="4970520"/>
            <a:chExt cx="5659560" cy="187920"/>
          </a:xfrm>
        </p:grpSpPr>
        <p:sp>
          <p:nvSpPr>
            <p:cNvPr id="162" name=""/>
            <p:cNvSpPr/>
            <p:nvPr/>
          </p:nvSpPr>
          <p:spPr>
            <a:xfrm>
              <a:off x="1783440" y="4970520"/>
              <a:ext cx="4521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5100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33404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1744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2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926760" y="497052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ff9900"/>
                  </a:solidFill>
                  <a:latin typeface="Arial"/>
                </a:rPr>
                <a:t>2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7440480" y="4883040"/>
            <a:ext cx="669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PIB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per cápi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379520" y="438624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79520" y="397188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79520" y="359244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9520" y="3209760"/>
            <a:ext cx="228240" cy="1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24120" y="2684520"/>
            <a:ext cx="6699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% de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Ingreso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per cápi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36960" y="5452920"/>
            <a:ext cx="444816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China 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Core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Estonia                 Hong Kong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Leton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Lituania 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Malas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   Tailandi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Austral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Finland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Noruega                 Sueci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Taiwán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Singapur              Irland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    Nva. Zeland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828720"/>
                <a:tab algn="l" pos="1658880"/>
                <a:tab algn="l" pos="2487600"/>
                <a:tab algn="l" pos="3317760"/>
                <a:tab algn="l" pos="4146480"/>
                <a:tab algn="l" pos="4976640"/>
                <a:tab algn="l" pos="5805360"/>
                <a:tab algn="l" pos="6635880"/>
                <a:tab algn="l" pos="7462800"/>
                <a:tab algn="l" pos="8294760"/>
                <a:tab algn="l" pos="91216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Esloveni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Dinamarca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9900"/>
                </a:solidFill>
                <a:latin typeface="Arial"/>
              </a:rPr>
              <a:t>         Tendencia promed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38760" y="5545080"/>
            <a:ext cx="76320" cy="76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38760" y="5695920"/>
            <a:ext cx="76320" cy="76320"/>
          </a:xfrm>
          <a:prstGeom prst="ellipse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775480" y="5545080"/>
            <a:ext cx="75960" cy="763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75480" y="5695920"/>
            <a:ext cx="75960" cy="76320"/>
          </a:xfrm>
          <a:prstGeom prst="ellipse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7600" y="5545080"/>
            <a:ext cx="75960" cy="76320"/>
          </a:xfrm>
          <a:prstGeom prst="ellipse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7600" y="5695920"/>
            <a:ext cx="75960" cy="76320"/>
          </a:xfrm>
          <a:prstGeom prst="ellipse">
            <a:avLst/>
          </a:prstGeom>
          <a:solidFill>
            <a:srgbClr val="00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00240" y="5543640"/>
            <a:ext cx="76320" cy="7596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00240" y="5695920"/>
            <a:ext cx="76320" cy="76320"/>
          </a:xfrm>
          <a:prstGeom prst="ellipse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07120" y="6197760"/>
            <a:ext cx="527040" cy="1440"/>
          </a:xfrm>
          <a:custGeom>
            <a:avLst/>
            <a:gdLst/>
            <a:ahLst/>
            <a:rect l="l" t="t" r="r" b="b"/>
            <a:pathLst>
              <a:path w="1615" h="1">
                <a:moveTo>
                  <a:pt x="0" y="0"/>
                </a:moveTo>
                <a:lnTo>
                  <a:pt x="1614" y="0"/>
                </a:ln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838760" y="5851440"/>
            <a:ext cx="76320" cy="7632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00240" y="5851440"/>
            <a:ext cx="76320" cy="76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5800" y="5851440"/>
            <a:ext cx="76320" cy="76320"/>
          </a:xfrm>
          <a:prstGeom prst="ellipse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76920" y="5851440"/>
            <a:ext cx="76320" cy="76320"/>
          </a:xfrm>
          <a:prstGeom prst="ellips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76920" y="5999040"/>
            <a:ext cx="76320" cy="763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38760" y="5999040"/>
            <a:ext cx="76320" cy="76320"/>
          </a:xfrm>
          <a:prstGeom prst="ellipse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25800" y="5999040"/>
            <a:ext cx="76320" cy="7632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03480" y="5999040"/>
            <a:ext cx="76320" cy="76320"/>
          </a:xfrm>
          <a:prstGeom prst="ellipse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00240" y="6161040"/>
            <a:ext cx="76320" cy="76320"/>
          </a:xfrm>
          <a:prstGeom prst="ellipse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25800" y="6161040"/>
            <a:ext cx="76320" cy="763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76480" y="3357720"/>
            <a:ext cx="571680" cy="255600"/>
          </a:xfrm>
          <a:prstGeom prst="borderCallout2">
            <a:avLst>
              <a:gd name="adj1" fmla="val 18750"/>
              <a:gd name="adj2" fmla="val -8333"/>
              <a:gd name="adj3" fmla="val 44444"/>
              <a:gd name="adj4" fmla="val 128055"/>
              <a:gd name="adj5" fmla="val 453675"/>
              <a:gd name="adj6" fmla="val 1299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936880" y="5672160"/>
            <a:ext cx="43959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485720" y="1428840"/>
            <a:ext cx="6699240" cy="71280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Font typeface="Trebuchet MS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8064360"/>
                <a:tab algn="l" pos="9072720"/>
                <a:tab algn="l" pos="1008072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ólo es posible dar un gran salto en educación terciaria (técnica y universitaria) si se eleva la calidad de la educa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13301" t="15386" r="3941" b="47803"/>
          <a:stretch/>
        </p:blipFill>
        <p:spPr>
          <a:xfrm>
            <a:off x="1604880" y="3102120"/>
            <a:ext cx="5570640" cy="18158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2"/>
          <p:cNvSpPr>
            <a:spLocks noGrp="1"/>
          </p:cNvSpPr>
          <p:nvPr>
            <p:ph type="title"/>
          </p:nvPr>
        </p:nvSpPr>
        <p:spPr>
          <a:xfrm>
            <a:off x="1495440" y="599760"/>
            <a:ext cx="5967360" cy="522360"/>
          </a:xfrm>
          <a:prstGeom prst="rect">
            <a:avLst/>
          </a:prstGeom>
          <a:noFill/>
          <a:ln w="0">
            <a:noFill/>
          </a:ln>
        </p:spPr>
        <p:txBody>
          <a:bodyPr lIns="81720" rIns="81720" tIns="42480" bIns="4248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GB" sz="2400" spc="-1" strike="noStrike">
                <a:solidFill>
                  <a:srgbClr val="e5ffff"/>
                </a:solidFill>
                <a:latin typeface="Tahoma"/>
              </a:rPr>
              <a:t>Las brechas en educación </a:t>
            </a:r>
            <a:r>
              <a:rPr b="0" lang="en-GB" sz="1800" spc="-1" strike="noStrike">
                <a:solidFill>
                  <a:srgbClr val="e5ffff"/>
                </a:solidFill>
                <a:latin typeface="Tahoma"/>
              </a:rPr>
              <a:t>(2)</a:t>
            </a:r>
            <a:r>
              <a:rPr b="0" lang="en-GB" sz="1800" spc="-1" strike="noStrike">
                <a:solidFill>
                  <a:srgbClr val="e5ffff"/>
                </a:solidFill>
                <a:latin typeface="Tahoma"/>
              </a:rPr>
              <a:t>‏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531800" y="6073920"/>
            <a:ext cx="65469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>
              <a:lnSpc>
                <a:spcPct val="93000"/>
              </a:lnSpc>
              <a:spcBef>
                <a:spcPts val="275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940200"/>
                <a:tab algn="l" pos="4595760"/>
                <a:tab algn="l" pos="5253120"/>
                <a:tab algn="l" pos="591012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Brechas similares de desempeño se observan en las pruebas de Matemáticas y Ciencia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69960" y="2305080"/>
            <a:ext cx="36846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spcBef>
                <a:spcPts val="363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sultados Prueba PISA y PIB per cápit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312"/>
              </a:spcBef>
              <a:tabLst>
                <a:tab algn="l" pos="0"/>
                <a:tab algn="l" pos="657360"/>
                <a:tab algn="l" pos="1312920"/>
                <a:tab algn="l" pos="1969920"/>
                <a:tab algn="l" pos="2627280"/>
                <a:tab algn="l" pos="328284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  <a:tab algn="l" pos="8975880"/>
                <a:tab algn="l" pos="9383760"/>
                <a:tab algn="l" pos="9791640"/>
                <a:tab algn="l" pos="10199520"/>
                <a:tab algn="l" pos="106077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Comprensión Lectora)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17840" y="4884840"/>
            <a:ext cx="5562360" cy="1440"/>
          </a:xfrm>
          <a:custGeom>
            <a:avLst/>
            <a:gdLst/>
            <a:ahLst/>
            <a:rect l="l" t="t" r="r" b="b"/>
            <a:pathLst>
              <a:path w="17034" h="1">
                <a:moveTo>
                  <a:pt x="0" y="0"/>
                </a:moveTo>
                <a:lnTo>
                  <a:pt x="17033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3440" y="3081240"/>
            <a:ext cx="1440" cy="1805040"/>
          </a:xfrm>
          <a:custGeom>
            <a:avLst/>
            <a:gdLst/>
            <a:ahLst/>
            <a:rect l="l" t="t" r="r" b="b"/>
            <a:pathLst>
              <a:path w="1" h="5524">
                <a:moveTo>
                  <a:pt x="0" y="0"/>
                </a:moveTo>
                <a:lnTo>
                  <a:pt x="0" y="5523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180800" y="2835360"/>
            <a:ext cx="522360" cy="2066040"/>
            <a:chOff x="1180800" y="2835360"/>
            <a:chExt cx="522360" cy="2066040"/>
          </a:xfrm>
        </p:grpSpPr>
        <p:sp>
          <p:nvSpPr>
            <p:cNvPr id="203" name=""/>
            <p:cNvSpPr/>
            <p:nvPr/>
          </p:nvSpPr>
          <p:spPr>
            <a:xfrm>
              <a:off x="1276200" y="471348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76200" y="419832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76200" y="366444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76200" y="3118680"/>
              <a:ext cx="3560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80800" y="2835360"/>
              <a:ext cx="5223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Punt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1594440" y="4923000"/>
            <a:ext cx="5632200" cy="187920"/>
            <a:chOff x="1594440" y="4923000"/>
            <a:chExt cx="5632200" cy="187920"/>
          </a:xfrm>
        </p:grpSpPr>
        <p:sp>
          <p:nvSpPr>
            <p:cNvPr id="209" name=""/>
            <p:cNvSpPr/>
            <p:nvPr/>
          </p:nvSpPr>
          <p:spPr>
            <a:xfrm>
              <a:off x="1594440" y="4923000"/>
              <a:ext cx="4521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6308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4576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1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2880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20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710400" y="4923000"/>
              <a:ext cx="51624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2480" bIns="42480" anchor="t">
              <a:spAutoFit/>
            </a:bodyPr>
            <a:p>
              <a:pPr algn="r">
                <a:lnSpc>
                  <a:spcPct val="75000"/>
                </a:lnSpc>
                <a:spcBef>
                  <a:spcPts val="224"/>
                </a:spcBef>
                <a:tabLst>
                  <a:tab algn="l" pos="0"/>
                  <a:tab algn="l" pos="407880"/>
                  <a:tab algn="l" pos="816120"/>
                  <a:tab algn="l" pos="1224000"/>
                  <a:tab algn="l" pos="1631880"/>
                  <a:tab algn="l" pos="2039760"/>
                  <a:tab algn="l" pos="2448000"/>
                  <a:tab algn="l" pos="2855880"/>
                  <a:tab algn="l" pos="3263760"/>
                  <a:tab algn="l" pos="3672000"/>
                  <a:tab algn="l" pos="4079880"/>
                  <a:tab algn="l" pos="4487760"/>
                  <a:tab algn="l" pos="4896000"/>
                  <a:tab algn="l" pos="5303880"/>
                  <a:tab algn="l" pos="5711760"/>
                  <a:tab algn="l" pos="6119640"/>
                  <a:tab algn="l" pos="6527880"/>
                  <a:tab algn="l" pos="6935760"/>
                  <a:tab algn="l" pos="7343640"/>
                  <a:tab algn="l" pos="7751880"/>
                  <a:tab algn="l" pos="8159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25.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887560" y="4440240"/>
            <a:ext cx="3286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323840" y="4791240"/>
            <a:ext cx="669960" cy="2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720" rIns="81720" tIns="42480" bIns="4248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IB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65736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  <a:tab algn="l" pos="85676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er cápit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71920" y="4325760"/>
            <a:ext cx="622080" cy="228600"/>
          </a:xfrm>
          <a:prstGeom prst="borderCallout2">
            <a:avLst>
              <a:gd name="adj1" fmla="val 18750"/>
              <a:gd name="adj2" fmla="val -8333"/>
              <a:gd name="adj3" fmla="val 50000"/>
              <a:gd name="adj4" fmla="val -46939"/>
              <a:gd name="adj5" fmla="val 120680"/>
              <a:gd name="adj6" fmla="val -837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720" rIns="81720" tIns="42480" bIns="42480" anchor="t">
            <a:noAutofit/>
          </a:bodyPr>
          <a:p>
            <a:pPr algn="ctr">
              <a:lnSpc>
                <a:spcPct val="75000"/>
              </a:lnSpc>
              <a:spcBef>
                <a:spcPts val="275"/>
              </a:spcBef>
              <a:tabLst>
                <a:tab algn="l" pos="0"/>
                <a:tab algn="l" pos="407880"/>
                <a:tab algn="l" pos="816120"/>
                <a:tab algn="l" pos="1224000"/>
                <a:tab algn="l" pos="1631880"/>
                <a:tab algn="l" pos="2039760"/>
                <a:tab algn="l" pos="2448000"/>
                <a:tab algn="l" pos="2855880"/>
                <a:tab algn="l" pos="3263760"/>
                <a:tab algn="l" pos="3672000"/>
                <a:tab algn="l" pos="4079880"/>
                <a:tab algn="l" pos="4487760"/>
                <a:tab algn="l" pos="4896000"/>
                <a:tab algn="l" pos="5303880"/>
                <a:tab algn="l" pos="5711760"/>
                <a:tab algn="l" pos="6119640"/>
                <a:tab algn="l" pos="6527880"/>
                <a:tab algn="l" pos="6935760"/>
                <a:tab algn="l" pos="7343640"/>
                <a:tab algn="l" pos="7751880"/>
                <a:tab algn="l" pos="815976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963880" y="4630680"/>
            <a:ext cx="88920" cy="88920"/>
          </a:xfrm>
          <a:prstGeom prst="ellipse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025800" y="5329080"/>
            <a:ext cx="4484160" cy="468000"/>
            <a:chOff x="3025800" y="5329080"/>
            <a:chExt cx="4484160" cy="468000"/>
          </a:xfrm>
        </p:grpSpPr>
        <p:sp>
          <p:nvSpPr>
            <p:cNvPr id="219" name=""/>
            <p:cNvSpPr/>
            <p:nvPr/>
          </p:nvSpPr>
          <p:spPr>
            <a:xfrm>
              <a:off x="3064320" y="5329080"/>
              <a:ext cx="4445640" cy="46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1720" rIns="81720" tIns="42480" bIns="4248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8880"/>
                  <a:tab algn="l" pos="2487600"/>
                  <a:tab algn="l" pos="3317760"/>
                  <a:tab algn="l" pos="4146480"/>
                  <a:tab algn="l" pos="4976640"/>
                  <a:tab algn="l" pos="5805360"/>
                  <a:tab algn="l" pos="6635880"/>
                  <a:tab algn="l" pos="7462800"/>
                  <a:tab algn="l" pos="8294760"/>
                  <a:tab algn="l" pos="91216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Australia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anadá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orea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  Dinamar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8880"/>
                  <a:tab algn="l" pos="2487600"/>
                  <a:tab algn="l" pos="3317760"/>
                  <a:tab algn="l" pos="4146480"/>
                  <a:tab algn="l" pos="4976640"/>
                  <a:tab algn="l" pos="5805360"/>
                  <a:tab algn="l" pos="6635880"/>
                  <a:tab algn="l" pos="7462800"/>
                  <a:tab algn="l" pos="8294760"/>
                  <a:tab algn="l" pos="91216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Finlandia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Letonia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Nva. Zelanda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  Sueci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828720"/>
                  <a:tab algn="l" pos="1658880"/>
                  <a:tab algn="l" pos="2487600"/>
                  <a:tab algn="l" pos="3317760"/>
                  <a:tab algn="l" pos="4146480"/>
                  <a:tab algn="l" pos="4976640"/>
                  <a:tab algn="l" pos="5805360"/>
                  <a:tab algn="l" pos="6635880"/>
                  <a:tab algn="l" pos="7462800"/>
                  <a:tab algn="l" pos="8294760"/>
                  <a:tab algn="l" pos="9121680"/>
                  <a:tab algn="l" pos="9383760"/>
                  <a:tab algn="l" pos="9791640"/>
                  <a:tab algn="l" pos="10199520"/>
                  <a:tab algn="l" pos="1060776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Tailandia 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     Tendencia promed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867560" y="5425200"/>
              <a:ext cx="76320" cy="75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67560" y="5574600"/>
              <a:ext cx="76320" cy="75960"/>
            </a:xfrm>
            <a:prstGeom prst="ellipse">
              <a:avLst/>
            </a:pr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63040" y="5423760"/>
              <a:ext cx="76320" cy="759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963040" y="556884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58200" y="5423760"/>
              <a:ext cx="76320" cy="75960"/>
            </a:xfrm>
            <a:prstGeom prst="ellipse">
              <a:avLst/>
            </a:pr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58200" y="5574600"/>
              <a:ext cx="76320" cy="75960"/>
            </a:xfrm>
            <a:prstGeom prst="ellipse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025800" y="5416560"/>
              <a:ext cx="76320" cy="75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25800" y="5568840"/>
              <a:ext cx="76320" cy="75960"/>
            </a:xfrm>
            <a:prstGeom prst="ellips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025800" y="5721120"/>
              <a:ext cx="76320" cy="75960"/>
            </a:xfrm>
            <a:prstGeom prst="ellipse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513760" y="5767200"/>
              <a:ext cx="526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7:41:37Z</dcterms:created>
  <dc:creator>Preferred Customer</dc:creator>
  <dc:description/>
  <dc:language>en-US</dc:language>
  <cp:lastModifiedBy>Del Rio &amp; Morgan Ltda.</cp:lastModifiedBy>
  <dcterms:modified xsi:type="dcterms:W3CDTF">2009-11-19T19:35:18Z</dcterms:modified>
  <cp:revision>3</cp:revision>
  <dc:subject/>
  <dc:title>POLITICAS DE FOMENTO E INNOVACION</dc:title>
</cp:coreProperties>
</file>