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0764104087956907"/>
          <c:y val="0.0199637023593466"/>
          <c:w val="0.999235895912043"/>
          <c:h val="0.9390449965579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% CRECIMIENTO DEL PI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58</c:v>
                </c:pt>
                <c:pt idx="1">
                  <c:v>5.43</c:v>
                </c:pt>
                <c:pt idx="2">
                  <c:v>4.24</c:v>
                </c:pt>
                <c:pt idx="3">
                  <c:v>4.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TF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6</c:v>
                </c:pt>
                <c:pt idx="1">
                  <c:v>2.05</c:v>
                </c:pt>
                <c:pt idx="2">
                  <c:v>1</c:v>
                </c:pt>
                <c:pt idx="3">
                  <c:v>0.4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APITAL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.91</c:v>
                </c:pt>
                <c:pt idx="1">
                  <c:v>2.78</c:v>
                </c:pt>
                <c:pt idx="2">
                  <c:v>1.73</c:v>
                </c:pt>
                <c:pt idx="3">
                  <c:v>2.6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TRABAJO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09</c:v>
                </c:pt>
                <c:pt idx="1">
                  <c:v>0.6</c:v>
                </c:pt>
                <c:pt idx="2">
                  <c:v>1.52</c:v>
                </c:pt>
                <c:pt idx="3">
                  <c:v>1.4</c:v>
                </c:pt>
              </c:numCache>
            </c:numRef>
          </c:val>
        </c:ser>
        <c:gapWidth val="100"/>
        <c:overlap val="0"/>
        <c:axId val="62716074"/>
        <c:axId val="93794969"/>
      </c:barChart>
      <c:catAx>
        <c:axId val="627160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299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94969"/>
        <c:crossesAt val="0"/>
        <c:auto val="1"/>
        <c:lblAlgn val="ctr"/>
        <c:lblOffset val="100"/>
        <c:noMultiLvlLbl val="0"/>
      </c:catAx>
      <c:valAx>
        <c:axId val="93794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77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60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4898331706075"/>
          <c:y val="0.0865510983165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3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C33E-D2E3-416E-9146-C1AA88C1D9C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2C2F9A77-5131-4EA1-B5E9-5228576F9A2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A5C-BF7E-4F37-8B4C-487BB916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13A-A82F-42F0-8C7F-FDDB003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821-C149-4166-9886-454F4F6D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0E6-7631-4747-9092-B7A3659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163-5B80-4338-A17D-40E68BAC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D373-0A69-4B81-B1FC-6D3B45E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52C9-A423-4D4A-8C7E-D3E1FEE3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2557-CA7F-4249-928C-53D44F4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1A0C-91BE-40BB-9EE5-7486F3E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319A-5E89-4885-8055-DB30948F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00FF-0525-4D3C-8102-E9638B8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6C0-042B-4274-BEF3-CC31099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C89-97D0-4C51-B205-4D95374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350-45F1-4475-ADB2-F8883B2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DFB6-4066-4554-95C7-BA4229A9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9E48-BDC1-4C7D-A061-E2EBC109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4F0-F5F2-4616-90FD-5235CF20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1A2-9FF8-4054-A005-92E83E2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1D5-9A70-4C55-B848-C06FEB95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519-F71C-4CFB-93F3-55A5644C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D88-6DB3-46D1-AAB7-56E77C4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395-50C1-4C91-BEEB-A3E482B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A4C-2D7E-481F-900D-EB221C6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15A-8526-40B1-A6FD-E876298B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B3E-9A24-4A9A-B4C5-D43AAF307FB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850F-A8C4-4595-854A-44C27DDE9E6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OLITICAS DE FOMENTO E INOVAC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ejandro Ferre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89000"/>
          <a:ext cx="9144000" cy="18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2280" y="5148360"/>
            <a:ext cx="5927760" cy="466560"/>
          </a:xfrm>
          <a:prstGeom prst="rightArrow">
            <a:avLst>
              <a:gd name="adj1" fmla="val 68028"/>
              <a:gd name="adj2" fmla="val 137464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477800" y="1371600"/>
            <a:ext cx="6880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 no basta con afirmar que los países ricos invierten más en I+D porque son ricos… son, y serán ricos,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837400"/>
            <a:ext cx="608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a inversión pública se debe duplicar (hasta 0,9 % del PIB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s privados deben quintuplicar su esfuerzo hasta 1,4 % del PI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89040" y="4419720"/>
            <a:ext cx="665280" cy="759960"/>
            <a:chOff x="1589040" y="4419720"/>
            <a:chExt cx="665280" cy="759960"/>
          </a:xfrm>
        </p:grpSpPr>
        <p:sp>
          <p:nvSpPr>
            <p:cNvPr id="235" name=""/>
            <p:cNvSpPr/>
            <p:nvPr/>
          </p:nvSpPr>
          <p:spPr>
            <a:xfrm>
              <a:off x="1589040" y="4419720"/>
              <a:ext cx="665280" cy="3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9040" y="4464360"/>
              <a:ext cx="665280" cy="26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9040" y="4748760"/>
              <a:ext cx="665280" cy="430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30800" y="2836800"/>
            <a:ext cx="669600" cy="2343240"/>
            <a:chOff x="6130800" y="2836800"/>
            <a:chExt cx="669600" cy="2343240"/>
          </a:xfrm>
        </p:grpSpPr>
        <p:sp>
          <p:nvSpPr>
            <p:cNvPr id="239" name=""/>
            <p:cNvSpPr/>
            <p:nvPr/>
          </p:nvSpPr>
          <p:spPr>
            <a:xfrm>
              <a:off x="6131880" y="4316400"/>
              <a:ext cx="66564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760" y="2955960"/>
              <a:ext cx="665640" cy="134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0800" y="2836800"/>
              <a:ext cx="665280" cy="1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487520" y="527220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1360" y="5283360"/>
            <a:ext cx="87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120" y="206856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rsión en I+D en Chi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4135320"/>
            <a:ext cx="85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,6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16600" y="2444760"/>
            <a:ext cx="109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136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0680" y="4529160"/>
            <a:ext cx="17460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40680" y="4768920"/>
            <a:ext cx="174600" cy="1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0680" y="5006880"/>
            <a:ext cx="174600" cy="182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45160" y="4468680"/>
            <a:ext cx="6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660920"/>
            <a:ext cx="5857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95920" y="3483000"/>
            <a:ext cx="4953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49640" y="4325760"/>
            <a:ext cx="3898800" cy="432000"/>
          </a:xfrm>
          <a:custGeom>
            <a:avLst/>
            <a:gdLst/>
            <a:ahLst/>
            <a:rect l="l" t="t" r="r" b="b"/>
            <a:pathLst>
              <a:path w="11940" h="1324">
                <a:moveTo>
                  <a:pt x="0" y="1323"/>
                </a:moveTo>
                <a:lnTo>
                  <a:pt x="11939" y="0"/>
                </a:ln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2240" y="2967120"/>
            <a:ext cx="3886200" cy="1498680"/>
          </a:xfrm>
          <a:custGeom>
            <a:avLst/>
            <a:gdLst/>
            <a:ahLst/>
            <a:rect l="l" t="t" r="r" b="b"/>
            <a:pathLst>
              <a:path w="11901" h="4590">
                <a:moveTo>
                  <a:pt x="0" y="4589"/>
                </a:moveTo>
                <a:lnTo>
                  <a:pt x="11900" y="0"/>
                </a:ln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98508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1960" y="1383840"/>
            <a:ext cx="6842160" cy="1282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ivel educacional promedio de nuestra fuerza de trabajo está por debajo de lo que corresponde por nuestro nivel de ingre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iste un fuerte déficit de cobertura en educación terci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03440" y="5997600"/>
            <a:ext cx="5180040" cy="360"/>
          </a:xfrm>
          <a:custGeom>
            <a:avLst/>
            <a:gdLst/>
            <a:ahLst/>
            <a:rect l="l" t="t" r="r" b="b"/>
            <a:pathLst>
              <a:path w="15867" h="1">
                <a:moveTo>
                  <a:pt x="0" y="0"/>
                </a:moveTo>
                <a:lnTo>
                  <a:pt x="1586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8760" y="3332160"/>
            <a:ext cx="1440" cy="2660760"/>
          </a:xfrm>
          <a:custGeom>
            <a:avLst/>
            <a:gdLst/>
            <a:ahLst/>
            <a:rect l="l" t="t" r="r" b="b"/>
            <a:pathLst>
              <a:path w="1" h="8143">
                <a:moveTo>
                  <a:pt x="0" y="81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7520" y="5510160"/>
            <a:ext cx="32364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5840" y="5075280"/>
            <a:ext cx="32364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63920" y="5380200"/>
            <a:ext cx="3254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307120"/>
            <a:ext cx="32400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5380200"/>
            <a:ext cx="323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52960" y="5248440"/>
            <a:ext cx="324000" cy="74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501660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397188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522680"/>
            <a:ext cx="32364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1200" y="465444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75240" y="4262400"/>
            <a:ext cx="32400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334040"/>
            <a:ext cx="323640" cy="165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2200" y="2695680"/>
            <a:ext cx="5546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rcentaje de matrícula en educación tercia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74720" y="3379680"/>
            <a:ext cx="1130400" cy="309600"/>
            <a:chOff x="1674720" y="3379680"/>
            <a:chExt cx="1130400" cy="309600"/>
          </a:xfrm>
        </p:grpSpPr>
        <p:sp>
          <p:nvSpPr>
            <p:cNvPr id="274" name=""/>
            <p:cNvSpPr/>
            <p:nvPr/>
          </p:nvSpPr>
          <p:spPr>
            <a:xfrm>
              <a:off x="1907280" y="3382200"/>
              <a:ext cx="290520" cy="136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5560" y="3379680"/>
              <a:ext cx="290520" cy="136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4720" y="3501360"/>
              <a:ext cx="1130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991  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60600" y="6072120"/>
            <a:ext cx="522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           Corea        Estonia        Irlanda       Letonia      Lituan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4960" y="550080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8840" y="5035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3000" y="51116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06640" y="39877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38956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4549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53402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3160" y="467352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8520" y="539748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1880" y="429264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07240" y="529272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9960" y="43783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98720" y="3219480"/>
            <a:ext cx="73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604800"/>
            <a:ext cx="6156360" cy="657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¿Está preparado Chile para este desafío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4320" y="1432080"/>
            <a:ext cx="6783480" cy="122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ño  2007 Chile ocupó el lugar 26 en el ranking de competitividad global del Foro Económico Mund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n embargo, urge superar algunas debilidades que afectan con especial fuerza a la innov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68560"/>
            <a:ext cx="38268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121280"/>
            <a:ext cx="1257480" cy="215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373640"/>
            <a:ext cx="132084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626000"/>
            <a:ext cx="1576440" cy="2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9800"/>
            <a:ext cx="18288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130720"/>
            <a:ext cx="18414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383080"/>
            <a:ext cx="203184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635800"/>
            <a:ext cx="2095560" cy="21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5888160"/>
            <a:ext cx="2946240" cy="217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6154560"/>
            <a:ext cx="3441600" cy="1800"/>
          </a:xfrm>
          <a:custGeom>
            <a:avLst/>
            <a:gdLst/>
            <a:ahLst/>
            <a:rect l="l" t="t" r="r" b="b"/>
            <a:pathLst>
              <a:path w="10540" h="1">
                <a:moveTo>
                  <a:pt x="0" y="0"/>
                </a:moveTo>
                <a:lnTo>
                  <a:pt x="10539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678120"/>
            <a:ext cx="1440" cy="2476440"/>
          </a:xfrm>
          <a:custGeom>
            <a:avLst/>
            <a:gdLst/>
            <a:ahLst/>
            <a:rect l="l" t="t" r="r" b="b"/>
            <a:pathLst>
              <a:path w="1" h="7584">
                <a:moveTo>
                  <a:pt x="0" y="758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5000" y="6111720"/>
            <a:ext cx="82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n el rank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61628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4320" y="6162840"/>
            <a:ext cx="29232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7840" y="3824280"/>
            <a:ext cx="2203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ficiencia de los mercad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711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fisticación de nego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reparación tecnológ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. Superior y Capacit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alud y Ed. Primari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44600" y="3857760"/>
            <a:ext cx="24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0280" y="41162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01040" y="4370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3000" y="4624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20880" y="48798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3680" y="51260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03400" y="5378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440" y="5632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7800" y="58863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90760" y="2814480"/>
            <a:ext cx="6105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sempeño de Chile en el ranking de Competitividad Glob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l Foro Económico Mundial (WEF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61600" y="3449520"/>
            <a:ext cx="6123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32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Fallas de merc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Falta de aprobiabilidad exclusiva del esfuer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Dificultades en el acceso a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nciamiento. “Una idea no sirve d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rantí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Las tasas de fracaso, propias de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o de ensayo y error, suponen u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iesgo demasiado alto para la inversió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vad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 consecu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La I+D en los países emergentes se da en niveles muy inferiores al socialmente dese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El Estado debe subsidiar si quiere obtener niveles de I+D que favorezcan un desarrollo más acel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El debate entre la neutralidad y l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23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d320"/>
                </a:solidFill>
                <a:latin typeface="Arial"/>
              </a:rPr>
              <a:t>Competitividad en Clusters</a:t>
            </a:r>
            <a:br>
              <a:rPr sz="2500"/>
            </a:br>
            <a:r>
              <a:rPr b="1" lang="en-GB" sz="2500" spc="-1" strike="noStrike">
                <a:solidFill>
                  <a:srgbClr val="ffd320"/>
                </a:solidFill>
                <a:latin typeface="Tahoma"/>
              </a:rPr>
              <a:t>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0" t="8606" r="0" b="0"/>
          <a:stretch/>
        </p:blipFill>
        <p:spPr>
          <a:xfrm>
            <a:off x="0" y="138096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976400"/>
            <a:ext cx="8232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ncular los mundos del conocimiento y del emprendimiento y estimular la investigación aplic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íticas públicas específ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eficios tributarios a la I +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dos concurs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orcios tecnológicos (empresas, universidade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ecuada protección de la propiedad intele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esafío cultur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45003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lerancia sistémica a la falla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adie innova a la primera.Revisar leyes de quiebra, evaluación de riesgo de crédito, sistemas de financiamiento. Estimular la falla inteligente y pedag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versión en Investig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no es gratis ni espontá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080" y="1600200"/>
            <a:ext cx="4016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Gasto en I + D como porcentaje del P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OECD: 2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Israel: 4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Chile: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Brasil: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Finlandia: 3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Inversión en I + D, ¿lujo o necesidad del desarrol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 innovación en América Latina requi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diciones transversales básic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ilidad institucional que ofrezca horizontes de planificación de largo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raestructuras físicas e instiu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pital hum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co: no es posible innovar y ser buenos en t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 desafío de la selección inteligente (evitar captura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En qué áreas se puede ser líder con un esfuerzo marginal abord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tener políticas transversales o ne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ffd320"/>
                </a:solidFill>
                <a:latin typeface="Tahoma"/>
              </a:rPr>
              <a:t>3.- El nuevo desafío: la innov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iciencia es necesaria: pero no es suficiente: siempre pueden otros igualar nuestros baj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 aumento sostenido de la PTF (país), y de la competitividad empresarial se puede lograr inno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novación empresarial es la transformación de conocimiento en negocio y u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cambio cualitativo en procesos, productos o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innovación siempre y sólo se da a nivel empresarial: el Estado favorece condiciones de ento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46000"/>
            <a:ext cx="9144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Chile necesita seguir creciendo pa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alcanzar el desarroll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820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Un gran desafí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917880"/>
            <a:ext cx="2657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dd0601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12.7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520" y="4624560"/>
            <a:ext cx="2468520" cy="1406520"/>
          </a:xfrm>
          <a:prstGeom prst="cube">
            <a:avLst>
              <a:gd name="adj" fmla="val 19453"/>
            </a:avLst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2960" y="3492360"/>
            <a:ext cx="2600280" cy="2540160"/>
          </a:xfrm>
          <a:prstGeom prst="cube">
            <a:avLst>
              <a:gd name="adj" fmla="val 13990"/>
            </a:avLst>
          </a:prstGeom>
          <a:solidFill>
            <a:srgbClr val="f6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4892760"/>
            <a:ext cx="1958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Malas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1.91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e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3.87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rgentin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4.838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itua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5.4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7.80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2014560"/>
            <a:ext cx="2600280" cy="4021200"/>
          </a:xfrm>
          <a:prstGeom prst="cube">
            <a:avLst>
              <a:gd name="adj" fmla="val 13990"/>
            </a:avLst>
          </a:prstGeom>
          <a:solidFill>
            <a:srgbClr val="fef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6075360"/>
            <a:ext cx="449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fras de PIB per cápita en dólares ppp. FMI, sep. 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240" y="4680000"/>
            <a:ext cx="2346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ore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1.88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love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3.15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Nva. Ze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5.65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pañ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7.54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Taiwán 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24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ingapur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7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2544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ran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0.150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ue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26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Reino Unido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58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ustral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12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in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82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Hong Kong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396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anadá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77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E. UU.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43.236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9360" y="4941720"/>
            <a:ext cx="6891480" cy="1225800"/>
          </a:xfrm>
          <a:prstGeom prst="rect">
            <a:avLst/>
          </a:prstGeom>
          <a:gradFill rotWithShape="0">
            <a:gsLst>
              <a:gs pos="0">
                <a:srgbClr val="c9e4f7"/>
              </a:gs>
              <a:gs pos="50000">
                <a:srgbClr val="ffffff"/>
              </a:gs>
              <a:gs pos="100000">
                <a:srgbClr val="c9e4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8160" y="693360"/>
            <a:ext cx="705636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o hemos hecho bien…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1160" y="1477800"/>
            <a:ext cx="6311880" cy="16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tre 1988 y 2004, Chile prácticamente duplicó su ingreso per cáp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solidación de reformas estructu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conomía abierta con buen desempeño del mercado y las 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0" y="3301920"/>
            <a:ext cx="644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o no es sufic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774960"/>
            <a:ext cx="663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414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anzar el desarrollo requiere de un esfuerzo de crecimiento más prolongado en el tie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950000"/>
            <a:ext cx="6588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lver a duplica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stro ingreso per cápita en los próximos 15 años es una meta alcanzab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8200" y="4276800"/>
            <a:ext cx="1488960" cy="588960"/>
          </a:xfrm>
          <a:custGeom>
            <a:avLst/>
            <a:gdLst/>
            <a:ahLst/>
            <a:rect l="l" t="t" r="r" b="b"/>
            <a:pathLst>
              <a:path w="4560" h="1804">
                <a:moveTo>
                  <a:pt x="0" y="0"/>
                </a:moveTo>
                <a:lnTo>
                  <a:pt x="4559" y="180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5320" y="4869000"/>
            <a:ext cx="6081840" cy="1440"/>
          </a:xfrm>
          <a:custGeom>
            <a:avLst/>
            <a:gdLst/>
            <a:ahLst/>
            <a:rect l="l" t="t" r="r" b="b"/>
            <a:pathLst>
              <a:path w="18624" h="1">
                <a:moveTo>
                  <a:pt x="0" y="0"/>
                </a:moveTo>
                <a:lnTo>
                  <a:pt x="1862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712440"/>
            <a:ext cx="624672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ero muy exigente vista nuestra histori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4880" y="1743120"/>
            <a:ext cx="6306840" cy="3916080"/>
            <a:chOff x="1604880" y="1743120"/>
            <a:chExt cx="6306840" cy="3916080"/>
          </a:xfrm>
        </p:grpSpPr>
        <p:sp>
          <p:nvSpPr>
            <p:cNvPr id="113" name=""/>
            <p:cNvSpPr/>
            <p:nvPr/>
          </p:nvSpPr>
          <p:spPr>
            <a:xfrm>
              <a:off x="6197760" y="5134680"/>
              <a:ext cx="171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5134680"/>
              <a:ext cx="10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24720" y="5134680"/>
              <a:ext cx="12063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4880" y="5134680"/>
              <a:ext cx="23198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5.781 a 11.5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7760" y="4609440"/>
              <a:ext cx="1713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1080" y="4609440"/>
              <a:ext cx="10663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720" y="4609440"/>
              <a:ext cx="1206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4880" y="4609440"/>
              <a:ext cx="231984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2.769 a 5.78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760" y="4087440"/>
              <a:ext cx="17139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31080" y="4087440"/>
              <a:ext cx="10663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720" y="4087440"/>
              <a:ext cx="12063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4880" y="4087440"/>
              <a:ext cx="2319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1.325 a 2.7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7760" y="3563640"/>
              <a:ext cx="171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3563640"/>
              <a:ext cx="1066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4720" y="3563640"/>
              <a:ext cx="120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880" y="3563640"/>
              <a:ext cx="2319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694 a 1.3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7760" y="2515320"/>
              <a:ext cx="17139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s que tardó en duplic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1080" y="2515320"/>
              <a:ext cx="106632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fi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720" y="2515320"/>
              <a:ext cx="12063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ini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4880" y="2515320"/>
              <a:ext cx="23198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B per cápi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$ pp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4880" y="1743120"/>
              <a:ext cx="630576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fícil tarea de duplicar nuestro ingre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4880" y="1743120"/>
              <a:ext cx="630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56581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488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064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4880" y="25153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880" y="3563640"/>
              <a:ext cx="630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2080" y="5738760"/>
            <a:ext cx="467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he World Economy: Historical Statistics”.  A. Maddison,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315800" y="5314680"/>
            <a:ext cx="190440" cy="34920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55560" y="1633680"/>
          <a:ext cx="7688520" cy="52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3440" y="70920"/>
            <a:ext cx="88171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en-GB" sz="2700" spc="-1" strike="noStrike">
                <a:solidFill>
                  <a:srgbClr val="ff0000"/>
                </a:solidFill>
                <a:latin typeface="Tahoma"/>
              </a:rPr>
              <a:t>COMPOSICION DEL CRECIMIENTO DEL PIB EN DEMOCRACIA: INCIDENCIA (DECLINANTE) DE LA PRODUCTIVIDAD TOTAL DE LOS FACTORES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2800" y="4813200"/>
            <a:ext cx="5950080" cy="11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7" y="2181"/>
                </a:moveTo>
                <a:lnTo>
                  <a:pt x="22637" y="2181"/>
                </a:lnTo>
                <a:lnTo>
                  <a:pt x="22637" y="-3544"/>
                </a:lnTo>
                <a:lnTo>
                  <a:pt x="13669" y="-9270"/>
                </a:lnTo>
              </a:path>
            </a:pathLst>
          </a:custGeom>
          <a:gradFill rotWithShape="0">
            <a:gsLst>
              <a:gs pos="0">
                <a:srgbClr val="d1e2f7"/>
              </a:gs>
              <a:gs pos="50000">
                <a:srgbClr val="ffffff"/>
              </a:gs>
              <a:gs pos="100000">
                <a:srgbClr val="d1e2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569880"/>
            <a:ext cx="5156280" cy="9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or ello, </a:t>
            </a:r>
            <a:r>
              <a:rPr b="0" lang="en-GB" sz="2400" spc="-1" strike="noStrike" u="sng">
                <a:solidFill>
                  <a:srgbClr val="e5ffff"/>
                </a:solidFill>
                <a:uFillTx/>
                <a:latin typeface="Tahoma"/>
              </a:rPr>
              <a:t>tenemos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 que revisar</a:t>
            </a:r>
            <a:br>
              <a:rPr sz="2400"/>
            </a:b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nuestra estrategia de desarroll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1464840"/>
            <a:ext cx="7008840" cy="34592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s tendencias marcan el futu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vance insoslayable de la globaliz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uevos mercados para nuestras exportaciones o nuevos bienes de consu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mergencia de nuevos competidores en mercados ya conquista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Mejorar nuestra Productividad Total de los Factor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 calidad del capital hum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conocimiento y la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nnov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883040"/>
            <a:ext cx="5788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ceso mediante el cual cierto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os o proces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iv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desarrollados en base a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uevos conocimient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a la combinación novedosa de conocimiento preexistente, son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idos eficazmente en los mercad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y por lo tanto en la vida soc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1198440"/>
            <a:ext cx="7702560" cy="4534200"/>
            <a:chOff x="539640" y="1198440"/>
            <a:chExt cx="7702560" cy="4534200"/>
          </a:xfrm>
        </p:grpSpPr>
        <p:graphicFrame>
          <p:nvGraphicFramePr>
            <p:cNvPr id="149" name=""/>
            <p:cNvGraphicFramePr/>
            <p:nvPr/>
          </p:nvGraphicFramePr>
          <p:xfrm>
            <a:off x="539640" y="1198440"/>
            <a:ext cx="7702560" cy="4534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1198440"/>
                      <a:ext cx="7702560" cy="45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9640" y="1198440"/>
              <a:ext cx="7702560" cy="45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64120" y="5788080"/>
            <a:ext cx="2313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Barros and Lee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956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Años promedio de escolaridad en edad ad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77800" y="1414440"/>
            <a:ext cx="6880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No es correcto afirmar que los países ricos invierten más en I+D porque son ricos… son ricos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664" t="0" r="0" b="0"/>
          <a:stretch/>
        </p:blipFill>
        <p:spPr>
          <a:xfrm>
            <a:off x="1685880" y="3087720"/>
            <a:ext cx="5570640" cy="1868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92280" y="211788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ff9900"/>
                </a:solidFill>
                <a:latin typeface="Arial"/>
              </a:rPr>
              <a:t>Cómo lo hace Chile en I+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92280" y="3040200"/>
            <a:ext cx="1440" cy="1879560"/>
          </a:xfrm>
          <a:custGeom>
            <a:avLst/>
            <a:gdLst/>
            <a:ahLst/>
            <a:rect l="l" t="t" r="r" b="b"/>
            <a:pathLst>
              <a:path w="1" h="5756">
                <a:moveTo>
                  <a:pt x="0" y="0"/>
                </a:moveTo>
                <a:lnTo>
                  <a:pt x="0" y="575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2280" y="4932360"/>
            <a:ext cx="5789520" cy="1440"/>
          </a:xfrm>
          <a:custGeom>
            <a:avLst/>
            <a:gdLst/>
            <a:ahLst/>
            <a:rect l="l" t="t" r="r" b="b"/>
            <a:pathLst>
              <a:path w="17725" h="1">
                <a:moveTo>
                  <a:pt x="0" y="0"/>
                </a:moveTo>
                <a:lnTo>
                  <a:pt x="1772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3440" y="4970520"/>
            <a:ext cx="5659560" cy="187920"/>
            <a:chOff x="1783440" y="4970520"/>
            <a:chExt cx="5659560" cy="187920"/>
          </a:xfrm>
        </p:grpSpPr>
        <p:sp>
          <p:nvSpPr>
            <p:cNvPr id="162" name=""/>
            <p:cNvSpPr/>
            <p:nvPr/>
          </p:nvSpPr>
          <p:spPr>
            <a:xfrm>
              <a:off x="1783440" y="497052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100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40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74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676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ff99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40480" y="48830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520" y="43862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9520" y="397188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5924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9520" y="320976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4120" y="2684520"/>
            <a:ext cx="6699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% d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Ingre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6960" y="5452920"/>
            <a:ext cx="4448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Chin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Core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Estonia                 Hong Ko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Leto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Lituani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Malas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Tailan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Austral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Finland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Noruega                 Sue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Taiwán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Singapur              Irland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Nva. Zelan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Eslove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Dinamarc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Tendencia prome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8760" y="554508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8760" y="569592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5480" y="5545080"/>
            <a:ext cx="7596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5480" y="5695920"/>
            <a:ext cx="75960" cy="763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7600" y="5545080"/>
            <a:ext cx="75960" cy="763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600" y="5695920"/>
            <a:ext cx="75960" cy="763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00240" y="5543640"/>
            <a:ext cx="76320" cy="759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5695920"/>
            <a:ext cx="76320" cy="763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7120" y="6197760"/>
            <a:ext cx="527040" cy="1440"/>
          </a:xfrm>
          <a:custGeom>
            <a:avLst/>
            <a:gdLst/>
            <a:ahLst/>
            <a:rect l="l" t="t" r="r" b="b"/>
            <a:pathLst>
              <a:path w="1615" h="1">
                <a:moveTo>
                  <a:pt x="0" y="0"/>
                </a:moveTo>
                <a:lnTo>
                  <a:pt x="1614" y="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38760" y="5851440"/>
            <a:ext cx="76320" cy="76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00240" y="585144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800" y="5851440"/>
            <a:ext cx="76320" cy="763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6920" y="5851440"/>
            <a:ext cx="76320" cy="76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6920" y="5999040"/>
            <a:ext cx="76320" cy="76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5999040"/>
            <a:ext cx="76320" cy="76320"/>
          </a:xfrm>
          <a:prstGeom prst="ellips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5800" y="5999040"/>
            <a:ext cx="76320" cy="7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3480" y="5999040"/>
            <a:ext cx="76320" cy="76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0240" y="6161040"/>
            <a:ext cx="76320" cy="7632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5800" y="6161040"/>
            <a:ext cx="76320" cy="76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6480" y="3357720"/>
            <a:ext cx="571680" cy="25560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128055"/>
              <a:gd name="adj5" fmla="val 453675"/>
              <a:gd name="adj6" fmla="val 12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936880" y="5672160"/>
            <a:ext cx="43959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85720" y="1428840"/>
            <a:ext cx="6699240" cy="712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Trebuchet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ólo es posible dar un gran salto en educación terciaria (técnica y universitaria) si se eleva la calidad de la edu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3301" t="15386" r="3941" b="47803"/>
          <a:stretch/>
        </p:blipFill>
        <p:spPr>
          <a:xfrm>
            <a:off x="1604880" y="3102120"/>
            <a:ext cx="5570640" cy="18158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5440" y="599760"/>
            <a:ext cx="596736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 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6073920"/>
            <a:ext cx="6546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rechas similares de desempeño se observan en las pruebas de Matemáticas y Cienci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69960" y="2305080"/>
            <a:ext cx="368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sultados Prueba PISA y PIB per cápi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Comprensión Lectora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4884840"/>
            <a:ext cx="5562360" cy="1440"/>
          </a:xfrm>
          <a:custGeom>
            <a:avLst/>
            <a:gdLst/>
            <a:ahLst/>
            <a:rect l="l" t="t" r="r" b="b"/>
            <a:pathLst>
              <a:path w="17034" h="1">
                <a:moveTo>
                  <a:pt x="0" y="0"/>
                </a:moveTo>
                <a:lnTo>
                  <a:pt x="1703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3440" y="3081240"/>
            <a:ext cx="1440" cy="1805040"/>
          </a:xfrm>
          <a:custGeom>
            <a:avLst/>
            <a:gdLst/>
            <a:ahLst/>
            <a:rect l="l" t="t" r="r" b="b"/>
            <a:pathLst>
              <a:path w="1" h="5524">
                <a:moveTo>
                  <a:pt x="0" y="0"/>
                </a:moveTo>
                <a:lnTo>
                  <a:pt x="0" y="552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80800" y="2835360"/>
            <a:ext cx="522360" cy="2066040"/>
            <a:chOff x="1180800" y="2835360"/>
            <a:chExt cx="522360" cy="2066040"/>
          </a:xfrm>
        </p:grpSpPr>
        <p:sp>
          <p:nvSpPr>
            <p:cNvPr id="203" name=""/>
            <p:cNvSpPr/>
            <p:nvPr/>
          </p:nvSpPr>
          <p:spPr>
            <a:xfrm>
              <a:off x="1276200" y="47134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6200" y="419832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366444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6200" y="31186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283536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Pu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94440" y="4923000"/>
            <a:ext cx="5632200" cy="187920"/>
            <a:chOff x="1594440" y="4923000"/>
            <a:chExt cx="5632200" cy="187920"/>
          </a:xfrm>
        </p:grpSpPr>
        <p:sp>
          <p:nvSpPr>
            <p:cNvPr id="209" name=""/>
            <p:cNvSpPr/>
            <p:nvPr/>
          </p:nvSpPr>
          <p:spPr>
            <a:xfrm>
              <a:off x="1594440" y="492300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308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576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88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04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87560" y="4440240"/>
            <a:ext cx="3286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3840" y="47912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325760"/>
            <a:ext cx="62208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20680"/>
              <a:gd name="adj6" fmla="val -83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3880" y="463068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5800" y="5329080"/>
            <a:ext cx="4484160" cy="468000"/>
            <a:chOff x="3025800" y="5329080"/>
            <a:chExt cx="4484160" cy="468000"/>
          </a:xfrm>
        </p:grpSpPr>
        <p:sp>
          <p:nvSpPr>
            <p:cNvPr id="219" name=""/>
            <p:cNvSpPr/>
            <p:nvPr/>
          </p:nvSpPr>
          <p:spPr>
            <a:xfrm>
              <a:off x="3064320" y="5329080"/>
              <a:ext cx="44456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Austral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Dinamar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eton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va. Zeland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Suec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Tailand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Tendencia promed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7560" y="542520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7560" y="5574600"/>
              <a:ext cx="7632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3040" y="5423760"/>
              <a:ext cx="7632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3040" y="556884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8200" y="5423760"/>
              <a:ext cx="76320" cy="759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8200" y="5574600"/>
              <a:ext cx="76320" cy="759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25800" y="5416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556884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5800" y="5721120"/>
              <a:ext cx="76320" cy="75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3760" y="5767200"/>
              <a:ext cx="52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41:37Z</dcterms:created>
  <dc:creator>Preferred Customer</dc:creator>
  <dc:description/>
  <dc:language>en-US</dc:language>
  <cp:lastModifiedBy>Del Rio &amp; Morgan Ltda.</cp:lastModifiedBy>
  <dcterms:modified xsi:type="dcterms:W3CDTF">2009-11-19T19:35:18Z</dcterms:modified>
  <cp:revision>3</cp:revision>
  <dc:subject/>
  <dc:title>POLITICAS DE FOMENTO E INNOVACION</dc:title>
</cp:coreProperties>
</file>