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A492-B7EA-4992-BD4D-6FD7514CC6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068-7F66-4AD2-9670-81D5E98327E8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830-8138-4645-A784-8BAC7DB72E21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919D-4855-4379-9D7A-2A5F86127992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972-6E3E-45B1-AC4F-84A625BAAFD4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2F0C-A33D-452F-9E91-2E09964095F3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EAED-615C-4F8A-A6DA-0FC786092084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192-60DE-45CE-853D-91752E46005E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F44-EDEB-4C21-9860-EB1575DC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513-60EC-4F81-9936-B4EDFCED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7F4-CDDB-4D64-8671-6B4ACE14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089-D329-4094-98F2-543E9DAF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2BCA-66E7-4F2B-B355-FF4837ED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7CA1-9E4D-49CE-B45B-38B5B41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FB36-129B-4100-B8CD-ED4AF15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2FF-F6B4-4E00-AA43-77085BA0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9386-9C09-4AA9-9D5C-F34D8174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C4E7-996D-48A6-BE23-992E0736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CBD1-D274-48F6-ACA9-8D74DD7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823-CDA0-4641-B338-A3FB2C00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00B1-8B16-430D-8682-037EE130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9FB-52D4-4CAB-BE26-84DAD10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52D9-E549-4BEA-BA14-9EC57BD2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E7B7-02B2-4150-9B00-4122B459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D802-186E-45FB-9D5D-DCCA5C31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B87-B851-464C-893C-0059750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D30-0AF6-464C-8ACD-0914F15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B3B-2620-495D-8529-EB26EB78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B5B-7FD0-4125-A4FE-393807EC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DA0-5469-498B-91EF-510D466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7B7-2C94-474D-8561-E9021156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50C-A6D2-4615-B2C6-263DA97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9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388-76FE-4628-9EBD-5E44DD70D6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1143000" y="1704960"/>
            <a:ext cx="6697800" cy="1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62240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206E-E90B-4B1C-8DE6-48419B7F8745}" type="slidenum">
              <a:rPr b="0" lang="de-DE" sz="1400" spc="-1" strike="noStrike">
                <a:solidFill>
                  <a:srgbClr val="62240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FLUJO DE CAJA</a:t>
            </a: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Fundamentos Contab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Juan Carlos Sáez C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IN 69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mpuesto a la rent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¿Qué es la renta?: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 de trabajo y financiamien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VAN, Tasa de descuento y TI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Índ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Flujo de caja pu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: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aquellas que si bien sus niveles pueden cambiar en el tiempo se miden en su valor de estado: inventarios, acreencias, deudas, saldo de caja, depreciación acumulada, capital propio. $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van al Estado de Resultados y al Flujo de Caja, pero tambi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se reflejan solo en los balances, a 8 columnas o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Estado de Resultado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 a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nvers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Depreciac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Corrección monetaria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costo negativo o positiv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 in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 bruta = Venta neta + IVA y/o otros impuesto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de exportación son sin IV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32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 cos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bruto = Gasto + IVA y/o otros impuesto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Sueldo bruto = sueldo neto + leyes sociales + impuesto a las person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Impuesto al Valor Agregado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¿Qué el Valor Agregado?: es el aumento del valor de los bienes o servicios resultante de la producció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09:10Z</dcterms:created>
  <dc:creator>Juan Carlos Sáez C.</dc:creator>
  <dc:description/>
  <dc:language>en-US</dc:language>
  <cp:lastModifiedBy>toshiba</cp:lastModifiedBy>
  <dcterms:modified xsi:type="dcterms:W3CDTF">2009-10-23T12:29:33Z</dcterms:modified>
  <cp:revision>24</cp:revision>
  <dc:subject/>
  <dc:title>FLUJO DE CAJA</dc:title>
</cp:coreProperties>
</file>