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9045-6548-4482-A760-A90F87171BF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AA56-41C7-4576-91CA-15792CF9DD62}" type="slidenum">
              <a:rPr b="0" lang="es-ES_tradnl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262A-A550-4497-B9B1-7F30B060313E}" type="slidenum">
              <a:rPr b="0" lang="es-ES_tradnl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872B-3F4A-4B7E-83E6-2A7EBDDEBF81}" type="slidenum">
              <a:rPr b="0" lang="es-ES_tradnl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F496-132E-45B2-996F-933F4D9ADC1D}" type="slidenum">
              <a:rPr b="0" lang="es-ES_tradnl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A90B-1BCD-4D5A-BC14-8357DD81A2B6}" type="slidenum">
              <a:rPr b="0" lang="es-ES_tradnl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A70F-FF1A-4C65-8434-5CDB5C7ED0EE}" type="slidenum">
              <a:rPr b="0" lang="es-ES_tradnl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50B1-F9A0-4288-B3F1-B111034F291B}" type="slidenum">
              <a:rPr b="0" lang="es-ES_tradnl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2E70-C50F-49D3-8DFF-8F8A2D614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CF6A-F966-4612-A13B-B56A054A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350A-ABEF-45E1-A926-AE6256BFD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9124-061C-409B-A850-E741BD52F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FC42-1E27-442D-9D5E-FBBED6D5C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86E4-D85E-4D81-8C9C-FDF4DE84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DA17-402D-4569-9209-09C04DC9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FDF7-21E8-47BA-B9AF-6DAD14F1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53A9-F203-4C36-9772-8A41214F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13C6-41B8-4F91-8B86-B07BDBF8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3E90-ECDF-4B01-8224-21FAC45F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7CAD-D6EA-48C2-85AB-761C6634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A655-CFE6-405D-9AA4-39E91A07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0726-7DF3-4DC7-9D64-1CBDDC30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D62D-5FAB-470A-9741-F15965FD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30D9-ECC8-4BA2-B68A-FF40EAA5D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6196-FCE6-47C2-8FF7-E51490218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B2BA-9099-4BE3-A8A8-3A5AB057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818D-B589-4F5D-8FB8-BBDA132D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DF5A-0F76-46D8-8501-9C3AE0A4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29C6-B27B-45BB-8751-24D7A612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0344-131D-4A77-A168-B05D11E9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5815-74DB-4A7E-B4CE-0A322257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F2B3-CD26-4D96-A23D-79205CBC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49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49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49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5576-9174-43EE-8A79-947C3E5686F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1143000" y="1704960"/>
            <a:ext cx="6697800" cy="12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62240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5579-37BC-4854-911A-E85A77D9CF7F}" type="slidenum">
              <a:rPr b="0" lang="de-DE" sz="1400" spc="-1" strike="noStrike">
                <a:solidFill>
                  <a:srgbClr val="62240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20570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22405"/>
                </a:solidFill>
                <a:latin typeface="Arial"/>
              </a:rPr>
              <a:t>FLUJO DE CAJA</a:t>
            </a:r>
            <a:r>
              <a:rPr b="1" lang="es-ES_tradnl" sz="4400" spc="-1" strike="noStrike">
                <a:solidFill>
                  <a:srgbClr val="622405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523520" y="33523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22405"/>
                </a:solidFill>
                <a:latin typeface="Arial"/>
              </a:rPr>
              <a:t>Fundamentos Contable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22405"/>
                </a:solidFill>
                <a:latin typeface="Arial"/>
              </a:rPr>
              <a:t>Juan Carlos Sáez C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22405"/>
                </a:solidFill>
                <a:latin typeface="Arial"/>
              </a:rPr>
              <a:t>IN 69B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12164"/>
                </a:solidFill>
                <a:latin typeface="Arial"/>
              </a:rPr>
              <a:t>Impuestos directos que afectan a las empresas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Impuesto a la renta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¿Qué es la renta?: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1195560" y="3429000"/>
            <a:ext cx="67514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7"/>
          <p:cNvGraphicFramePr/>
          <p:nvPr/>
        </p:nvGraphicFramePr>
        <p:xfrm>
          <a:off x="2093760" y="152280"/>
          <a:ext cx="4956480" cy="655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3760" y="152280"/>
                    <a:ext cx="4956480" cy="655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12164"/>
                </a:solidFill>
                <a:latin typeface="Arial"/>
              </a:rPr>
              <a:t>Capital, financiamiento y tasa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Capital de trabajo y financiamiento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VAN, Tasa de descuento y TIR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7332840" y="195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12164"/>
                </a:solidFill>
                <a:latin typeface="Arial"/>
              </a:rPr>
              <a:t>Índ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Distinciones fundamentale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Impuestos directos que afectan a las empresa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Flujo de caja puro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Capital, financiamiento y tasa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12164"/>
                </a:solidFill>
                <a:latin typeface="Arial"/>
              </a:rPr>
              <a:t>Distinciones fundamental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Variables de flujo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: aquellas que se relacionan con el tiempo: ingresos, egresos, gastos. $/t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Variables “stock”: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aquellas que si bien sus niveles pueden cambiar en el tiempo se miden en su valor de estado: inventarios, acreencias, deudas, saldo de caja, depreciación acumulada, capital propio. $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12164"/>
                </a:solidFill>
                <a:latin typeface="Arial"/>
              </a:rPr>
              <a:t>Distinciones fundamental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Las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variables de flujo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van al Estado de Resultados y al Flujo de Caja, pero también se reflejan en el Balance a 8 columnas o tributario. No se reflejan directamente en el Balance Clasificado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Las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variables “stock”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se reflejan solo en los balances, a 8 columnas o clasificado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12164"/>
                </a:solidFill>
                <a:latin typeface="Arial"/>
              </a:rPr>
              <a:t>Estado de Resultado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graphicFrame>
        <p:nvGraphicFramePr>
          <p:cNvPr id="102" name="Object 6"/>
          <p:cNvGraphicFramePr/>
          <p:nvPr/>
        </p:nvGraphicFramePr>
        <p:xfrm>
          <a:off x="2813040" y="1600200"/>
          <a:ext cx="3516480" cy="500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3040" y="1600200"/>
                    <a:ext cx="351648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10"/>
          <p:cNvGraphicFramePr/>
          <p:nvPr/>
        </p:nvGraphicFramePr>
        <p:xfrm>
          <a:off x="304920" y="291960"/>
          <a:ext cx="8534160" cy="627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91960"/>
                    <a:ext cx="8534160" cy="627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12164"/>
                </a:solidFill>
                <a:latin typeface="Arial"/>
              </a:rPr>
              <a:t>Más distinciones fundamentales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Gasto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NO ES IGUAL a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egreso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Inversión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NO ES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gasto pero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ES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egreso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Depreciación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NO ES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egreso pero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ES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gasto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Corrección monetaria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NO ES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egreso pero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ES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costo negativo o positivo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Ventas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NO ES IGUAL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 ingreso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Venta bruta = Venta neta + IVA y/o otros impuesto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Ventas de exportación son sin IVA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12164"/>
                </a:solidFill>
                <a:latin typeface="Arial"/>
              </a:rPr>
              <a:t>Más distinciones fundamentales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Gasto </a:t>
            </a:r>
            <a:r>
              <a:rPr b="1" lang="es-ES_tradnl" sz="3200" spc="-1" strike="noStrike">
                <a:solidFill>
                  <a:srgbClr val="212164"/>
                </a:solidFill>
                <a:latin typeface="Arial"/>
              </a:rPr>
              <a:t>NO ES</a:t>
            </a: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 costo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Gasto bruto = Gasto + IVA y/o otros impuesto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Sueldo bruto = sueldo neto + leyes sociales + impuesto a las persona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12164"/>
                </a:solidFill>
                <a:latin typeface="Arial"/>
              </a:rPr>
              <a:t>Impuestos directos que afectan a las empresas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12164"/>
                </a:solidFill>
                <a:latin typeface="Arial"/>
              </a:rPr>
              <a:t>Impuesto al Valor Agregado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12164"/>
                </a:solidFill>
                <a:latin typeface="Arial"/>
              </a:rPr>
              <a:t>¿Qué el Valor Agregado?: es el aumento del valor de los bienes o servicios resultante de la producción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685800" y="3675240"/>
            <a:ext cx="7772400" cy="18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4:09:10Z</dcterms:created>
  <dc:creator>Juan Carlos Sáez C.</dc:creator>
  <dc:description/>
  <dc:language>en-US</dc:language>
  <cp:lastModifiedBy>toshiba</cp:lastModifiedBy>
  <dcterms:modified xsi:type="dcterms:W3CDTF">2009-10-23T12:29:33Z</dcterms:modified>
  <cp:revision>24</cp:revision>
  <dc:subject/>
  <dc:title>FLUJO DE CAJA</dc:title>
</cp:coreProperties>
</file>