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9E6F-8F9A-45E2-BDBB-341900F13E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4954-1386-44FF-B70A-C042A7BBA676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30AC-F8FE-4CB5-84E5-E83BBAEABDF7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12F7-893E-4EB3-B4ED-415A7772386B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232E-294B-4A04-9E19-95B742168565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AD02-EEEC-4523-A480-2B36D6EFE830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DAE1-AEE5-4A5C-AEE7-0937B8569130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77FA-EEAA-45AC-B328-F4F54BE58880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A77-9D9F-4012-AAD8-D77CE084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86E-AE38-4023-9824-9C3B18FC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074-052C-4598-BA14-058A55F2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BBA-4007-4679-9C12-17195CEC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B57E-7077-4326-BFA6-61D5EA56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5E19-7910-493B-9F00-71605D6D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E8AF-26BC-48B5-84C0-EC207E98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FAE1-CE21-4596-AC53-85A5B7A4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FC4F-ABEA-4A46-8399-26003581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2F4A-EE20-4022-B838-E13787A0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9C29-3D5D-4272-9B02-D45F22CD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F2C-5A1E-441F-9F6D-73D6AD54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5F41-883C-45DD-B803-2574D41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A20C-8CF2-4B7F-BEED-4CEC53C5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ED29-C16C-4F79-A423-EE02E070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21E9-ACEF-47B4-BEAC-EC9DC449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C929-8067-4D33-A249-B2468446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C7F-AE24-4300-B642-3DCF00CE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AC3-D372-41C5-A19E-EB0ADAA5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9D2-F7F8-4B0D-96D8-CA242569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4D5-C8EA-4A28-B0DF-035CBD8E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ADC-B068-46AB-B1BB-3B489EBD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2EC-8C05-4EDD-9112-A4810B8B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DFE-9503-4461-BD5E-3A9BC4AA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9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79FE-B6CE-495E-9D3E-8F3B692C034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1143000" y="1704960"/>
            <a:ext cx="6697800" cy="1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62240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0FD0-D800-464B-85FD-F88FFFDE458C}" type="slidenum">
              <a:rPr b="0" lang="de-DE" sz="1400" spc="-1" strike="noStrike">
                <a:solidFill>
                  <a:srgbClr val="62240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057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FLUJO DE CAJA</a:t>
            </a: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Fundamentos Contab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Juan Carlos Sáez C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IN 69B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mpuesto a la rent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¿Qué es la renta?: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195560" y="3429000"/>
            <a:ext cx="6751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7"/>
          <p:cNvGraphicFramePr/>
          <p:nvPr/>
        </p:nvGraphicFramePr>
        <p:xfrm>
          <a:off x="2093760" y="152280"/>
          <a:ext cx="4956480" cy="65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52280"/>
                    <a:ext cx="49564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 de trabajo y financiamien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VAN, Tasa de descuento y TI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332840" y="195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Índ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Flujo de caja pur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: aquellas que se relacionan con el tiempo: ingresos, egresos, gastos. $/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: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aquellas que si bien sus niveles pueden cambiar en el tiempo se miden en su valor de estado: inventarios, acreencias, deudas, saldo de caja, depreciación acumulada, capital propio. $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van al Estado de Resultados y al Flujo de Caja, pero también se reflejan en el Balance a 8 columnas o tributario. No se reflejan directamente en el Balance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se reflejan solo en los balances, a 8 columnas o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Estado de Resultado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2813040" y="1600200"/>
          <a:ext cx="35164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3040" y="1600200"/>
                    <a:ext cx="35164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10"/>
          <p:cNvGraphicFramePr/>
          <p:nvPr/>
        </p:nvGraphicFramePr>
        <p:xfrm>
          <a:off x="304920" y="291960"/>
          <a:ext cx="8534160" cy="627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1960"/>
                    <a:ext cx="85341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 a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nvers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Depreciac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Corrección monetaria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costo negativo o positiv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 in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 bruta = Venta neta + IVA y/o otros impuesto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de exportación son sin IV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32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 cos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bruto = Gasto + IVA y/o otros impuesto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Sueldo bruto = sueldo neto + leyes sociales + impuesto a las person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Impuesto al Valor Agregado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¿Qué el Valor Agregado?: es el aumento del valor de los bienes o servicios resultante de la producció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5800" y="3675240"/>
            <a:ext cx="7772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09:10Z</dcterms:created>
  <dc:creator>Juan Carlos Sáez C.</dc:creator>
  <dc:description/>
  <dc:language>en-US</dc:language>
  <cp:lastModifiedBy>toshiba</cp:lastModifiedBy>
  <dcterms:modified xsi:type="dcterms:W3CDTF">2009-10-23T12:29:33Z</dcterms:modified>
  <cp:revision>24</cp:revision>
  <dc:subject/>
  <dc:title>FLUJO DE CAJA</dc:title>
</cp:coreProperties>
</file>