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F554E-298F-49C7-B90A-32E60850C93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5F6C-2377-486A-B59F-24D20014BBF6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F3CB-B86E-4BC9-8107-FE61DF607E07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070-8278-4030-81FC-0BF1C0E5FFA8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8480-B718-4A96-AB08-4EC4026EECCB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9074-651A-419F-8A38-629C9C829E57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A78F-84AE-4C2F-99C7-6AAC3580418D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DED6-47B5-42D2-BCE3-0C873287A07A}" type="slidenum">
              <a:rPr b="0" lang="es-ES_tradnl" sz="1200" spc="-1" strike="noStrike">
                <a:solidFill>
                  <a:srgbClr val="212164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82F-D514-4AB5-B681-55F4B6F7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5E24-60C7-414C-9180-BB61378B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8E58-38F3-4000-96B0-EFE54167B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1AC-8783-4194-9664-A5E3869B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8B1D9-5E74-4585-8EDB-1F8EEBBEC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DC62-E663-4348-8AB3-22324CEE5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0600-4A9B-4FE6-953E-1FAFB450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C73B-B4CD-470B-8181-5E98BF63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F6C7E-E107-4A15-B0AB-67EBECBC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50C3-C3EC-4E97-8DC6-6708B13D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453F-8D06-46C6-B6C1-FF9A0A8BB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332F-6E16-4439-84FE-D99D90E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AF55-AACB-412B-92A3-23E6307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FB664-47B0-443E-8056-356A8FC1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082-D831-4B48-852C-0BACF443C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61622-E3E0-49A9-9D69-B0464AD2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2BDE5-8539-43D7-8CDE-5875EF9E2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E24-CDFD-41A6-A144-B080C1242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4BCD-51C9-43D0-A3EB-B42359E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C10F-0C77-433B-A1C8-F070F7FC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7249-843E-4796-B8DD-275EF50D8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0502-CB54-4F2A-A5CC-72E4A0F1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D4A-AA94-49CA-8C22-49AFD8A6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4F64-AD82-4511-A8F5-6E8C9DE0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49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149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EFB0-3CE9-485F-8540-7D53DDC46AB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8" descr=""/>
          <p:cNvPicPr/>
          <p:nvPr/>
        </p:nvPicPr>
        <p:blipFill>
          <a:blip r:embed="rId3"/>
          <a:stretch/>
        </p:blipFill>
        <p:spPr>
          <a:xfrm>
            <a:off x="1143000" y="1704960"/>
            <a:ext cx="6697800" cy="123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de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459400" cy="13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12164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1216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212164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2164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62240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F33A-8EAA-4E6A-94EF-49406F556DD1}" type="slidenum">
              <a:rPr b="0" lang="de-DE" sz="1400" spc="-1" strike="noStrike">
                <a:solidFill>
                  <a:srgbClr val="62240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2057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FLUJO DE CAJA</a:t>
            </a:r>
            <a:r>
              <a:rPr b="1" lang="es-ES_tradnl" sz="4400" spc="-1" strike="noStrike">
                <a:solidFill>
                  <a:srgbClr val="622405"/>
                </a:solidFill>
                <a:latin typeface="Arial"/>
              </a:rPr>
              <a:t>	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3520" y="33523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Fundamentos Contab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Juan Carlos Sáez C.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622405"/>
                </a:solidFill>
                <a:latin typeface="Arial"/>
              </a:rPr>
              <a:t>IN 69B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mpuesto a la rent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¿Qué es la renta?: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1195560" y="3429000"/>
            <a:ext cx="67514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Object 7"/>
          <p:cNvGraphicFramePr/>
          <p:nvPr/>
        </p:nvGraphicFramePr>
        <p:xfrm>
          <a:off x="2093760" y="152280"/>
          <a:ext cx="4956480" cy="6554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3760" y="152280"/>
                    <a:ext cx="4956480" cy="65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 de trabajo y financiamien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VAN, Tasa de descuento y TIR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7332840" y="195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Índice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Flujo de caja pur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Capital, financiamiento y tas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: aquellas que se relacionan con el tiempo: ingresos, egresos, gastos. $/t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: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aquellas que si bien sus niveles pueden cambiar en el tiempo se miden en su valor de estado: inventarios, acreencias, deudas, saldo de caja, depreciación acumulada, capital propio. $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Distinciones fundamentale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de flujo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van al Estado de Resultados y al Flujo de Caja, pero también se reflejan en el Balance a 8 columnas o tributario. No se reflejan directamente en el Balance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L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variables “stock”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se reflejan solo en los balances, a 8 columnas o clasificado.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12164"/>
                </a:solidFill>
                <a:latin typeface="Arial"/>
              </a:rPr>
              <a:t>Estado de Resultados</a:t>
            </a:r>
            <a:endParaRPr b="1" lang="en-US" sz="4400" spc="-1" strike="noStrike">
              <a:solidFill>
                <a:srgbClr val="212164"/>
              </a:solidFill>
              <a:latin typeface="Arial"/>
            </a:endParaRPr>
          </a:p>
        </p:txBody>
      </p:sp>
      <p:graphicFrame>
        <p:nvGraphicFramePr>
          <p:cNvPr id="102" name="Object 6"/>
          <p:cNvGraphicFramePr/>
          <p:nvPr/>
        </p:nvGraphicFramePr>
        <p:xfrm>
          <a:off x="2813040" y="1600200"/>
          <a:ext cx="3516480" cy="5000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3040" y="1600200"/>
                    <a:ext cx="3516480" cy="50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10"/>
          <p:cNvGraphicFramePr/>
          <p:nvPr/>
        </p:nvGraphicFramePr>
        <p:xfrm>
          <a:off x="304920" y="291960"/>
          <a:ext cx="8534160" cy="6274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1960"/>
                    <a:ext cx="8534160" cy="627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 a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Invers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Depreciación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gast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Corrección monetaria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egreso pero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ES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costo negativo o positiv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</a:t>
            </a:r>
            <a:r>
              <a:rPr b="1" lang="es-ES_tradnl" sz="2800" spc="-1" strike="noStrike">
                <a:solidFill>
                  <a:srgbClr val="212164"/>
                </a:solidFill>
                <a:latin typeface="Arial"/>
              </a:rPr>
              <a:t>NO ES IGUAL</a:t>
            </a: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  ingreso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 bruta = Venta neta + IVA y/o otros impuestos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12164"/>
                </a:solidFill>
                <a:latin typeface="Arial"/>
              </a:rPr>
              <a:t>Ventas de exportación son sin IVA</a:t>
            </a:r>
            <a:endParaRPr b="0" lang="en-US" sz="28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Más distinciones fundamentale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</a:t>
            </a:r>
            <a:r>
              <a:rPr b="1" lang="es-ES_tradnl" sz="3200" spc="-1" strike="noStrike">
                <a:solidFill>
                  <a:srgbClr val="212164"/>
                </a:solidFill>
                <a:latin typeface="Arial"/>
              </a:rPr>
              <a:t>NO ES</a:t>
            </a: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 costo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Gasto bruto = Gasto + IVA y/o otros impuesto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12164"/>
                </a:solidFill>
                <a:latin typeface="Arial"/>
              </a:rPr>
              <a:t>Sueldo bruto = sueldo neto + leyes sociales + impuesto a las personas</a:t>
            </a: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121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12164"/>
                </a:solidFill>
                <a:latin typeface="Arial"/>
              </a:rPr>
              <a:t>Impuestos directos que afectan a las empresas</a:t>
            </a:r>
            <a:endParaRPr b="1" lang="en-US" sz="3600" spc="-1" strike="noStrike">
              <a:solidFill>
                <a:srgbClr val="212164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Impuesto al Valor Agregado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21216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12164"/>
                </a:solidFill>
                <a:latin typeface="Arial"/>
              </a:rPr>
              <a:t>¿Qué el Valor Agregado?: es el aumento del valor de los bienes o servicios resultante de la producción.</a:t>
            </a: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12164"/>
              </a:solidFill>
              <a:latin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685800" y="3675240"/>
            <a:ext cx="7772400" cy="186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14:09:10Z</dcterms:created>
  <dc:creator>Juan Carlos Sáez C.</dc:creator>
  <dc:description/>
  <dc:language>en-US</dc:language>
  <cp:lastModifiedBy>toshiba</cp:lastModifiedBy>
  <dcterms:modified xsi:type="dcterms:W3CDTF">2009-10-23T12:29:33Z</dcterms:modified>
  <cp:revision>24</cp:revision>
  <dc:subject/>
  <dc:title>FLUJO DE CAJA</dc:title>
</cp:coreProperties>
</file>