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1C8-A260-49A7-9463-8C3AEC034D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A75-D322-44F9-B847-BEDC84282DF0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22C-B0CA-462D-9E18-1C08B6AB51C9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CA9C-2C4D-491B-B121-39332B6DC8A8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0F8D-4191-49FC-8667-C4B92B2278C5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7C6-472D-4257-BE89-228308C354D8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7CFD-AD45-4EC5-AC57-793D4CFD588B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5CA-C16C-4FF0-9C55-2C04B5F24E45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4C9-4E94-43E2-B159-97C00DCC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7AF-270D-478A-9621-6EC9DE0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5FC-C10B-40D3-BF4A-8BAD1107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719-5EC4-45FF-A134-D99435DA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7322-0CF9-4D35-9AD3-72323A82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4B0-3469-49C0-930D-8F77818F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048C-59E7-45D4-8F92-9B66789F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8B33-23F8-42D2-AB47-CC0AE11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417F-ED79-454B-9949-E041634E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BDB1-ED92-4EE0-A84E-54432003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51E0-64A3-4EE8-818C-BB656C2C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41B-2DD6-4B81-A94A-B6860E94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B0A5-984E-4A9C-B4DE-C6C438E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4D9B-010F-4B59-851E-11E1140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0BA-0D4C-4163-A07B-A0549FC1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A1DA-5C77-4248-BCCC-8F005187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C636-C512-408E-B2EA-A203094F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94E-386E-423A-8F54-79790EB2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620-7309-435C-8B61-4CD641AB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704-5F31-439A-A94F-5FFFDF7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B52-90BD-41E6-A363-E3DD5CC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827-FA49-40B0-B47B-40C0436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65D-2E4D-4C59-9B55-DF4E4035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AAD-5007-4CEB-992F-64B96B38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9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ED5F-9E1B-4E72-9531-983E4FF356A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1143000" y="1704960"/>
            <a:ext cx="6697800" cy="1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62240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757-B091-40B3-9034-8FFCCB9B0803}" type="slidenum">
              <a:rPr b="0" lang="de-DE" sz="1400" spc="-1" strike="noStrike">
                <a:solidFill>
                  <a:srgbClr val="62240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FLUJO DE CAJA</a:t>
            </a: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Fundamentos Contab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Juan Carlos Sáez C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IN 69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mpuesto a la rent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¿Qué es la renta?: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 de trabajo y financiamien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VAN, Tasa de descuento y TI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Índ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Flujo de caja pu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: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aquellas que si bien sus niveles pueden cambiar en el tiempo se miden en su valor de estado: inventarios, acreencias, deudas, saldo de caja, depreciación acumulada, capital propio. $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van al Estado de Resultados y al Flujo de Caja, pero tambi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se reflejan solo en los balances, a 8 columnas o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Estado de Resultado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 a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nvers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Depreciac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Corrección monetaria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costo negativo o positiv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 in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 bruta = Venta neta + IVA y/o otros impuesto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de exportación son sin IV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32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 cos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bruto = Gasto + IVA y/o otros impuesto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Sueldo bruto = sueldo neto + leyes sociales + impuesto a las person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Impuesto al Valor Agregado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¿Qué el Valor Agregado?: es el aumento del valor de los bienes o servicios resultante de la producció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09:10Z</dcterms:created>
  <dc:creator>Juan Carlos Sáez C.</dc:creator>
  <dc:description/>
  <dc:language>en-US</dc:language>
  <cp:lastModifiedBy>toshiba</cp:lastModifiedBy>
  <dcterms:modified xsi:type="dcterms:W3CDTF">2009-10-23T12:29:33Z</dcterms:modified>
  <cp:revision>24</cp:revision>
  <dc:subject/>
  <dc:title>FLUJO DE CAJA</dc:title>
</cp:coreProperties>
</file>