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EBA4-01DE-478C-970F-7A0AC62B4688}"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F16D-CD3B-42BD-9982-E6A5194FE9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4777-D6B0-481E-A52D-F00A42936D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4887-26DF-47DD-8CD9-8F3273112A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A5A4-FD8D-497E-BD4C-9BE6AF8AEA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895F-48AF-42CD-B62F-8290397483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6B0F-3B6E-46C9-89F2-91ED8ECEFA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2E19-364B-4C6E-B065-7BE70D1E5A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FDD3-4232-4ABA-9DAC-92572D16AC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0C78-EF41-42D8-9DB9-B62EB21D82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C56E-DF05-4F23-A3FB-A64C6D6DC66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2CDA-2370-4E0B-AD4D-76D505A16E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90F3-C401-487E-A1E6-4591A688FA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DBCB-64E4-41ED-B1E1-296B56B5E5C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56D4-AF15-40B7-BE8E-9F2DD6D828F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98B3-1BB9-4881-B0CD-2B98AA23B4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6773-269F-4E30-A7C7-2C620F60C9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330C-C0DB-4731-89BC-3C1286DC51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70D5-F7CD-4813-80D2-1B648E0B0A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C4A57-D2A2-40EC-A2EE-5AF846442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59CE3-7FF1-4824-A20A-4F6CC4DD5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8E586-FFE6-48A6-AFF5-79DA1ED26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AD069-D2A0-4718-908B-7F055453A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B28CB-4E99-4F08-A3C9-49EACFFCA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8EC6C-D5A9-4501-B570-382A44DEF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A4EF3-C159-4163-AD0D-4D18B6D90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151EF-9A0D-4B94-BD3D-3A858CB75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21B77-228D-424E-B7FC-254E173E9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FE87A-0C09-4DD5-B827-C42BC2B36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E347F-06EF-4025-BF45-E0C73E193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60817-3B7E-4810-B5D9-FAB87A220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9C4A5-E8CC-47A3-8A27-CFB09333D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85958-5A7D-487C-9D7A-B014D8A0F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2496C-4205-40C6-A86C-8659CED35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8DEA3-9E65-404B-B00C-00A2F2AD5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202CB-33AA-4A04-A8D7-85AA6005B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571167-CF3C-41AA-91C9-63123A059C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9335B-86DE-4B34-8748-DF9268FD1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2D277-C08D-4C04-9033-9EA95E964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C486B-78DE-4690-94C8-606D9D1CD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4AE56-F2EA-43CD-99E0-F22354961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8EE1-CBDB-42A1-A9C3-966FDF27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FC22B-9E80-4B32-BA36-E903E2173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1D458-C4EB-49DF-9E66-2B9E72AC3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9CA1F-80EF-430A-99C9-4CB855256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73367-17D6-47F8-AB54-C272117BD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2E4C8-78CE-4145-8716-C7A34BCC7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337FA-1A87-4D6D-BC02-A4A710093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52545-FBCB-4286-A36A-A0603D7FCC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0B5A09-1B31-4632-A937-C2BAE31BAA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D9413-D85F-46B7-8DE6-42CA67A2E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B5DB5-097C-4AFD-9F15-EBF69FC6A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CB08-8DEC-4680-9740-02248D853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F855E-F6E4-437B-A8D4-BBAEE4AFD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7BCA3B-CC43-4917-A806-198ACE096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8B814-8778-4571-AFC2-079C70242F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25A3E-F05D-4797-9161-D13DB6239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26FCE-C0D7-4373-A45F-A00A95EE3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91FA2-D510-4C75-8A5E-A47AEFB1F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AD7DD-FBA9-44A0-99EE-960DE70C1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F1EC0-00E7-4F20-B43B-01B562A6C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458673-ADC3-4D07-92A3-2CCECE523A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77518-5F83-4000-9822-E32D19BEF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F6232-36A6-470B-947F-D5BC58D9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3AF9-FB79-49E9-B30B-5C8AF3C7F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43DA-73F1-4A0C-B43D-1F2F1DE89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4947-8896-46DA-B729-DCE5D7009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26FB-68F9-4B05-A214-26C7FE9E48B6}" type="datetime">
              <a:rPr b="0" lang="es-CL"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5055-DBC1-4977-AFC8-55100060F37A}"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5110-7A3F-4F30-86FF-D63663B32D02}" type="datetime">
              <a:rPr b="0" lang="es-CL"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A47F-3FFC-4145-8948-B50D4B89CB46}"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8F40-83D1-4AE4-9E5F-7A32CACF8A17}" type="datetime">
              <a:rPr b="0" lang="es-CL"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B495-17E0-493A-BCA2-531F3D9B168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0BDB-2065-4CE0-B852-3080AEAA3DEB}" type="datetime">
              <a:rPr b="0" lang="es-CL"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9016-8E3C-4DDD-AB3D-97FFB5B133DA}"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D3D9-1748-4231-A94E-0358CB5E6C04}"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93B6-B53C-468A-9B61-5B3AA340783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086C-63A6-46A9-8D47-C88FA165E318}"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56BD-F621-4ED8-AB94-847317176EAE}"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2DAC-8083-4317-93D6-B601BA9367C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9F8A-B833-4770-8089-000D56BC1B1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5914-D914-4C7C-B3D7-1BBC12094C63}"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5F5D-EA30-4289-A028-EE5B0EF38A7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0C4E-D733-449F-8079-38026DDCC00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5609-6E2E-4FCB-BD98-36FAD9F2D27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9313-9F36-43D1-A521-2DE0E10DEFC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8398-2F2D-4A57-B275-8FCAE69C21C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3AE8-01CA-42D6-A1CE-9E108A2C10F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E2FC-061C-4622-9536-D1965CC13AE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64C7-1944-45A0-874F-9C6B87EAE1B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7DD1-9E78-45FC-8687-BB9ED3FA6CB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19D8-81C7-48FE-B6A4-662D58251B9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B2BB-4A0E-4AFB-898A-1B2675B15E1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