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C4F7-743F-42F1-AF40-2CCB766A47CC}"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FD78-1C7E-448A-9090-A51D0ECC0E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A50F-C635-43C9-BFD2-4D18AA753C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56FE-C1AB-4082-AFD7-20BA4AF534F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3A7F-63DD-4970-A53B-3E6A3FC65B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6203-0543-4CC0-92EC-3530A78F83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B0A7-006B-4D7E-A2A5-F0F0CB7DAE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6B9A-6E47-40B4-AA68-95EFA96C98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C13B-A2BC-4D87-933D-D77146310A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9F9C-9168-4E23-B43D-E6C84D25D0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8F85-2B12-48B0-87C4-AA255573DF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E9F5-463C-42AC-8182-357627875E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EC88-2ECC-46F1-9F6B-FA48970D8D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9BA7-6A5B-4E20-AD20-1F80A88C7D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D23D-3962-45AA-840A-02727D3695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CA50-9C22-4146-80A0-79C7B23CAA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5AA4-38B1-4601-B96E-C72B7A6D14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1C2A-0967-40ED-BFBB-F02FECF621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87D2-3254-48F0-A1A2-636F98842C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42EF-4C5A-4947-B5A4-02730A30D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8C83-4C4F-495B-891A-0F87EEF0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969F1-DCA2-4A33-838D-B3130739E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DCAF9-46AC-4330-8383-03B6E93DF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610E7-D85F-4ECA-BDE7-D378B181F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F83EA-8744-451A-8C5A-690AE60E8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45C9-C3DE-4C07-99F7-B3686A16C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EA1E4-24F3-4C1E-AF26-848FBE814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04974-0ED8-4420-8537-09A21E67A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8D5EF-4790-4177-A600-D251FFCC2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831D-589A-416A-8E26-621EFEB46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7DBF-C9D1-4F7F-97B0-E1A19B54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35630-D323-41C6-8B46-1E47FEC2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636E-E175-4E40-966E-40D619A8C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8553-F12E-4B03-A7D0-D168E981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C00DD-BD36-45FC-89CB-353AA5078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085EC-1283-44CA-B427-A1860DB29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FB1F9-C229-4D15-9A3E-F55142A46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E8260-6BAC-48FB-B26A-51F08104F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6577F-9159-4BD2-8CBE-A20BE1818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0978C-251C-4D1B-9054-10A5DB5CF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485EE-E2A5-4581-BA9D-20BFC042C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C5C15-F544-4764-8220-6BBE6C68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EEA9D-96F7-4EDA-A123-52EE05DAC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77F18-D2F1-494F-8DA3-24A2A67D0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00836-5F6E-4116-9E41-E88C9556C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02B2C-969E-48D9-8843-C914609CE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30EF9-B7FE-4ECE-AB12-6200C6F687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20732A-9F32-4B60-AC59-0536ED031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AECAC-0647-4683-B8B2-4D5EDB1AF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461FD-1171-40E2-BCB3-5697A5BA5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05BEB-6A22-4D59-B7CE-68AB71BE4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31B47-38F3-4B37-AF83-985788CE6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3D58-4355-4EB6-96F8-BBA8C337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2788B-AB72-4EBC-85E9-C244CD497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168D7F-C70B-4BFD-B4DC-58DEE79F7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871EE-BC54-4E71-8D10-E76D9D1F2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BAD7C-5888-4CAA-83CA-815CFCA66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D0E82-D09C-4BED-A7E7-D71097E11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0E83A-2571-4D6A-BD61-4BB807145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4EB25-CBE1-43DC-B9C1-FDB84A13B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FE144C-53F3-43FC-80B7-376A971DB3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6810F-29BB-4A39-BF44-BBE608EFAB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6A803-14FA-4430-B234-8E8C4FD1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DA6B-832A-4F46-833F-4B4C3C97B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D52B-A8FD-4BBF-ABCE-B16F0555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374F-B399-4483-9807-8D4575171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A3FD-053A-47CB-8070-4F314A161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9DB8-42B6-4864-A7DB-85FE8222A7F6}" type="datetime">
              <a:rPr b="0" lang="es-CL"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2576-C6D4-4964-8831-7C8875ABE6C8}"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63BB-C1FE-4DED-9314-5F3A5E002584}" type="datetime">
              <a:rPr b="0" lang="es-CL"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8ED9-791C-485A-BDAE-48DB744615FA}"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1F4F-DD84-471D-B576-0C51CCE72C59}" type="datetime">
              <a:rPr b="0" lang="es-CL" sz="1200" spc="-1" strike="noStrike">
                <a:solidFill>
                  <a:srgbClr val="d1eaee"/>
                </a:solidFill>
                <a:latin typeface="Constantia"/>
              </a:rPr>
              <a:t>31/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43D1-6B22-4912-ABD7-399AF964D603}"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F782-2308-44AA-BD7E-E4992A0E3131}" type="datetime">
              <a:rPr b="0" lang="es-CL" sz="1200" spc="-1" strike="noStrike">
                <a:solidFill>
                  <a:srgbClr val="045c75"/>
                </a:solidFill>
                <a:latin typeface="Constantia"/>
              </a:rPr>
              <a:t>31/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8E23-C209-42A7-9385-A2056BD18BD2}"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B67-EB5A-4FFB-9738-2DE527DF26B1}"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8E0C-697C-47A5-AE8B-0D0109D37CE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D157-A7CB-4F94-A9FC-4ED0B2D121F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F044-AA4A-45DE-9A62-C61B6148841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1685-9AD6-4851-9D7E-C73B2486C71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14CB-00C5-4633-A60E-760E81C8ABB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B4F3-3C43-4096-877A-01736C1110A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AC63-BDCA-42CB-94F3-FA07F57E340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04B1-4C95-4A05-8810-5E8F329DAC7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A68B-B776-4BB3-ACF1-E2F186EA005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EEAE-2B4B-4140-9D32-932A4FD06D8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6A3F-5418-4EBC-B79F-D1623C3F0DE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1F25-6A2B-4540-9A42-B120303571E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95C4-DCCA-4D67-B7B2-4BE8D9F739D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B70A-61FE-4538-BAA4-205AFDA0C66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4C99-EC43-4269-A1E0-A23468ACDC4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8E8B-ABF8-4FF2-88C3-1EB6C3A182C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6E48-77AF-4706-9663-487740B13C9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