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0BC4-C461-49EB-AD09-AE3AC3D22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BFA8-E4E5-4767-88F5-6928BE1A4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45E7-7203-4F7A-A7CE-8CA4E72CD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F028-2773-4F17-A23A-4F2608ABF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B0E3-374B-4ED6-A701-CC9E1AA90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A5E4-7A16-4595-84B2-27748D3A9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22D6-012C-4598-9209-B54FE1A22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DA66-385B-44DF-A083-3413EB9F4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47CC-AF75-4AD8-AE66-7DB88C903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4E9D-9127-416C-9713-0B157FE7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F008-E400-4D9E-A4E8-E6B0818DF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7B49-0BFA-4F14-8D63-3B221A2D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953FE-68C1-41C0-8D97-597DFBFA02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819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esentaciones: elementos para su preparación y ejecu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astón H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antiago - 14 de Mayo de 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1523880" cy="1495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781680" y="533520"/>
            <a:ext cx="142884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ransparencia: ejemp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a presentación tiene como objetivo entregar antecedentes e ideas generales para apoyar la preparación y realización de una presenta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estos efectos, se considera que una presentación puede estructurarse en tres partes: preparación, ejecución y post-ejecución. Cada una de ellas incluye aspectos específicos que deben tenerse en cuenta y desarrollarse adecuadamente. El objetivo de esta tarea es lograr realizar presentaciones que tengan un alto impacto y logren en forma efectiva transmitir los contenidos dese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spectos práct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sayar / cronometra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puntes de apoyo (no en las man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isita previa al lug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legar antes - chequear equipos - cargar prese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rchivos de respal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aterial a entreg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9" name=""/>
          <p:cNvGraphicFramePr/>
          <p:nvPr/>
        </p:nvGraphicFramePr>
        <p:xfrm>
          <a:off x="7315200" y="4724280"/>
          <a:ext cx="1469880" cy="180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15200" y="4724280"/>
                    <a:ext cx="1469880" cy="18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cución de la 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es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cenario / audiencia a disposi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finir reglas del juego al comienzo: participación audiencia, celulare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onar convincen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enguaje verbal y no verb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spectos de cada u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binación de el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"/>
          <p:cNvGraphicFramePr/>
          <p:nvPr/>
        </p:nvGraphicFramePr>
        <p:xfrm>
          <a:off x="8001000" y="4495680"/>
          <a:ext cx="704880" cy="198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01000" y="4495680"/>
                    <a:ext cx="7048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a vo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olu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fa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ergía / no sobreactua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len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elocidad / clar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1" name=""/>
          <p:cNvGraphicFramePr/>
          <p:nvPr/>
        </p:nvGraphicFramePr>
        <p:xfrm>
          <a:off x="8001000" y="4495680"/>
          <a:ext cx="704880" cy="198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01000" y="4495680"/>
                    <a:ext cx="7048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a corporali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tura del cuer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ic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relación a pantalla / no obstaculizar v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ideas princip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tacto visual: incluir periferia; manten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ov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esticul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7" name=""/>
          <p:cNvGraphicFramePr/>
          <p:nvPr/>
        </p:nvGraphicFramePr>
        <p:xfrm>
          <a:off x="8001000" y="4495680"/>
          <a:ext cx="704880" cy="198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01000" y="4495680"/>
                    <a:ext cx="7048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etalles, pero no ta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o de medios: pantalla, puntero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ransición entre par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o de hum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umplir estrictamente tiem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tuaciones imprevistas. P. ej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enos ti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omador de decisiones se 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t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3" name=""/>
          <p:cNvGraphicFramePr/>
          <p:nvPr/>
        </p:nvGraphicFramePr>
        <p:xfrm>
          <a:off x="8001000" y="4495680"/>
          <a:ext cx="704880" cy="198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01000" y="4495680"/>
                    <a:ext cx="7048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eguntas y respues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jar tiempo adecu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antener el interés de la audi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oca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anejo de preguntas complej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ferencia charla - reun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omar notas (ev. ayudan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gistrar compromi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" name=""/>
          <p:cNvGraphicFramePr/>
          <p:nvPr/>
        </p:nvGraphicFramePr>
        <p:xfrm>
          <a:off x="8001000" y="4495680"/>
          <a:ext cx="704880" cy="198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01000" y="4495680"/>
                    <a:ext cx="7048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ost - ejecu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umplir los compromisos adquir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ible distribución de mate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gu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"/>
          <p:cNvGraphicFramePr/>
          <p:nvPr/>
        </p:nvGraphicFramePr>
        <p:xfrm>
          <a:off x="6477120" y="4952880"/>
          <a:ext cx="2438280" cy="1619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77120" y="4952880"/>
                    <a:ext cx="2438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entarios fin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eparación: cent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deas: pocas, precis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cnología y forma apropiad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xponerse, experiment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acticar, practicar, practic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7162920" y="4343400"/>
          <a:ext cx="1295280" cy="198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62920" y="4343400"/>
                    <a:ext cx="129528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2819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esentaciones: elementos para su preparación y ejecu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astón H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antiago - 14 de Mayo de 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1523880" cy="14954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6781680" y="533520"/>
            <a:ext cx="142884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em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s etapas de una prese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racterización de cada eta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entarios fi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bjetivos de esta char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rdenamiento de id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ntido comú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racterísticas individuales / esti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xperiencia individ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deas gene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esentación: instancia para transmitir contenido (ideas, información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udiencia a disposición: hacerse cargo de sus característ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oría de la comunicación: emisor - receptor - mensaje / estados de áni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currir a herramientas disponi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tapas de una 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es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tap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eparación (ant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ecución (duran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st - ejecución (despué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levancia de cada u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"/>
          <p:cNvGraphicFramePr/>
          <p:nvPr/>
        </p:nvGraphicFramePr>
        <p:xfrm>
          <a:off x="4952880" y="1981080"/>
          <a:ext cx="1055880" cy="129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52880" y="1981080"/>
                    <a:ext cx="105588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5715000" y="3124080"/>
          <a:ext cx="514440" cy="1447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3124080"/>
                    <a:ext cx="51444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6019920" y="4572000"/>
          <a:ext cx="1600200" cy="1062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9920" y="4572000"/>
                    <a:ext cx="160020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eparación: 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generalida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dentificar ideas centrales y focalizarse en ell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rganización / diseño de presentación: secuencia, duración, énfasis, etc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terminar nivel de formalidad: vestimenta, lengua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cnología apropiad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Es etapa cl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7315200" y="4724280"/>
          <a:ext cx="1469880" cy="180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15200" y="4724280"/>
                    <a:ext cx="1469880" cy="18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tructu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cuenci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rt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em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sarroll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quema U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r a lo esen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"/>
          <p:cNvGraphicFramePr/>
          <p:nvPr/>
        </p:nvGraphicFramePr>
        <p:xfrm>
          <a:off x="7315200" y="4724280"/>
          <a:ext cx="1469880" cy="180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15200" y="4724280"/>
                    <a:ext cx="1469880" cy="18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rganización: 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árbol lóg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5486400" cy="3900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" name=""/>
          <p:cNvGraphicFramePr/>
          <p:nvPr/>
        </p:nvGraphicFramePr>
        <p:xfrm>
          <a:off x="7315200" y="4724280"/>
          <a:ext cx="1469880" cy="180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15200" y="4724280"/>
                    <a:ext cx="1469880" cy="18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ransparencias eficie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úmero adecuado / tiempo adecuado para cada una (explicacion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ntidad de texto, tamaño let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o de colores, apoyo de gráficos, íconos, etc.: apoyo a comun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ítulos: concisos, significa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rtografía, gramá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ogo institu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" name=""/>
          <p:cNvGraphicFramePr/>
          <p:nvPr/>
        </p:nvGraphicFramePr>
        <p:xfrm>
          <a:off x="7315200" y="4724280"/>
          <a:ext cx="1469880" cy="180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15200" y="4724280"/>
                    <a:ext cx="1469880" cy="18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1T00:14:23Z</dcterms:created>
  <dc:creator>dii</dc:creator>
  <dc:description/>
  <dc:language>en-US</dc:language>
  <cp:lastModifiedBy>Universidad de Chile</cp:lastModifiedBy>
  <dcterms:modified xsi:type="dcterms:W3CDTF">2003-07-25T15:34:42Z</dcterms:modified>
  <cp:revision>71</cp:revision>
  <dc:subject/>
  <dc:title>Arbol lógico</dc:title>
</cp:coreProperties>
</file>