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C57C1-E0AA-4648-96B7-E1B6009C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F8E4E-E24F-46EB-A63D-7176E9C3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D81BD-7FAE-464A-A2EE-39E536CE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2492E-D0B3-4DC2-9EB2-398CBB25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1A735-B224-4A44-9346-0A0D4314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2A61E-5473-4D3E-8594-1385635E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0A252-AABA-4C02-BFD1-71E75D34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B450C-7415-4C50-A24E-9D479C4A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38A49-E36B-4641-A0C2-49E8037A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5BE6B-1B94-43E0-A43C-677AA726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EFA96-5794-43BB-9515-11DB393E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3CE31-E394-4AB4-AC9E-869DF4E2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0F44-B995-405E-88B3-063E6005F2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89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43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 </dc:creator>
  <dc:description/>
  <dc:language>en-US</dc:language>
  <cp:lastModifiedBy>Antonio</cp:lastModifiedBy>
  <dcterms:modified xsi:type="dcterms:W3CDTF">2009-03-18T01:31:41Z</dcterms:modified>
  <cp:revision>8</cp:revision>
  <dc:subject/>
  <dc:title>El concepto de VALOR</dc:title>
</cp:coreProperties>
</file>