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860EB-E1B4-47DE-AB1A-FBC63F6B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1EDFC-02E4-4E73-9655-FE7076FB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52790-D2FE-48FA-945E-841AFF24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FABF8-76AF-4AFA-B71F-3FB1EC7E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7E50B-9414-416E-9CC7-57246475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B5655-61A0-4AE8-8110-E1FD0A9E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9FB00-7864-4D77-B4B9-DBA4CF9E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570B9-9786-4439-BF70-9DC7928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54305-8E83-46CD-9692-225CD4A8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5D419-3EA2-4C03-9C3F-D3E7B217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024F0-F9B2-42F4-BFA6-2CE5FA3D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56E37-7122-4D43-B9EF-E4DB7B12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F6B9-D639-4B2C-9C78-2EA3397B40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89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 </dc:creator>
  <dc:description/>
  <dc:language>en-US</dc:language>
  <cp:lastModifiedBy>Antonio</cp:lastModifiedBy>
  <dcterms:modified xsi:type="dcterms:W3CDTF">2009-03-18T01:31:41Z</dcterms:modified>
  <cp:revision>8</cp:revision>
  <dc:subject/>
  <dc:title>El concepto de VALOR</dc:title>
</cp:coreProperties>
</file>