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2AEFF-CCB5-4E14-8372-C3ABC4E5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E9536-2262-460F-9199-B6028C22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42513-4350-41D9-AC5E-40BF199C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370AB-1418-4345-A1D3-324402C0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84301-93E0-4D8B-AA6F-31C2BCC8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73F85-8A75-45DE-AD3A-565CB392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01525-153E-4EAF-BA32-35F2D8C1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F558D-175B-466A-A47B-3E8894FD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1CAF0-F32E-4F78-8C00-8F32B295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52BD4-8EB3-42E1-BBBE-57EA646D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EF171-10F9-449D-A260-5B3415EF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99FA8-5707-4912-AD85-47C46D16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DF1A-647F-4F06-BB90-6A2B17B74A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89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 </dc:creator>
  <dc:description/>
  <dc:language>en-US</dc:language>
  <cp:lastModifiedBy>Antonio</cp:lastModifiedBy>
  <dcterms:modified xsi:type="dcterms:W3CDTF">2009-03-18T01:31:41Z</dcterms:modified>
  <cp:revision>8</cp:revision>
  <dc:subject/>
  <dc:title>El concepto de VALOR</dc:title>
</cp:coreProperties>
</file>