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A2210-AA54-4839-B5A6-6FA50CCA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6E765-F7C9-4DC4-AF0B-E825F7A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A6E74-FD30-4D65-9AC4-79B028E4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ED251-06A3-42F2-9894-FAC30E7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F3E2A-1CA5-4832-AF53-944E3CE0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0D718-1255-48A2-B3CB-E140222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82046-7666-441D-99E6-1E00D2E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3F6E-C6D4-4DAE-A0CC-5349F3A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DD4D-84FF-4DC2-AC5E-A5C7C2B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5BE28-0F07-4084-AA83-6696D9C2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D41D8-BD0D-466B-89C1-A556F01B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737CB-F2B9-49E6-A6D9-8AE10B5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182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22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251" name="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2480" y="1916280"/>
              <a:ext cx="309636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Antonio</cp:lastModifiedBy>
  <dcterms:modified xsi:type="dcterms:W3CDTF">2009-07-22T17:58:00Z</dcterms:modified>
  <cp:revision>21</cp:revision>
  <dc:subject/>
  <dc:title>Modelo de Negocios</dc:title>
</cp:coreProperties>
</file>