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AA27C2-C821-4DE0-BDE9-553078886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6D95BA-DAEA-4A00-9099-76E5E8084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39D75C-990A-475E-8C23-CC9EAC71F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EDC5D3-4260-48D7-BB83-C24DF31BA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B7B4E9-A14A-403B-97D2-862444A5E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8B9F2E-F6BE-4919-A6DC-36D4759E3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3F9747-A3D6-4A11-B790-CDEAD496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9FACFE-C7B5-4EE8-960D-50B30B33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6C38B5-AE75-4412-8433-089138BB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4286C7-332D-4D62-8612-C37638390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362CF2-2349-42E3-9304-1554F227A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66A7E9-76B4-4CCD-9790-83F1C68F8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39640" y="6244920"/>
            <a:ext cx="806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3419640" y="6237360"/>
            <a:ext cx="216036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hyperlink" Target="http://www.wharton.upenn.edu/research/webi.html" TargetMode="External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Verdana"/>
              </a:rPr>
              <a:t>Del Modelo de Negocios al Plan de Negocio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Valor agregado para el consumidor fin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rcRect l="2884" t="14300" r="961" b="3463"/>
          <a:stretch/>
        </p:blipFill>
        <p:spPr>
          <a:xfrm>
            <a:off x="838080" y="2438280"/>
            <a:ext cx="7620120" cy="3505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227160" y="1523880"/>
            <a:ext cx="8916480" cy="4261320"/>
            <a:chOff x="227160" y="1523880"/>
            <a:chExt cx="8916480" cy="4261320"/>
          </a:xfrm>
        </p:grpSpPr>
        <p:sp>
          <p:nvSpPr>
            <p:cNvPr id="182" name=""/>
            <p:cNvSpPr/>
            <p:nvPr/>
          </p:nvSpPr>
          <p:spPr>
            <a:xfrm>
              <a:off x="980640" y="3761640"/>
              <a:ext cx="209268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391040" y="2524320"/>
              <a:ext cx="1682640" cy="2728800"/>
            </a:xfrm>
            <a:custGeom>
              <a:avLst/>
              <a:gdLst/>
              <a:ahLst/>
              <a:rect l="l" t="t" r="r" b="b"/>
              <a:pathLst>
                <a:path w="1054" h="1740">
                  <a:moveTo>
                    <a:pt x="1054" y="0"/>
                  </a:moveTo>
                  <a:lnTo>
                    <a:pt x="0" y="0"/>
                  </a:lnTo>
                  <a:lnTo>
                    <a:pt x="0" y="1740"/>
                  </a:lnTo>
                  <a:lnTo>
                    <a:pt x="1054" y="1740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075120" y="3506040"/>
              <a:ext cx="191880" cy="497160"/>
            </a:xfrm>
            <a:custGeom>
              <a:avLst/>
              <a:gdLst/>
              <a:ahLst/>
              <a:rect l="l" t="t" r="r" b="b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075120" y="4958640"/>
              <a:ext cx="191880" cy="497160"/>
            </a:xfrm>
            <a:custGeom>
              <a:avLst/>
              <a:gdLst/>
              <a:ahLst/>
              <a:rect l="l" t="t" r="r" b="b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75120" y="2268720"/>
              <a:ext cx="191880" cy="497160"/>
            </a:xfrm>
            <a:custGeom>
              <a:avLst/>
              <a:gdLst/>
              <a:ahLst/>
              <a:rect l="l" t="t" r="r" b="b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90480" y="3267720"/>
              <a:ext cx="1254600" cy="103788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590480" y="2003760"/>
              <a:ext cx="1254600" cy="103788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255840" y="206496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255840" y="255132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255840" y="330696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255840" y="380088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99840" y="1523880"/>
              <a:ext cx="3511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iveles en la creación de val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7160" y="3338280"/>
              <a:ext cx="846360" cy="8218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dddddd"/>
                  </a:solidFill>
                  <a:latin typeface="Arial"/>
                </a:rPr>
                <a:t>Cre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dddddd"/>
                  </a:solidFill>
                  <a:latin typeface="Arial"/>
                </a:rPr>
                <a:t>de Val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dddddd"/>
                  </a:solidFill>
                  <a:latin typeface="Arial"/>
                </a:rPr>
                <a:t>(EVA</a:t>
              </a:r>
              <a:r>
                <a:rPr b="1" lang="en-US" sz="1200" spc="-1" strike="noStrike" baseline="30000">
                  <a:solidFill>
                    <a:srgbClr val="dddddd"/>
                  </a:solidFill>
                  <a:latin typeface="Arial"/>
                </a:rPr>
                <a:t>®</a:t>
              </a:r>
              <a:r>
                <a:rPr b="1" lang="en-US" sz="1200" spc="-1" strike="noStrike">
                  <a:solidFill>
                    <a:srgbClr val="dddddd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351600" y="2160720"/>
              <a:ext cx="1010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Volumen de Ven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598560" y="2615400"/>
              <a:ext cx="570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Prec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255480" y="3800880"/>
              <a:ext cx="1107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dministra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288600" y="395316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y Vent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366360" y="3391560"/>
              <a:ext cx="811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Opera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647960" y="2025360"/>
              <a:ext cx="4430160" cy="99108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721400" y="2055240"/>
              <a:ext cx="20786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cceso a nuevos mercad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uevos product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996600" y="2055240"/>
              <a:ext cx="2025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reación de nuevos productos / servici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721040" y="2507040"/>
              <a:ext cx="18925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onstrucción de imag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uadrar demanda-ofert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726080" y="3297600"/>
              <a:ext cx="243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de costos operac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es compra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22120" y="3796200"/>
              <a:ext cx="241236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ejoramiento costos servici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edes logísticas eficient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educción costos de transacció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996600" y="3796200"/>
              <a:ext cx="21470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arketing efectiv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onitoreo de operacion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001280" y="5185800"/>
              <a:ext cx="2134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ejoramiento de productividad de flot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718160" y="5190480"/>
              <a:ext cx="227160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ejoramientos de productividad de redes logística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996600" y="3297600"/>
              <a:ext cx="185508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Fuentes de negociación de contrat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730760" y="4705920"/>
              <a:ext cx="21535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Optimización de Inventari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Time-to-marke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380200" y="1531440"/>
              <a:ext cx="2714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sibilidad de mejorar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641480" y="3278880"/>
              <a:ext cx="4430160" cy="112896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635360" y="4660560"/>
              <a:ext cx="4430160" cy="1078920"/>
            </a:xfrm>
            <a:prstGeom prst="rect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246120" y="475308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246120" y="524052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255840" y="4753080"/>
              <a:ext cx="10803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Capital d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Trabaj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366360" y="5284800"/>
              <a:ext cx="9730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Reduci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ctivos Fij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013880" y="2488320"/>
              <a:ext cx="2043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egmentación efectiva de consumidor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990120" y="4699800"/>
              <a:ext cx="215352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ronósticos más precis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662480" y="3324240"/>
              <a:ext cx="110772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Reduc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de Costos</a:t>
              </a:r>
              <a:br>
                <a:rPr sz="1000"/>
              </a:b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1809000" y="3768120"/>
              <a:ext cx="949680" cy="446040"/>
              <a:chOff x="1809000" y="3768120"/>
              <a:chExt cx="949680" cy="446040"/>
            </a:xfrm>
          </p:grpSpPr>
          <p:sp>
            <p:nvSpPr>
              <p:cNvPr id="222" name=""/>
              <p:cNvSpPr/>
              <p:nvPr/>
            </p:nvSpPr>
            <p:spPr>
              <a:xfrm>
                <a:off x="1809000" y="3768120"/>
                <a:ext cx="0" cy="44424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809000" y="4214160"/>
                <a:ext cx="94968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1854000" y="3312000"/>
              <a:ext cx="1585440" cy="83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106" y="21596"/>
                  </a:moveTo>
                  <a:arcTo wR="10800" hR="10800" stAng="5302466" swAng="5607219"/>
                  <a:lnTo>
                    <a:pt x="10800" y="10800"/>
                  </a:lnTo>
                  <a:close/>
                </a:path>
                <a:path fill="none" w="21600" h="21600">
                  <a:moveTo>
                    <a:pt x="11106" y="21596"/>
                  </a:moveTo>
                  <a:arcTo wR="10800" hR="10800" stAng="5302466" swAng="5607219"/>
                </a:path>
              </a:pathLst>
            </a:custGeom>
            <a:noFill/>
            <a:ln w="38160">
              <a:solidFill>
                <a:srgbClr val="ddddd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590480" y="4693320"/>
              <a:ext cx="1254600" cy="103824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596960" y="4708800"/>
              <a:ext cx="1243440" cy="44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Optimización  del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uso de activ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681560" y="5511960"/>
              <a:ext cx="109800" cy="13464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33480" y="5511960"/>
              <a:ext cx="111240" cy="134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978560" y="5511960"/>
              <a:ext cx="109800" cy="1346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767960" y="5347080"/>
              <a:ext cx="111600" cy="1346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32120" y="5369400"/>
              <a:ext cx="109800" cy="13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866600" y="5204520"/>
              <a:ext cx="110160" cy="134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527920" y="5482080"/>
              <a:ext cx="111600" cy="1350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266200" y="5339520"/>
              <a:ext cx="156240" cy="1756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1801080" y="2477160"/>
              <a:ext cx="951480" cy="446400"/>
              <a:chOff x="1801080" y="2477160"/>
              <a:chExt cx="951480" cy="446400"/>
            </a:xfrm>
          </p:grpSpPr>
          <p:sp>
            <p:nvSpPr>
              <p:cNvPr id="236" name=""/>
              <p:cNvSpPr/>
              <p:nvPr/>
            </p:nvSpPr>
            <p:spPr>
              <a:xfrm>
                <a:off x="1801080" y="2477160"/>
                <a:ext cx="0" cy="44460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801080" y="2923560"/>
                <a:ext cx="95148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 flipV="1">
              <a:off x="1017000" y="2181600"/>
              <a:ext cx="1632960" cy="68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648080" y="2022840"/>
              <a:ext cx="113976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Mejoramie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Ingres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647960" y="2491560"/>
              <a:ext cx="443340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638600" y="3764880"/>
              <a:ext cx="443304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628880" y="5162400"/>
              <a:ext cx="443340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reación de valor para la empres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"/>
          <p:cNvSpPr/>
          <p:nvPr/>
        </p:nvSpPr>
        <p:spPr>
          <a:xfrm>
            <a:off x="1371600" y="5257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371600" y="6019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19360" y="5899320"/>
            <a:ext cx="536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umento de valor de las acciones, del capital humano y/o del activo nom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086600" y="6019920"/>
            <a:ext cx="76320" cy="759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52480" y="5867280"/>
            <a:ext cx="5410440" cy="30492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0000"/>
                </a:solidFill>
                <a:latin typeface="Verdana"/>
              </a:rPr>
              <a:t>Definiendo una estrategi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755640" y="1916280"/>
            <a:ext cx="6624720" cy="3312720"/>
            <a:chOff x="755640" y="1916280"/>
            <a:chExt cx="6624720" cy="3312720"/>
          </a:xfrm>
        </p:grpSpPr>
        <p:sp>
          <p:nvSpPr>
            <p:cNvPr id="251" name=""/>
            <p:cNvSpPr/>
            <p:nvPr/>
          </p:nvSpPr>
          <p:spPr>
            <a:xfrm>
              <a:off x="755640" y="5224320"/>
              <a:ext cx="662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55640" y="3137400"/>
              <a:ext cx="662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55640" y="4181040"/>
              <a:ext cx="662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481480" y="1928880"/>
              <a:ext cx="4524480" cy="33001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cc99ff"/>
                </a:gs>
                <a:gs pos="100000">
                  <a:srgbClr val="fefefe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usines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ces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192480" y="1916280"/>
              <a:ext cx="3096360" cy="22600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a3b2c1"/>
                </a:gs>
                <a:gs pos="100000">
                  <a:srgbClr val="dfe4e9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Busines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Model and Business Pl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902760" y="1916280"/>
              <a:ext cx="1675080" cy="12211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cc99"/>
                </a:gs>
                <a:gs pos="100000">
                  <a:srgbClr val="feecdb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ateg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064520" y="2526840"/>
              <a:ext cx="159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anning lev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060200" y="3366360"/>
              <a:ext cx="168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rchitectural lev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063440" y="4282560"/>
              <a:ext cx="173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mplement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v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060200" y="2323440"/>
              <a:ext cx="0" cy="290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¿Que es el Plan de Negocio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la definición detallada de cómo el Modelo de Negocios se llevara a cabo de acuerdo a una estrategia en un determinado horizon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ontenido del Plan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UMEN EJECUTIV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 INDUSTRIA Y LA EMPRESA, SUS PRODUCTOS Y EL ENTORN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ÁLISIS E INVESTIGACIÓN DE MERCA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PECTOS ECONÓMICOS DEL NEGOCI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N DE MARKE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N DE VENT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N DE DISEÑO Y IMPLEMENTA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N DE OPERA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QUIPO DE GEST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AMACIÓN GLOB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ESGOS CRÍTICOS, PROBLEMAS Y SUPUES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N FINANCIE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PUES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EXO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  <a:ea typeface="Arial"/>
              </a:rPr>
              <a:t>Resumen Ejecutiv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Descripción del concepto de negocio y los negocios de la empres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a oportunidad y la estrategia de negoc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El mercado objetivo y proyecc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as ventajas competitiv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spectos económic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El equip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a propues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  <a:ea typeface="Arial"/>
              </a:rPr>
              <a:t>La Industria, la Empresa, sus Productos y el Entorn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a industr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a empresa y su concep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roductos y Servi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strategias de penetración y crecimiento de mercado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nálisis e Investigación de Mercad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lient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Tamaño y tendencias de merc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ompetencia y competitiv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orción de mercado y vent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valuación de la estrategia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spectos Económicos del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Ingresos y márgenes operaciona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Utilidades y horizonte del produc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ostos fijos y variab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Indicadores de puntos de quiebre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Market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strategia global de market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rec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Tácticas de ven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olíticas de servicios y garantí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romoción y Public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Distribución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¿Qué es el modelo de negocios 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Un modelo de negocios es la arquitectura de la configuración de componentes de las transacciones diseñadas para explotar oportunidades de negocios (*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e hace cargo de la oportunid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Indica como y porqué las transacciones (y los beneficios) ocurrirá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scribe la interacción de la organización con otras entidades del merca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*)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Raffi Amit, co-director of the Wharton</a:t>
            </a:r>
            <a:r>
              <a:rPr b="0" lang="es-ES" sz="18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-Business Initiative (WeBI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Vent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uánto vamos a vend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uándo vamos a vend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ómo vamos a vender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Dónde vamos a vender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Quién va a vender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Diseño e Implantación del produc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Hitos y tare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Riesgos y dificulta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ejoras de producto y nuevos product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ost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spectos lega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Oper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iclo de oper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ocaliz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Infraestructura e optimizac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lanes y estrategi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Aspectos legales y regulatorios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quipo de Gest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Organiz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Personal clav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Compensa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Otros invers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Gratifica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Directorio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Otros shareholders, derechos y restric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Consultores y otros servicios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gramación Glob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xplicitar como se programarán las actividades asociadas al los programas de inversión y de operac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Financier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stados Resultados y Balances actua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stados Resultados Proform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Balance Proform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Flujo de Tesorería Proform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Análisis de puntos de quieb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ontrol de Costo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Hechos esenciales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puesta para financiamien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Financiamiento dese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Ofer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apitaliz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Uso de los fond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Retorno para los inversionist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Riesgos, problemas y supuestos crític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Identificar los riesgos, problemas y otras contingencias que puedan ocurrir y como administrarlos (que hacer para mitigar esos riesgos antes que se produzcan o cuando se produzcan- planificación por contingencia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¿Qué es el modelo de negocios?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con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la estrategia central de una organización que define su lugar en el merc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Describe la oportunidad y como la organización generará los benefi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Responde a los “porqué” la organización exis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3041640" y="297180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46360" y="2438280"/>
            <a:ext cx="1600200" cy="838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822320" y="434304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946760" y="281952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5022360" y="419112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89120" y="335268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327360" y="2489040"/>
            <a:ext cx="160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329880" y="457200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920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72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1828800" y="289548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2362320"/>
            <a:ext cx="1600200" cy="83808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609480" y="426672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3733920" y="274320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3809520" y="411480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76280" y="327672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49720" y="2362320"/>
            <a:ext cx="1741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117040" y="449568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920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la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72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81680" y="259092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356960" y="23940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784872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457400" y="182880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tecn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5715000" y="20574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038480" y="16765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lternativos/sustit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7848720" y="213372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506720" y="312408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04600" y="380988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5715000" y="41148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24280" y="3124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mpeti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5715000" y="34290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571500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5715000" y="4800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88840" y="510552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irecto (pag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715000" y="541008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26760" y="5791320"/>
            <a:ext cx="37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indirecto (recibe los benefici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2590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324240" y="2438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1197000"/>
            <a:ext cx="8964720" cy="5111640"/>
          </a:xfrm>
          <a:prstGeom prst="ellipse">
            <a:avLst/>
          </a:prstGeom>
          <a:solidFill>
            <a:srgbClr val="edfb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"/>
          <p:cNvSpPr/>
          <p:nvPr/>
        </p:nvSpPr>
        <p:spPr>
          <a:xfrm>
            <a:off x="1828800" y="289548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2362320"/>
            <a:ext cx="1600200" cy="83808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609480" y="426672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3733920" y="274320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3809520" y="411480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76280" y="327672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049720" y="2362320"/>
            <a:ext cx="1741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17040" y="449568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3920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la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72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81680" y="259092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56960" y="23940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784872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457400" y="182880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tecn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715000" y="20574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16765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lternativos/sustit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848720" y="213372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506720" y="312408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04600" y="380988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5715000" y="41148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3124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mpeti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5715000" y="34290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571500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5715000" y="4800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88840" y="510552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irecto (pag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5715000" y="541008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226760" y="5791320"/>
            <a:ext cx="37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indirecto (recibe los benefici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343400" y="2590920"/>
            <a:ext cx="68580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324240" y="2438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rot="20437200">
            <a:off x="7237440" y="3859920"/>
            <a:ext cx="162072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Georgia"/>
              </a:rPr>
              <a:t>ENTO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Georgia"/>
              </a:rPr>
              <a:t>Paí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Georgia"/>
              </a:rPr>
              <a:t>Econom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Georgia"/>
              </a:rPr>
              <a:t>Cul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Otra visión de un 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533520" y="1509840"/>
          <a:ext cx="7772400" cy="4579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509840"/>
                    <a:ext cx="7772400" cy="45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560" y="837720"/>
            <a:ext cx="830556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 modelo de negocios tiene una visión económica y técnica del negoci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914400" y="1752480"/>
          <a:ext cx="7176960" cy="426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752480"/>
                    <a:ext cx="71769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La cadena de valor y la propuesta de val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838080" y="1905120"/>
            <a:ext cx="7743960" cy="4162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14:44:41Z</dcterms:created>
  <dc:creator> </dc:creator>
  <dc:description/>
  <dc:language>en-US</dc:language>
  <cp:lastModifiedBy>Antonio</cp:lastModifiedBy>
  <dcterms:modified xsi:type="dcterms:W3CDTF">2009-07-22T17:58:00Z</dcterms:modified>
  <cp:revision>21</cp:revision>
  <dc:subject/>
  <dc:title>Modelo de Negocios</dc:title>
</cp:coreProperties>
</file>