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0CB4D-CCA3-4AB7-8054-539C6396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B45D3-E0BA-4E83-B9E6-350E58CD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E35AA-EF61-4047-9B49-D2EA28BF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EB75E-28B8-4BFC-BF55-4C1613DD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CF20E-F7CE-4669-90D4-9DB29BF4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469BB-3CB0-4D30-8124-DCA7F249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6711A-6FF9-4F1E-AA75-6DE6D62A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7990E-937B-42A2-95A0-E1DD81B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1E298-3714-4C6C-8214-B6049DF6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595AF-4C4D-4418-9994-3A9E001B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A93F9-A958-4F1F-B9BA-2A78D282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4E05B-A510-4BE8-B85B-121BD482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182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22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36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251" name="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92480" y="1916280"/>
              <a:ext cx="309636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l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Antonio</cp:lastModifiedBy>
  <dcterms:modified xsi:type="dcterms:W3CDTF">2009-07-22T17:58:00Z</dcterms:modified>
  <cp:revision>21</cp:revision>
  <dc:subject/>
  <dc:title>Modelo de Negocios</dc:title>
</cp:coreProperties>
</file>