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7AA59-055B-44D7-843B-23B4AF8F5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30FAE2-2DCB-42A7-A08D-16A09DB0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C2983-4939-474F-A91B-188663A03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F8475-B51B-4C1F-9AF7-85C8E99C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60886-EF04-4765-9C6B-72B8014B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A5DBE-33C5-4CF1-BC9E-B6957A91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6BAEC-FED6-45ED-BCFA-0B2A7A22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7D51A-C690-45BC-B170-14BEB5D1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9D342-638B-4F6F-9F95-A6D5D4A8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EED41-6136-4C26-8C45-3070FB47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ECDE2-038D-4958-8510-774D45D9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5F937-4868-4C73-A0F4-F9570633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 Primavera 2008           8-</a:t>
            </a:r>
            <a:fld id="{36691ECA-1CC4-4BEB-863E-8F6E5ACB93E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419640" y="115920"/>
            <a:ext cx="247320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32A3-8CCE-41A1-BD7D-DECFD2DD9F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9400" y="426600"/>
            <a:ext cx="76788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IN69B - </a:t>
            </a: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TALLER DE DISEÑO Y EVALUACIÓN DE NEGOCI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95480" y="2860560"/>
            <a:ext cx="556272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SEMESTRE Primaver 200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4648320"/>
            <a:ext cx="16761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Fuentes de Produc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ebre (Necesida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ien o servi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ente en medios de Comunicación (ej. Diari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ndos de Fomento (Corfo, Inno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gregar valor (+valor, -costo, aumento del valor de la empres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novación (tecnología, procesos de negocio, modelos de negocios, etc,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Características del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Mérito innovativo del produc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Tamaño del negocio (p*q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otencial de crecimi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Dificultad vs. Desafí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uentes de inform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VALUACIÓN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INFORME FINAL : 6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 u="sng">
                <a:solidFill>
                  <a:srgbClr val="336699"/>
                </a:solidFill>
                <a:uFillTx/>
                <a:latin typeface="Verdana"/>
                <a:hlinkClick r:id="rId2" action="ppaction://hlinksldjump"/>
              </a:rPr>
              <a:t>PARTICIPACIÓN: 3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XAMEN: 10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n este curso se reprueb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GRANDES REGL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000000"/>
                </a:solidFill>
                <a:latin typeface="Verdana"/>
              </a:rPr>
              <a:t>Con respecto a los alumno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ntualidad: 0-5 min:presente; + 5 min: aus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sistencia controlada por módulo en cualquier mo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resentación formal (para las presentacion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Rigurosidad: Ortografía, lenguaje y actitu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Ética:cumplir acuerdo ético del DI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Con respecto a los profesores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Puntua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usencias comunica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Terminar segundo bloque a la ho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Verdana"/>
              </a:rPr>
              <a:t>Respecto mutuo universal (relación alumno-alumno y alumno-profeso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NOTA PARTICIP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610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articipación en cla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Cumplimiento de reglas (asistencia, identificación, puntualidad, no excederse en los tiempos, etc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Aportes que hacen a los proyectos de sus compañeros en clas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Progreso (desde una situación de evaluación a otra mejor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Liderazgo y trabajo en equipo (dentro de su equipo y en el curso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Comportamiento adecuado a un clima de negocios durante el desarrollo del curso (ética, manera de dirigirse a compañeros y profesores, capacidad de disentir, agregar valor con ideas innovadoras, etc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76"/>
              </a:spcBef>
              <a:spcAft>
                <a:spcPts val="238"/>
              </a:spcAft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  <a:ea typeface="Times New Roman"/>
              </a:rPr>
              <a:t>Actitud general en el curs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990720" y="644220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Cuidar en las presentaciones lo siguiente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eguntas (durante la presentación o al final?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sumen ejecutivo y copias para los profes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cretario ejecutivo que toma nota de los aportes de c/u (profesores y compañer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valuación por alumnos y por profesores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las intervenciones de los alumnos son evaluadas por los profesores para ver su participac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uidar la ortografía y lenguaj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uente de los datos/cuad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idades de medi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undamentación y datos respaldantes (Encuesta, entrevista, focus group y otr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36776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objetivo fundamental del curso es la INTEGRACIÓN de los contenidos y conocimientos entregados en la carrera a través de la generación, diseño y evaluación de negocios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68A y 69B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IN68A 5 UD  -   </a:t>
            </a:r>
            <a:r>
              <a:rPr b="1" lang="es-MX" sz="3000" spc="-1" strike="noStrike">
                <a:solidFill>
                  <a:srgbClr val="000000"/>
                </a:solidFill>
                <a:latin typeface="Verdana"/>
              </a:rPr>
              <a:t>IN69B 15 U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os profesores del curso IN68A revisarán modelos de negocios en sus clas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METODOLOGÍA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metodología utilizada en el curso para cumplir el objetivo es la ELABORACIÓN DE UN PLAN DE NEGOC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Preocupación por el proceso de aprendizaje y el camino de avance hacia un plan de negoc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Trabajo en equipos de 3 person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ACTIVIDADES PRINCIPAL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XPOSICIONES DE AVANCE Y PRESENTACIONES FORMALES PERIÓDICA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NTREGAS DE INFORMES (4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CHARLAS DE EJECUTIVOS Y EMPRESARI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DESAFÍOS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Integrar lo aprendido en la carr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Conectarse e involucrarse con la industria y el 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idiar con dificultades y temas desconoci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Trabajar realmente en equi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Reconocer deficiencias y lidiar con ell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Desarrollar su autonomía y crite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Rol de los Profesor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Apoyo y acompañamiento al 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desarrollo de los planes de negoc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curso lo hacen los alumn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Orientar y hacer preguntas que abran la reflexión. No dicen lo que los grupos y alumnos tienen que hac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tres profesores no necesariamente comparten las opiniones, observaciones o evaluaciones. Incluso pueden estar en desacuer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Verdana"/>
              </a:rPr>
              <a:t>Horario Comú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1840" y="1904760"/>
            <a:ext cx="8713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Se informará de un módulo semanal en el cuál se podrá citar a todas las secciones. Este horario es parte del cur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n este módulo se reunirán con todas las secciones, presentaciones de temas específicos y/o se harán charlas de ejecutivos, emprendedores y/o empresari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días que no se tenga actividad programada deberá ser usado para reuniones formales internas de los equipos de trabaj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Fuentes de Proyec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Una Empresa donde se haya detectado claramente una oportunidad de generar valo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Iniciativas de emprendimiento gestadas por los propios alumn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Proyectos empresariales de amigos, exalumnos, incubados en el DII, parientes o conocidos que requieran del desarrollo de un plan de negoci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Tamaño vs. Desafí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69B - OTOÑ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20:58:03Z</dcterms:created>
  <dc:creator>UNIVERSIDAD DE CHILE</dc:creator>
  <dc:description/>
  <dc:language>en-US</dc:language>
  <cp:lastModifiedBy>Antonio</cp:lastModifiedBy>
  <dcterms:modified xsi:type="dcterms:W3CDTF">2009-07-29T16:22:49Z</dcterms:modified>
  <cp:revision>8</cp:revision>
  <dc:subject/>
  <dc:title>IN69B - TALLER DE DISEÑO Y EVALUACIÓN DE NEGOCIOS</dc:title>
</cp:coreProperties>
</file>