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ED9F7-A53B-48B4-AE22-5DB6505B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37273-C718-4921-82B6-2FA7BA7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B4B86-DC94-4438-AAD2-61F6735A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E058B-677C-40B3-B87E-C82BEF8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549F-EC52-4D44-AE39-BBACC6ED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886E-9B4F-43C3-920D-96185BAC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79DF5-6DC8-42F0-9934-42AB0BB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5805-DDCC-4B3D-B149-4DD65BF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4E7D-1D78-427F-9024-BAE51D1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33493-BA99-4D33-843F-6ADB8894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AC5A9-1F29-4E28-9468-6FF4E34F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C032-F334-47E3-89FB-31177E2D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97860E3A-6B2A-4F02-BD88-33DBF8C790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AD03-BFA5-40E2-B02B-EB3DCE6219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Cuidar en las presentaciones lo siguient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idar la 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9-07-29T16:22:49Z</dcterms:modified>
  <cp:revision>8</cp:revision>
  <dc:subject/>
  <dc:title>IN69B - TALLER DE DISEÑO Y EVALUACIÓN DE NEGOCIOS</dc:title>
</cp:coreProperties>
</file>