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213D2E-00F6-4F80-AA95-44D9CE387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A0FCC5-A5BA-40FC-AF08-D5C40523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CF031B-7B84-404E-B814-DC5F2351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7AB302-26C6-486B-8006-A5227D09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BDAD01-D060-4646-A2CB-BCC0748F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74EE12-0E33-494E-86C8-6E51F933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0EA6B3-3FFF-4335-B4D6-CBF52E13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69B1B1-33FC-45A6-AFB2-ED4F55B5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897F35-2C65-42CA-B6CF-B0E514D1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EAC39-37C4-4960-8ED7-276C009D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9B4313-DEE4-4A15-9F19-209E3EA24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BB7A20-92F0-4A2F-8462-865F38FB8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 Primavera 2008           8-</a:t>
            </a:r>
            <a:fld id="{AE8E3244-F406-44B1-9E33-B1E9298D29D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419640" y="115920"/>
            <a:ext cx="247320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D375-5380-48EA-BF1F-FF030ABEAB4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4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2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9400" y="426600"/>
            <a:ext cx="76788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IN69B - </a:t>
            </a: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TALLER DE DISEÑO Y EVALUACIÓN DE NEGOCIO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895480" y="2860560"/>
            <a:ext cx="556272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SEMESTRE Primaver 200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62120" y="4648320"/>
            <a:ext cx="16761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Fuentes de Produc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iebre (Necesida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ien o servic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uente en medios de Comunicación (ej. Diari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tretenimiento (oci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es (ej. Compañeros-Socializa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erias y vi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ondos de Fomento (Corfo, Inno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mbio de Paradigma (¿Qué no se puede hacer hoy pero si se hiciera cambiaría el mundo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gregar valor (+valor, -costo, aumento del valor de la empres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novación (tecnología, procesos de negocio, modelos de negocios, etc,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Características del negoc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Mérito innovativo del produc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Tamaño del negocio (p*q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Potencial de crecimi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Dificultad vs. Desafí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Fuentes de inform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VALUACIÓN</a:t>
            </a: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INFORME FINAL : 60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PARTICIPACIÓN: 30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XAMEN: 10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n este curso se reprueb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GRANDES REGL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534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0000"/>
                </a:solidFill>
                <a:latin typeface="Verdana"/>
              </a:rPr>
              <a:t>Con respecto a los alumnos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Puntualidad: 0-5 min:presente; + 5 min: ausen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Asistencia controlada por módulo en cualquier mom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Presentación formal (para las presentacion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Rigurosidad: Ortografía, lenguaje y actitu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Ética:cumplir acuerdo ético del DI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Verdana"/>
              </a:rPr>
              <a:t>Con respecto a los profesores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Puntu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Ausencias comunicad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Terminar segundo bloque a la hor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Verdana"/>
              </a:rPr>
              <a:t>Respecto mutuo universal (relación alumno-alumno y alumno-profesor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NOTA PARTICIP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76"/>
              </a:spcBef>
              <a:spcAft>
                <a:spcPts val="238"/>
              </a:spcAft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Participación en clas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76"/>
              </a:spcBef>
              <a:spcAft>
                <a:spcPts val="238"/>
              </a:spcAft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Cumplimiento de reglas (asistencia, identificación, puntualidad, no excederse en los tiempos, etc.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76"/>
              </a:spcBef>
              <a:spcAft>
                <a:spcPts val="238"/>
              </a:spcAft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Aportes que hacen a los proyectos de sus compañeros en clas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76"/>
              </a:spcBef>
              <a:spcAft>
                <a:spcPts val="238"/>
              </a:spcAft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Progreso (desde una situación de evaluación a otra mejor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76"/>
              </a:spcBef>
              <a:spcAft>
                <a:spcPts val="238"/>
              </a:spcAft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Liderazgo y trabajo en equipo (dentro de su equipo y en el curso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76"/>
              </a:spcBef>
              <a:spcAft>
                <a:spcPts val="238"/>
              </a:spcAft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Comportamiento adecuado a un clima de negocios durante el desarrollo del curso (ética, manera de dirigirse a compañeros y profesores, capacidad de disentir, agregar valor con ideas innovadoras, etc.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76"/>
              </a:spcBef>
              <a:spcAft>
                <a:spcPts val="238"/>
              </a:spcAft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Actitud general en el curs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990720" y="644220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Verdana"/>
              </a:rPr>
              <a:t>Cuidar en las presentaciones lo siguiente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reguntas (durante la presentación o al final?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sumen ejecutivo y copias para los profes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cretario ejecutivo que toma nota de los aportes de c/u (profesores y compañer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valuación por alumnos y por profesores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las intervenciones de los alumnos son evaluadas por los profesores para ver su participació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uidar la ortografía y lenguaj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Fuente de los datos/cuadr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idades de medi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Fundamentación y datos respaldantes (Encuesta, entrevista, focus group y otr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OBJETIV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36776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El objetivo fundamental del curso es la INTEGRACIÓN de los contenidos y conocimientos entregados en la carrera a través de la generación, diseño y evaluación de negocios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68A y 69B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7724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IN68A 5 UD  -   </a:t>
            </a:r>
            <a:r>
              <a:rPr b="1" lang="es-MX" sz="3000" spc="-1" strike="noStrike">
                <a:solidFill>
                  <a:srgbClr val="000000"/>
                </a:solidFill>
                <a:latin typeface="Verdana"/>
              </a:rPr>
              <a:t>IN69B 15 U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os profesores del curso IN68A revisarán modelos de negocios en sus clas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METODOLOGÍA</a:t>
            </a: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metodología utilizada en el curso para cumplir el objetivo es la ELABORACIÓN DE UN PLAN DE NEGOCI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Preocupación por el proceso de aprendizaje y el camino de avance hacia un plan de negoci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Trabajo en equipos de 3 persona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ACTIVIDADES PRINCIPAL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XPOSICIONES DE AVANCE Y PRESENTACIONES FORMALES PERIÓDICA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NTREGAS DE INFORMES (4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CHARLAS DE EJECUTIVOS Y EMPRESARI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DESAFÍOS</a:t>
            </a: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Integrar lo aprendido en la carre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onectarse e involucrarse con la industria y el 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idiar con dificultades y temas desconocid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Trabajar realmente en equip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Reconocer deficiencias y lidiar con ell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Desarrollar su autonomía y criter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Rol de los Profesor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Apoyo y acompañamiento al 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desarrollo de los planes de negoci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l curso lo hacen los alumn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Orientar y hacer preguntas que abran la reflexión. No dicen lo que los grupos y alumnos tienen que hac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tres profesores no necesariamente comparten las opiniones, observaciones o evaluaciones. Incluso pueden estar en desacuerd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Verdana"/>
              </a:rPr>
              <a:t>Horario Comú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1840" y="1904760"/>
            <a:ext cx="87138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Se informará de un módulo semanal en el cuál se podrá citar a todas las secciones. Este horario es parte del curs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n este módulo se reunirán con todas las secciones, presentaciones de temas específicos y/o se harán charlas de ejecutivos, emprendedores y/o empresari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días que no se tenga actividad programada deberá ser usado para reuniones formales internas de los equipos de trabaj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Fuentes de Proyec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7724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Una Empresa donde se haya detectado claramente una oportunidad de generar valo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Iniciativas de emprendimiento gestadas por los propios alumn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Proyectos empresariales de amigos, exalumnos, incubados en el DII, parientes o conocidos que requieran del desarrollo de un plan de negoci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Tamaño vs. Desafí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8T20:58:03Z</dcterms:created>
  <dc:creator>UNIVERSIDAD DE CHILE</dc:creator>
  <dc:description/>
  <dc:language>en-US</dc:language>
  <cp:lastModifiedBy>Antonio</cp:lastModifiedBy>
  <dcterms:modified xsi:type="dcterms:W3CDTF">2009-07-29T16:22:49Z</dcterms:modified>
  <cp:revision>8</cp:revision>
  <dc:subject/>
  <dc:title>IN69B - TALLER DE DISEÑO Y EVALUACIÓN DE NEGOCIOS</dc:title>
</cp:coreProperties>
</file>