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8E34C-3109-4EF9-8A83-41855E03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A0404-4225-4461-90DE-4EFFC12A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D1F44-0A53-4BE2-A363-044FCC16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BB09B-C150-4C3A-8DEC-19FC8E58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C9AB5-6056-4B50-AA35-701CFB56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3156B-D980-4111-8548-B4DC0F39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B9532-65C3-4ABB-A368-B3C3A761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5DD25-7446-4C7B-A34F-6ECBF16D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C6CDA-1034-4DB5-8091-2AF76DE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CF6E5-B220-4055-9F98-C6734EE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98454-E1C2-421C-BA6C-3DD4B2BD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23081-3E93-4E53-AFE9-8E7B8177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 Primavera 2008           8-</a:t>
            </a:r>
            <a:fld id="{8EE3BEEF-45B1-4698-853D-6AD6DA0BAD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19640" y="115920"/>
            <a:ext cx="24732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2F57-9744-4F44-A384-6504991888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426600"/>
            <a:ext cx="76788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IN69B - 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TALLER DE DISEÑO Y EVALUACIÓN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480" y="2860560"/>
            <a:ext cx="55627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EMESTRE Primaver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uentes de Produ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bre (Necesi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 o serv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nte en medios de Comunicación (ej. Diari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ndos de Fomento (Corfo, Inn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regar valor (+valor, -costo, aumento del valor de la empr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 (tecnología, procesos de negocio, modelos de negocios, etc,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aracterísticas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Mérito innovativo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tencial de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ificultad vs. Desafí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uentes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FORME FINAL : 6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PARTICIPACIÓN: 3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AMEN: 1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 este curso se reprueb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GRANDES REGL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on respecto a los alumno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: 0-5 min:presente; + 5 min: aus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sistencia controlada por módulo en cualquier m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esentación formal (para las presentacio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Rigurosidad: Ortografía, lenguaje y ac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Ética:cumplir acuerdo ético del D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Con respecto a los profesor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usencias comunic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erminar segundo bloque a la 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Respecto mutuo universal (relación alumno-alumno y alumno-profes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OTA PARTICIP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icipación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umplimiento de reglas (asistencia, identificación, puntualidad, no excederse en los tiempo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portes que hacen a los proyectos de sus compañeros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eso (desde una situación de evaluación a otra mej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Liderazgo y trabajo en equipo (dentro de su equipo y en el curso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ortamiento adecuado a un clima de negocios durante el desarrollo del curso (ética, manera de dirigirse a compañeros y profesores, capacidad de disentir, agregar valor con ideas innovadora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ctitud general en el cur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990720" y="644220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Cuidar en las presentaciones lo siguiente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eguntas (durante la presentación o al final?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men ejecutivo y copias para los profe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cretario ejecutivo que toma nota de los aportes de c/u (profesores y compañe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ción por alumnos y por profesores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as intervenciones de los alumnos son evaluadas por los profesores para ver su particip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idar la ortografía y lengu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ente de los datos/cuad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es de medi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ndamentación y datos respaldantes (Encuesta, entrevista, focus group y ot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36776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bjetivo fundamental del curso es la INTEGRACIÓN de los contenidos y conocimientos entregados en la carrera a través de la generación, diseño y evaluación de negoci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68A y 69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68A 5 UD  -   </a:t>
            </a:r>
            <a:r>
              <a:rPr b="1" lang="es-MX" sz="3000" spc="-1" strike="noStrike">
                <a:solidFill>
                  <a:srgbClr val="000000"/>
                </a:solidFill>
                <a:latin typeface="Verdana"/>
              </a:rPr>
              <a:t>IN69B 15 U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os profesores del curso IN68A revisarán modelos de negocios en sus clas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metodología utilizada en el curso para cumplir el objetivo es la ELABORACIÓN DE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Preocupación por el proceso de aprendizaje y el camino de avance hacia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rabajo en equipos de 3 person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CTIVIDADES PRINCIP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POSICIONES DE AVANCE Y PRESENTACIONES FORMALES PERIÓDIC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TREGAS DE INFORMES (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HARLAS DE EJECUTIVOS Y EMPRES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ESAFÍOS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Integrar lo aprendido en la carr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ectarse e involucrarse con la industria y 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idiar con dificultades y temas desconoci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r realmente en equi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conocer deficiencias y lidiar con ell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ar su autonomía y crite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Rol de los Profes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Apoyo y acompañamiento al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o de los plane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urso lo hacen los alumn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rientar y hacer preguntas que abran la reflexión. No dicen lo que los grupos y alumnos tienen que hac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tres profesores no necesariamente comparten las opiniones, observaciones o evaluaciones. Incluso pueden estar en desacuer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Horario Comú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1840" y="190476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e informará de un módulo semanal en el cuál se podrá citar a todas las secciones. Este horario es parte del cur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ste módulo se reunirán con todas las secciones, presentaciones de temas específicos y/o se harán charlas de ejecutivos, emprendedores y/o empresar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días que no se tenga actividad programada deberá ser usado para reuniones formales internas de los equipos de trabaj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Fuentes de Proye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a Empresa donde se haya detectado claramente una oportunidad de generar va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iciativas de emprendimiento gestadas por los propios alumn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royectos empresariales de amigos, exalumnos, incubados en el DII, parientes o conocidos que requieran del desarrollo de un plan de nego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amaño vs. Desafí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20:58:03Z</dcterms:created>
  <dc:creator>UNIVERSIDAD DE CHILE</dc:creator>
  <dc:description/>
  <dc:language>en-US</dc:language>
  <cp:lastModifiedBy>Antonio</cp:lastModifiedBy>
  <dcterms:modified xsi:type="dcterms:W3CDTF">2009-07-29T16:22:49Z</dcterms:modified>
  <cp:revision>8</cp:revision>
  <dc:subject/>
  <dc:title>IN69B - TALLER DE DISEÑO Y EVALUACIÓN DE NEGOCIOS</dc:title>
</cp:coreProperties>
</file>