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01850-EFF3-4C79-88DD-5709B73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2958-0D44-4471-A6E6-EA081F8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B663-2C01-4F40-A4D5-1094E04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C09A3-68D1-41BE-A7D7-5572A85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6E5D3-60D3-418F-AF38-F4A9ED10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661D8-C2C9-4209-B1FD-9462FB80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A65C-A21F-444E-A643-96719E7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E2DA2-25DC-429D-BFC5-A6A0A63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56D42-17A9-4359-BD61-80A5621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1DC79-9BB4-49EB-A882-4AC05E27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AEE6D-DE34-4B8F-9A7C-390120DF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492F3-0A0D-4535-8C2C-D647A872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B693-4CBE-45B5-8438-8C12E669725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 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prim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(directo (paga) indirecto (recibe benefi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egundo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terc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o que ya haya sido presentado y que no sea aporte del 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avance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de su trabaj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mostrar información que ya haya mostrado antes, pero que no incluyó en la presentación actu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9-04-08T02:28:08Z</dcterms:modified>
  <cp:revision>15</cp:revision>
  <dc:subject/>
  <dc:title>Sin título de diapositiva</dc:title>
</cp:coreProperties>
</file>