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8FBC-7627-4AA5-9F2F-ACFF997D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05E22-0887-4E56-9ABC-0A76AAC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F40B4-29CF-4DEB-9FE7-A9F9F3C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040B8-3B16-461D-A541-D5324CD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10D8B-A8A1-4726-B1B0-5B3E0910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87302-4287-4862-B9FC-39712F3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B7AF9-896E-41AA-9FFD-17964BE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150F6-7FF2-47D9-A269-8B857BC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C6D11-CE08-465F-8664-5062167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552BB-BD03-4875-A16B-14F347FA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2744-BB10-43EE-87AF-80D25349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8928B-42F1-4894-A5F8-754E6E38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4DD3-A705-46AA-85FB-530683387F9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 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prim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(directo (paga) indirecto (recibe benefi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egundo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terc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o que ya haya sido presentado y que no sea aporte del 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avance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de su trabaj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mostrar información que ya haya mostrado antes, pero que no incluyó en la presentación actu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9-04-08T02:28:08Z</dcterms:modified>
  <cp:revision>15</cp:revision>
  <dc:subject/>
  <dc:title>Sin título de diapositiva</dc:title>
</cp:coreProperties>
</file>